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42.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wmf" ContentType="image/x-wmf"/>
  <Override PartName="/ppt/media/image45.jpeg" ContentType="image/jpeg"/>
  <Override PartName="/ppt/media/image14.wmf" ContentType="image/x-wmf"/>
  <Override PartName="/ppt/media/image4.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12.wmf" ContentType="image/x-wmf"/>
  <Override PartName="/ppt/media/image31.wmf" ContentType="image/x-wmf"/>
  <Override PartName="/ppt/media/image47.jpeg" ContentType="image/jpeg"/>
  <Override PartName="/ppt/media/image6.wmf" ContentType="image/x-wmf"/>
  <Override PartName="/ppt/media/image29.wmf" ContentType="image/x-wmf"/>
  <Override PartName="/ppt/media/image34.png" ContentType="image/png"/>
  <Override PartName="/ppt/media/image44.jpeg" ContentType="image/jpeg"/>
  <Override PartName="/ppt/media/image36.png" ContentType="image/png"/>
  <Override PartName="/ppt/media/image27.png" ContentType="image/png"/>
  <Override PartName="/ppt/media/image33.jpeg" ContentType="image/jpeg"/>
  <Override PartName="/ppt/media/image30.wmf" ContentType="image/x-wmf"/>
  <Override PartName="/ppt/media/image28.wmf" ContentType="image/x-wmf"/>
  <Override PartName="/ppt/media/image37.wmf" ContentType="image/x-wmf"/>
  <Override PartName="/ppt/media/image38.png" ContentType="image/png"/>
  <Override PartName="/ppt/media/image39.jpeg" ContentType="image/jpeg"/>
  <Override PartName="/ppt/media/image41.wmf" ContentType="image/x-wmf"/>
  <Override PartName="/ppt/media/image43.png" ContentType="image/png"/>
  <Override PartName="/ppt/media/image3.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40.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5.wmf" ContentType="image/x-wmf"/>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8994-76E8-444C-94D1-2A0BC5EE2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A1F06-0B4F-4811-B500-749BD473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A964D-B358-4D07-89D7-927A2B8B4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88554-2E18-4D75-B2DB-336C3734A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EDE69-C8CE-4B05-B65F-819E3D5E1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A48A9-2350-4AF7-92F7-618EFEDF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2458D-B21E-47A9-A23C-B3D143132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68601-8F1B-4249-B921-C2870911B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9485E-307B-49DC-94CA-39887A4FC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3E227-F17B-44D5-AEBA-F65C59BBF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EE12-0EEF-4F0C-B622-7A1EC8A9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A9DC-7127-4F5A-B175-363C425BF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EBE0-2615-46C1-92B4-D156171098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dacción, lectura de artículos científicos y bibliometría</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5053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é Luis Arias</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dad de Chil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ene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uellas personas que han hecho una contribución directa y sustancial al trabajo. Esto implica presentación de la idea original, recopilación de antecedentes, planteamiento de hipótesis, prosecución de los experimentos y observaciones, obtención física de resultados, discusión de éstos, elaboración e ilustración del artículo.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quiera de estos elementos por separado no da crédito para ser considerado autor, aunque puede ser agradec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den de los autor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autores con apellidos entre P y Z evitan publicar en revistas que usa orden alfabét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uánd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estima que los resultados son suficientes para comprobar o refutar una hipótesis (Trabajo cient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tal que merece ser acumulado de una manera coherente (Trabajo de revis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que merece ser acumulado de una manera didáctica (Trabajo doc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requiere traducir un conocimiento especializado a un lenguaje menos especializado (Trabajo de extensión o divulg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ónd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Primarias: Trabajos experimentales o revisiones o tex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Secundarias: Sistemas de recuperación de la información prim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cidir dónde implica evaluar el valor de nuestro trabajo, esto es dónde tendrá mayor probabilidad de ser leído, evaluado, usado y citado positiv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o de los posibles criterios es elegir alguna de las revistas que aparecen más frecuentemente </a:t>
            </a:r>
            <a:r>
              <a:rPr b="0" lang="es-ES" sz="2400" spc="-1" strike="noStrike" u="sng">
                <a:solidFill>
                  <a:srgbClr val="000000"/>
                </a:solidFill>
                <a:uFillTx/>
                <a:latin typeface="Times New Roman"/>
              </a:rPr>
              <a:t>citadas </a:t>
            </a:r>
            <a:r>
              <a:rPr b="0" lang="es-ES" sz="2400" spc="-1" strike="noStrike">
                <a:solidFill>
                  <a:srgbClr val="000000"/>
                </a:solidFill>
                <a:latin typeface="Times New Roman"/>
              </a:rPr>
              <a:t>en el trabajo que envío a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º total de revista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0" y="2098800"/>
            <a:ext cx="9144000" cy="387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evaluar la calidad?</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revista: Tiraje, Nº subscripciones, presencia en catálogos (publicaciones secundarias) y bibliotecas, idioma, respaldo institucional, Factor de Impacto, Índice de Inmediatez, Vida media de los artícu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artículo: Índice de Ci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investigad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institución u organ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actor de Impacto (FI)</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I de una revista X se calcula cada año y, por ejemplo para 2005, se calcula dividiendo el número de citas hechas en artículos de todas las revistas publicadas en 2005 de artículos publicados en la revista X durante 2003 y 2004 dividido por el número total de artículos publicados por la revista X en los años 2003 y 2004.</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decir, si hubiera 1000 citas en 2005 de los 100 artículos publicados por la revista X en 2003 y 2004, el FI sería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Inmediatez</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ica el número de veces que, por término medio, son citados los documentos de una revista el mismo año que se publican. Se calcula dividiendo las citas hechas a artículos publicados por la revista X el año 2005 por el número total de artículos publicados en la revista X el mismo a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 indicador de la rapidez con que consume la literatura científica public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da media de los artículos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ing half life: Las citas que hacen los artículos publicados en la revista en un período de años. Mide la vida media o el número de años transcurridos desde la actualidad hacia el pasado que acogen el 50% de número total de las citas hechas por los artículos de la revis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ed half life: Las citas que les hacen a los artículos publicados en esa revista. Mide la vida media o el número de años transcurridos desde la actualidad hacia el pasado que acogen el 50% de número total de las citas que reciben los artículos de una rev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rtículo</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de veces que un artículo ha sido citado hasta el día de ho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índice puede sufrir variaciones o precisiones como por ejemplo dividirlo por el número de años de publi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investigación científica es un conjunto de procedimientos tendientes a dar una explicación.</a:t>
            </a:r>
            <a:br>
              <a:rPr sz="3200"/>
            </a:br>
            <a:r>
              <a:rPr b="0" lang="en-US" sz="3200" spc="-1" strike="noStrike">
                <a:solidFill>
                  <a:srgbClr val="000000"/>
                </a:solidFill>
                <a:latin typeface="Times New Roman"/>
              </a:rPr>
              <a:t>Explicación es la reformulación de un fenómeno de manera tal que sus elementos aparezcan causalmente relacionados en su gén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uto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total de citaciones a todos los artículos publicados por el au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cciones: 1) Dividir el número anterior por los años desde su primera publicación, 2) Dividir por el número total de publicaciones del au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ítulo: Lo más corto posible pero debe contener las palabras claves en las que se hace énf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quí se vende pescado fresco todos los dí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utor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indican raíces de familias o lugares: Wernher von Braun (van), John Dos Passos, George de la Tours, Louis de Broglie, Antonio del Rí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patronímicos (Hijo de..): Fernández, Ladrón de Guevara, MacArthur, O´Brien, Johnson, Johansse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unen dos familias: Albert Saint-Gyorgy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úngaros: Cuando publican en revistas húngaras ponen apellido primero (Horvath Antonio) y lo contrario cunado publican afuer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slandia: Einar Sigurdson (En la guía telefónica se busca por nombre, no apellid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hina: Mao Tse-Tung (Apellido es Mao pero se pone ant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Korea: Hay 200 apellidos pero el 70% de ellos son Kim, Pak, Yi. En Japón T. Suzuki es citado 7.300 veces entre 1965-1978 pero son 25 autores distinto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tugal: Martinho Augusto Soares da Fonseca Jun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paña: José Antonio Fernández González</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SA: John Fitzgerald Kennedy</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to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sulmanes; Nueve diferentes nombres y el orden varía de país en país: </a:t>
            </a:r>
            <a:r>
              <a:rPr b="0" lang="es-ES" sz="2400" spc="-1" strike="noStrike" u="sng">
                <a:solidFill>
                  <a:srgbClr val="000000"/>
                </a:solidFill>
                <a:uFillTx/>
                <a:latin typeface="Times New Roman"/>
              </a:rPr>
              <a:t>Fahr-ad-Din</a:t>
            </a:r>
            <a:r>
              <a:rPr b="0" lang="es-ES" sz="2400" spc="-1" strike="noStrike" baseline="30000">
                <a:solidFill>
                  <a:srgbClr val="000000"/>
                </a:solidFill>
                <a:latin typeface="Times New Roman"/>
              </a:rPr>
              <a:t>1</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bu Abdullah</a:t>
            </a:r>
            <a:r>
              <a:rPr b="0" lang="es-ES" sz="2400" spc="-1" strike="noStrike" u="sng" baseline="30000">
                <a:solidFill>
                  <a:srgbClr val="000000"/>
                </a:solidFill>
                <a:uFillTx/>
                <a:latin typeface="Times New Roman"/>
              </a:rPr>
              <a:t>2</a:t>
            </a:r>
            <a:r>
              <a:rPr b="0" lang="es-ES" sz="2400" spc="-1" strike="noStrike">
                <a:solidFill>
                  <a:srgbClr val="000000"/>
                </a:solidFill>
                <a:latin typeface="Times New Roman"/>
              </a:rPr>
              <a:t> </a:t>
            </a:r>
            <a:r>
              <a:rPr b="0" lang="es-ES" sz="2400" spc="-1" strike="noStrike" u="sng">
                <a:solidFill>
                  <a:srgbClr val="000000"/>
                </a:solidFill>
                <a:uFillTx/>
                <a:latin typeface="Times New Roman"/>
              </a:rPr>
              <a:t>Muhammad</a:t>
            </a:r>
            <a:r>
              <a:rPr b="0" lang="es-ES" sz="2400" spc="-1" strike="noStrike" baseline="30000">
                <a:solidFill>
                  <a:srgbClr val="000000"/>
                </a:solidFill>
                <a:latin typeface="Times New Roman"/>
              </a:rPr>
              <a:t>3</a:t>
            </a:r>
            <a:r>
              <a:rPr b="0" lang="es-ES" sz="2400" spc="-1" strike="noStrike">
                <a:solidFill>
                  <a:srgbClr val="000000"/>
                </a:solidFill>
                <a:latin typeface="Times New Roman"/>
              </a:rPr>
              <a:t> </a:t>
            </a:r>
            <a:r>
              <a:rPr b="0" lang="es-ES" sz="2400" spc="-1" strike="noStrike" u="sng">
                <a:solidFill>
                  <a:srgbClr val="000000"/>
                </a:solidFill>
                <a:uFillTx/>
                <a:latin typeface="Times New Roman"/>
              </a:rPr>
              <a:t>Ibn Umer Ibn al-Hasan</a:t>
            </a:r>
            <a:r>
              <a:rPr b="0" lang="es-ES" sz="2400" spc="-1" strike="noStrike" u="sng" baseline="30000">
                <a:solidFill>
                  <a:srgbClr val="000000"/>
                </a:solidFill>
                <a:uFillTx/>
                <a:latin typeface="Times New Roman"/>
              </a:rPr>
              <a:t>4</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l-Hatib</a:t>
            </a:r>
            <a:r>
              <a:rPr b="0" lang="es-ES" sz="2400" spc="-1" strike="noStrike" baseline="30000">
                <a:solidFill>
                  <a:srgbClr val="000000"/>
                </a:solidFill>
                <a:latin typeface="Times New Roman"/>
              </a:rPr>
              <a:t>5</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r-Razi</a:t>
            </a:r>
            <a:r>
              <a:rPr b="0" lang="es-E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Nombre honor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Nombre que indica descendencia genealógica o triv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Nom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Apellido paterno y del abuel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 Otro nombre que indica descendenc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 País o ciudad de ori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stitución y Dirección postal</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pósi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bicar al(los) au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dex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ítulo</a:t>
            </a:r>
            <a:endParaRPr b="0" lang="en-US" sz="4400" spc="-1" strike="noStrike">
              <a:solidFill>
                <a:srgbClr val="000000"/>
              </a:solidFill>
              <a:latin typeface="Times New Roman"/>
            </a:endParaRPr>
          </a:p>
        </p:txBody>
      </p:sp>
      <p:sp>
        <p:nvSpPr>
          <p:cNvPr id="89" name="PlaceHolder 2"/>
          <p:cNvSpPr>
            <a:spLocks noGrp="1"/>
          </p:cNvSpPr>
          <p:nvPr>
            <p:ph/>
          </p:nvPr>
        </p:nvSpPr>
        <p:spPr>
          <a:xfrm>
            <a:off x="684360" y="1196640"/>
            <a:ext cx="7772400" cy="51116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 creativo. </a:t>
            </a:r>
            <a:r>
              <a:rPr b="0" lang="es-ES" sz="2400" spc="-1" strike="noStrike">
                <a:solidFill>
                  <a:srgbClr val="000000"/>
                </a:solidFill>
                <a:latin typeface="Times New Roman"/>
              </a:rPr>
              <a:t>Juegue con las palabras, llame la atención del lector haciéndolo que quiera leer 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 conciso, descriptivo e informativo. El título debe proveer una clara idea de lo que el artículo se trata.</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actar el título al final de escribir el artículo. </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ar títulos demasiado largos. Debe ser corto pero contener las palabras claves d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usar mayúsculas, son difíciles de leer. Ponga la primera en mayúsculas o la primera de cada palabra principal (sustantivos, adjetivos y verbo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nténgase dentro de 100 caracteres incluidos espacios, puntuaciones, números y letras. No más de 10-15 palabra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e repetir lo que es obvio: Estudio de, etc</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azón para llevar a cabo la investig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arco conceptual de la investigación y los antecedentes bibliográficos existen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se sabe y qué 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pregunta queremos contestar? Hipót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ómo pretendemos abordar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al conclusión del trabajo (opcion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hipótesis deben:</a:t>
            </a:r>
            <a:br>
              <a:rPr sz="3200"/>
            </a:br>
            <a:r>
              <a:rPr b="0" lang="es-ES" sz="2400" spc="-1" strike="noStrike">
                <a:solidFill>
                  <a:srgbClr val="000000"/>
                </a:solidFill>
                <a:latin typeface="Times New Roman"/>
              </a:rPr>
              <a:t>1. Establecer las variables a estudiar, es decir, especificar las variables a estudiar, fijarles límite. </a:t>
            </a:r>
            <a:br>
              <a:rPr sz="2400"/>
            </a:br>
            <a:r>
              <a:rPr b="0" lang="es-ES" sz="2400" spc="-1" strike="noStrike">
                <a:solidFill>
                  <a:srgbClr val="000000"/>
                </a:solidFill>
                <a:latin typeface="Times New Roman"/>
              </a:rPr>
              <a:t>2. Establecer relaciones entre variables, es decir, la hipótesis debe ser especificada de tal manera que sirva de base a inferencias que nos ayuden a decidir si explica o no los fenómenos observados. Las hipótesis deben establecer relaciones cuantitativas entre variables. </a:t>
            </a:r>
            <a:br>
              <a:rPr sz="2400"/>
            </a:br>
            <a:r>
              <a:rPr b="0" lang="es-ES" sz="2400" spc="-1" strike="noStrike">
                <a:solidFill>
                  <a:srgbClr val="000000"/>
                </a:solidFill>
                <a:latin typeface="Times New Roman"/>
              </a:rPr>
              <a:t>3. Mantener la consistencia entre hechos e hipótesis, ya que éstas se cimentan, al menos en parte, sobre hechos ya conocidos. Por tanto, las hipótesis no deben establecer implicaciones contradictorias o inconsistentes con lo ya verificado en forma objetiva.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ipos de hipótesis:</a:t>
            </a:r>
            <a:br>
              <a:rPr sz="2400"/>
            </a:br>
            <a:r>
              <a:rPr b="1" lang="es-ES" sz="2400" spc="-1" strike="noStrike">
                <a:solidFill>
                  <a:srgbClr val="000000"/>
                </a:solidFill>
                <a:latin typeface="Times New Roman"/>
              </a:rPr>
              <a:t>Hipótesis nula.</a:t>
            </a:r>
            <a:r>
              <a:rPr b="0" lang="es-ES" sz="2400" spc="-1" strike="noStrike">
                <a:solidFill>
                  <a:srgbClr val="000000"/>
                </a:solidFill>
                <a:latin typeface="Times New Roman"/>
              </a:rPr>
              <a:t> Para todo tipo de investigación en la que tenemos dos o más grupos, se establecerá una hipótesis nula. </a:t>
            </a:r>
            <a:br>
              <a:rPr sz="2400"/>
            </a:br>
            <a:r>
              <a:rPr b="0" lang="es-ES" sz="2400" spc="-1" strike="noStrike">
                <a:solidFill>
                  <a:srgbClr val="000000"/>
                </a:solidFill>
                <a:latin typeface="Times New Roman"/>
              </a:rPr>
              <a:t>La hipótesis nula es aquella que nos dice que </a:t>
            </a:r>
            <a:r>
              <a:rPr b="0" i="1" lang="es-ES" sz="2400" spc="-1" strike="noStrike">
                <a:solidFill>
                  <a:srgbClr val="000000"/>
                </a:solidFill>
                <a:latin typeface="Times New Roman"/>
              </a:rPr>
              <a:t>no existen diferencias</a:t>
            </a:r>
            <a:r>
              <a:rPr b="0" lang="es-ES" sz="2400" spc="-1" strike="noStrike">
                <a:solidFill>
                  <a:srgbClr val="000000"/>
                </a:solidFill>
                <a:latin typeface="Times New Roman"/>
              </a:rPr>
              <a:t> significativas entre los grupos.</a:t>
            </a:r>
            <a:br>
              <a:rPr sz="2400"/>
            </a:br>
            <a:r>
              <a:rPr b="0" lang="es-ES" sz="2400" spc="-1" strike="noStrike">
                <a:solidFill>
                  <a:srgbClr val="000000"/>
                </a:solidFill>
                <a:latin typeface="Times New Roman"/>
              </a:rPr>
              <a:t>Por ejemplo, supongamos que un investigador cree que si un grupo de jóvenes se somete a un entrenamiento intensivo para las Olimpíadas de Matemática, éstos serán mejores para resolver problemas que aquellos que no recibieron entrenamiento. Para demostrar su hipótesis toma al azar una muestra de jóvenes, y también al azar los distribuye en dos grupos: uno que llamaremos experimental, el cual recibirá entrenamiento, y otro que no recibirá entrenamiento alguno, al que llamaremos control. La hipótesis nula señalará que no hay diferencia en el desempeño de la resolución de problemas entre el grupo de jóvenes que recibió el entrenamiento y el que no lo recibi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598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hipótesis nula es importante por varias razones:</a:t>
            </a:r>
            <a:br>
              <a:rPr sz="2000"/>
            </a:br>
            <a:r>
              <a:rPr b="0" lang="es-ES" sz="2000" spc="-1" strike="noStrike">
                <a:solidFill>
                  <a:srgbClr val="000000"/>
                </a:solidFill>
                <a:latin typeface="Times New Roman"/>
              </a:rPr>
              <a:t>Es una hipótesis que se acepta o se rechaza según el resultado de la investigación. </a:t>
            </a:r>
            <a:br>
              <a:rPr sz="2000"/>
            </a:br>
            <a:r>
              <a:rPr b="0" lang="es-ES" sz="2000" spc="-1" strike="noStrike">
                <a:solidFill>
                  <a:srgbClr val="000000"/>
                </a:solidFill>
                <a:latin typeface="Times New Roman"/>
              </a:rPr>
              <a:t>El hecho de contar con una hipótesis nula ayuda a determinar si existe una diferencia entre los grupos, si esta diferencia es significativa, y si no se debió al azar. </a:t>
            </a:r>
            <a:br>
              <a:rPr sz="2000"/>
            </a:br>
            <a:r>
              <a:rPr b="0" lang="es-ES" sz="2000" spc="-1" strike="noStrike">
                <a:solidFill>
                  <a:srgbClr val="000000"/>
                </a:solidFill>
                <a:latin typeface="Times New Roman"/>
              </a:rPr>
              <a:t>No toda investigación precisa de formular hipótesis nula. Recordemos que la hipótesis nula es aquella por la cual indicamos que la información a obtener es contraria a la hipótesis de trabajo.</a:t>
            </a:r>
            <a:br>
              <a:rPr sz="2000"/>
            </a:br>
            <a:r>
              <a:rPr b="0" lang="es-ES" sz="2000" spc="-1" strike="noStrike">
                <a:solidFill>
                  <a:srgbClr val="000000"/>
                </a:solidFill>
                <a:latin typeface="Times New Roman"/>
              </a:rPr>
              <a:t>Al formular esta hipótesis, se pretende negar la variable independiente. Es decir, se enuncia que la causa determinada como origen del problema fluctúa, por tanto, debe rechazarse como tal.</a:t>
            </a:r>
            <a:br>
              <a:rPr sz="2000"/>
            </a:br>
            <a:r>
              <a:rPr b="0" lang="es-ES" sz="2000" spc="-1" strike="noStrike">
                <a:solidFill>
                  <a:srgbClr val="000000"/>
                </a:solidFill>
                <a:latin typeface="Times New Roman"/>
              </a:rPr>
              <a:t>Otro ejemplo:</a:t>
            </a:r>
            <a:br>
              <a:rPr sz="2000"/>
            </a:br>
            <a:r>
              <a:rPr b="0" lang="es-ES" sz="2000" spc="-1" strike="noStrike">
                <a:solidFill>
                  <a:srgbClr val="000000"/>
                </a:solidFill>
                <a:latin typeface="Times New Roman"/>
              </a:rPr>
              <a:t>Hipótesis: el aprendizaje de los niños se relaciona directamente con su edad.</a:t>
            </a:r>
            <a:br>
              <a:rPr sz="2000"/>
            </a:br>
            <a:r>
              <a:rPr b="0" lang="es-ES" sz="2000" spc="-1" strike="noStrike">
                <a:solidFill>
                  <a:srgbClr val="000000"/>
                </a:solidFill>
                <a:latin typeface="Times New Roman"/>
              </a:rPr>
              <a:t>Hipótesis nula: no existe diferencia significativa entre el aprendizaje en niños de diversas e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y otras explicacione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osóficas: Los principios son anteriores a los hech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sas: Principios revel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á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ló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entíficas: Reproduci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ipótesis conceptual.</a:t>
            </a:r>
            <a:r>
              <a:rPr b="0" lang="es-ES" sz="2800" spc="-1" strike="noStrike">
                <a:solidFill>
                  <a:srgbClr val="000000"/>
                </a:solidFill>
                <a:latin typeface="Times New Roman"/>
              </a:rPr>
              <a:t> Es la hipótesis que se formula como resultado de las explicaciones teóricas aplicables a nuestro problema. Nos ayuda a explicar desde el punto de vista teórico el fenómeno que estamos investigando. </a:t>
            </a:r>
            <a:br>
              <a:rPr sz="2800"/>
            </a:br>
            <a:r>
              <a:rPr b="0" lang="es-ES" sz="2800" spc="-1" strike="noStrike">
                <a:solidFill>
                  <a:srgbClr val="000000"/>
                </a:solidFill>
                <a:latin typeface="Times New Roman"/>
              </a:rPr>
              <a:t>Es la hipótesis orientadora de la investigación, intenta enfocar el problema como base para la búsqueda de datos. No puede abarcar más de lo propuesto en los objetivos de la investigación o estar en desacuerdo con ellos. Podemos enunciarla como una relación causal o determinante proveniente del planteamiento del problema, de donde se desprenden las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de trabajo.</a:t>
            </a:r>
            <a:r>
              <a:rPr b="0" lang="es-ES" sz="3200" spc="-1" strike="noStrike">
                <a:solidFill>
                  <a:srgbClr val="000000"/>
                </a:solidFill>
                <a:latin typeface="Times New Roman"/>
              </a:rPr>
              <a:t> Es aquella que le sirve al investigador como base de su investigación, o sea, trata de dar una explicación tentativa al fenómeno que se está investigando. Ésta es la hipótesis que el investigador tratará de aceptar como resultado de su investigación, rechazando la hipótesis nula. </a:t>
            </a:r>
            <a:br>
              <a:rPr sz="3200"/>
            </a:br>
            <a:r>
              <a:rPr b="0" lang="es-ES" sz="3200" spc="-1" strike="noStrike">
                <a:solidFill>
                  <a:srgbClr val="000000"/>
                </a:solidFill>
                <a:latin typeface="Times New Roman"/>
              </a:rPr>
              <a:t>Se dice que la hipótesis de trabajo es operacional por presentar cuantitativamente (en términos medibles) la hipótesis conceptual o gene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569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alternativa.</a:t>
            </a:r>
            <a:r>
              <a:rPr b="0" lang="es-ES" sz="3200" spc="-1" strike="noStrike">
                <a:solidFill>
                  <a:srgbClr val="000000"/>
                </a:solidFill>
                <a:latin typeface="Times New Roman"/>
              </a:rPr>
              <a:t> Al responder a un problema, es muy conveniente proponer otras hipótesis en que aparezcan variables independientes distintas de las primeras que formulamos. Por tanto, para no perder tiempo en búsquedas inútiles, es necesario hallar diferentes hipótesis alternativas como respuesta a un mismo problema y elegir entre ellas cuáles y en qué orden vamos a tratar su comprobación</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Times New Roman"/>
              </a:rPr>
              <a:t>Estructura de las hipótesis:</a:t>
            </a:r>
            <a:br>
              <a:rPr sz="3600"/>
            </a:br>
            <a:r>
              <a:rPr b="0" lang="es-ES" sz="3600" spc="-1" strike="noStrike">
                <a:solidFill>
                  <a:srgbClr val="000000"/>
                </a:solidFill>
                <a:latin typeface="Times New Roman"/>
              </a:rPr>
              <a:t>Una hipótesis generalmente se especifica por la estructura SI - ENTONCES (cuando intervienen dos variables). Cuando las variables son más de dos, las estructuras más frecuentes son: </a:t>
            </a:r>
            <a:br>
              <a:rPr sz="3600"/>
            </a:br>
            <a:r>
              <a:rPr b="0" lang="es-ES" sz="3600" spc="-1" strike="noStrike">
                <a:solidFill>
                  <a:srgbClr val="000000"/>
                </a:solidFill>
                <a:latin typeface="Times New Roman"/>
              </a:rPr>
              <a:t>·         Si P, entonces Q, bajo las condiciones R y S. </a:t>
            </a:r>
            <a:br>
              <a:rPr sz="3600"/>
            </a:br>
            <a:r>
              <a:rPr b="0" lang="es-ES" sz="3600" spc="-1" strike="noStrike">
                <a:solidFill>
                  <a:srgbClr val="000000"/>
                </a:solidFill>
                <a:latin typeface="Times New Roman"/>
              </a:rPr>
              <a:t>·         Si P1, P2 y P3, entonces Q.</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LTADO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ctr">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Times New Roman"/>
              </a:rPr>
              <a:t>Ausencia de evidencia no es evidencia de ausencia</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entrífuga</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2349000"/>
            <a:ext cx="6400800" cy="1079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 = (rpm)</a:t>
            </a:r>
            <a:r>
              <a:rPr b="0" lang="es-ES" sz="4400" spc="-1" strike="noStrike" baseline="30000">
                <a:solidFill>
                  <a:srgbClr val="000000"/>
                </a:solidFill>
                <a:latin typeface="Times New Roman"/>
              </a:rPr>
              <a:t>2</a:t>
            </a:r>
            <a:r>
              <a:rPr b="0" lang="es-ES" sz="4400" spc="-1" strike="noStrike">
                <a:solidFill>
                  <a:srgbClr val="000000"/>
                </a:solidFill>
                <a:latin typeface="Times New Roman"/>
              </a:rPr>
              <a:t> </a:t>
            </a:r>
            <a:r>
              <a:rPr b="0" lang="es-ES" sz="4400" spc="-1" strike="noStrike">
                <a:solidFill>
                  <a:srgbClr val="000000"/>
                </a:solidFill>
                <a:latin typeface="Times New Roman"/>
                <a:ea typeface="Times New Roman"/>
              </a:rPr>
              <a:t>• r / 9  • 10</a:t>
            </a:r>
            <a:r>
              <a:rPr b="0" lang="es-ES" sz="4400" spc="-1" strike="noStrike" baseline="30000">
                <a:solidFill>
                  <a:srgbClr val="000000"/>
                </a:solidFill>
                <a:latin typeface="Times New Roman"/>
                <a:ea typeface="Times New Roman"/>
              </a:rPr>
              <a:t>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476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S</a:t>
            </a:r>
            <a:br>
              <a:rPr sz="4400"/>
            </a:br>
            <a:r>
              <a:rPr b="0" lang="es-ES" sz="4400" spc="-1" strike="noStrike">
                <a:solidFill>
                  <a:srgbClr val="000000"/>
                </a:solidFill>
                <a:latin typeface="Times New Roman"/>
              </a:rPr>
              <a:t>GRÁFICOS</a:t>
            </a:r>
            <a:br>
              <a:rPr sz="4400"/>
            </a:br>
            <a:r>
              <a:rPr b="0" lang="es-ES" sz="4400" spc="-1" strike="noStrike">
                <a:solidFill>
                  <a:srgbClr val="000000"/>
                </a:solidFill>
                <a:latin typeface="Times New Roman"/>
              </a:rPr>
              <a:t>DIAGRAMA DE FASES</a:t>
            </a:r>
            <a:br>
              <a:rPr sz="4400"/>
            </a:br>
            <a:r>
              <a:rPr b="0" lang="es-ES" sz="4400" spc="-1" strike="noStrike">
                <a:solidFill>
                  <a:srgbClr val="000000"/>
                </a:solidFill>
                <a:latin typeface="Times New Roman"/>
              </a:rPr>
              <a:t>(MICRO)FOTOGRAFÍAS</a:t>
            </a:r>
            <a:br>
              <a:rPr sz="4400"/>
            </a:br>
            <a:r>
              <a:rPr b="0" lang="es-ES" sz="4400" spc="-1" strike="noStrike">
                <a:solidFill>
                  <a:srgbClr val="000000"/>
                </a:solidFill>
                <a:latin typeface="Times New Roman"/>
              </a:rPr>
              <a:t>DIBUJOS</a:t>
            </a:r>
            <a:br>
              <a:rPr sz="4400"/>
            </a:br>
            <a:r>
              <a:rPr b="0" lang="es-ES" sz="4400" spc="-1" strike="noStrike">
                <a:solidFill>
                  <a:srgbClr val="000000"/>
                </a:solidFill>
                <a:latin typeface="Times New Roman"/>
              </a:rPr>
              <a:t>DIAGRAMAS o ESQUEM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79280" y="695160"/>
            <a:ext cx="8964720" cy="5578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468360"/>
            <a:ext cx="8713800" cy="59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étodo Científ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bserv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copilación de antecedent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hipótesi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ometer a prueba la hipótesis: experiment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ía o L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785880"/>
            <a:ext cx="9144000" cy="528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46200"/>
            <a:ext cx="9144000" cy="556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9280" y="555480"/>
            <a:ext cx="8785440" cy="5745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00160"/>
            <a:ext cx="9144000" cy="645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961920"/>
            <a:ext cx="9144000" cy="49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488880"/>
            <a:ext cx="9144000" cy="588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47720"/>
            <a:ext cx="9144000" cy="53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811080"/>
            <a:ext cx="9144000" cy="523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variable dependiente es aquella cuyo valor depende de otras variables que están contenidas en el modelo que estamos estudiando.</a:t>
            </a:r>
            <a:br>
              <a:rPr sz="3600"/>
            </a:br>
            <a:r>
              <a:rPr b="0" lang="es-ES" sz="3600" spc="-1" strike="noStrike">
                <a:solidFill>
                  <a:srgbClr val="000000"/>
                </a:solidFill>
                <a:latin typeface="Times New Roman"/>
              </a:rPr>
              <a:t>Por ejemplo, la carga de infectividad (variable dependiente)  varía según la edad del animal (variable independiente, que es la manipulada por el investiga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247760" y="1060560"/>
            <a:ext cx="6648480" cy="47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hay investigación científica sin public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ié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ienes public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n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ón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se espera de ésta? Valor de ésta (Impa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ente vs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247760" y="1173240"/>
            <a:ext cx="66484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157400" y="1246320"/>
            <a:ext cx="6829200" cy="43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157400" y="1859040"/>
            <a:ext cx="6829200" cy="3138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54000" y="1100160"/>
            <a:ext cx="7234200" cy="4657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7760" y="1420920"/>
            <a:ext cx="7188480" cy="401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89000" y="1066680"/>
            <a:ext cx="6964560" cy="472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24000" y="1257480"/>
            <a:ext cx="6694560" cy="4343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22400" y="1144440"/>
            <a:ext cx="7099200" cy="4567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87400" y="936720"/>
            <a:ext cx="7369200" cy="498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32040" y="885960"/>
            <a:ext cx="7278480" cy="508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 qué?</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116000" y="1916280"/>
            <a:ext cx="6400800" cy="41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ocimiento es una obra colectiva hecha de contribuciones individuales a través del los tiempos. Como empresa progresiva, la comunicación entre científicos es la piedra angular del mecanismo social que sustenta este progres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sh or perish!</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rédito del descubrimiento se otorga a quien publica primero (fecha de recepción del manuscrito), no a quien lo descubrió primero en el silencio de su laboratori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hy Writ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ecaus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f you haven´t written it, you haven´t done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84360" y="1128600"/>
            <a:ext cx="5973840" cy="4600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44720" y="1359000"/>
            <a:ext cx="7053120" cy="4140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11320" y="1044720"/>
            <a:ext cx="6919920" cy="476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314360" y="1560600"/>
            <a:ext cx="6513480" cy="373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32040" y="1611360"/>
            <a:ext cx="5478480" cy="3633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6680" y="830160"/>
            <a:ext cx="5929200" cy="519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70080" y="1104840"/>
            <a:ext cx="6603840" cy="464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224000" y="1263600"/>
            <a:ext cx="6694560" cy="4330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84360" y="1359000"/>
            <a:ext cx="5973840" cy="4140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179360" y="1251000"/>
            <a:ext cx="6783480" cy="435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 qu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icio y validación de los pares a través de la reproducibilidad y de permitir que se extraigan otras 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393920" y="0"/>
            <a:ext cx="63561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1160"/>
            <a:ext cx="9144000" cy="6880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116000" y="60480"/>
            <a:ext cx="6912000" cy="6737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360" y="120600"/>
            <a:ext cx="8207280" cy="6616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826920" y="39600"/>
            <a:ext cx="7490160" cy="6777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95280" y="222120"/>
            <a:ext cx="8280360" cy="6356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03280" y="1546200"/>
            <a:ext cx="6264360" cy="5284800"/>
          </a:xfrm>
          <a:prstGeom prst="rect">
            <a:avLst/>
          </a:prstGeom>
          <a:ln w="0">
            <a:noFill/>
          </a:ln>
        </p:spPr>
      </p:pic>
      <p:sp>
        <p:nvSpPr>
          <p:cNvPr id="14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emperaturas fusión en aleación de tres compon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55640" y="39600"/>
            <a:ext cx="7704000" cy="6843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00000" y="28440"/>
            <a:ext cx="7344000" cy="6801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356000" y="3681360"/>
            <a:ext cx="4359240" cy="3176640"/>
          </a:xfrm>
          <a:prstGeom prst="rect">
            <a:avLst/>
          </a:prstGeom>
          <a:ln w="0">
            <a:noFill/>
          </a:ln>
        </p:spPr>
      </p:pic>
      <p:pic>
        <p:nvPicPr>
          <p:cNvPr id="147" name="" descr=""/>
          <p:cNvPicPr/>
          <p:nvPr/>
        </p:nvPicPr>
        <p:blipFill>
          <a:blip r:embed="rId2"/>
          <a:stretch/>
        </p:blipFill>
        <p:spPr>
          <a:xfrm>
            <a:off x="4716360" y="0"/>
            <a:ext cx="2716200" cy="3645000"/>
          </a:xfrm>
          <a:prstGeom prst="rect">
            <a:avLst/>
          </a:prstGeom>
          <a:ln w="0">
            <a:noFill/>
          </a:ln>
        </p:spPr>
      </p:pic>
      <p:pic>
        <p:nvPicPr>
          <p:cNvPr id="148" name="" descr=""/>
          <p:cNvPicPr/>
          <p:nvPr/>
        </p:nvPicPr>
        <p:blipFill>
          <a:blip r:embed="rId3"/>
          <a:stretch/>
        </p:blipFill>
        <p:spPr>
          <a:xfrm>
            <a:off x="0" y="189000"/>
            <a:ext cx="3879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ara quié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udi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os usuarios (diversos tipos de impac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95280" y="209520"/>
            <a:ext cx="8209080" cy="6327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809640"/>
            <a:ext cx="9144000" cy="5238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umento real en microfotografía</a:t>
            </a: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1371600" y="2133720"/>
            <a:ext cx="6400800" cy="122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X = distancia en foto </a:t>
            </a:r>
            <a:r>
              <a:rPr b="0" lang="es-ES" sz="3200" spc="-1" strike="noStrike">
                <a:solidFill>
                  <a:srgbClr val="000000"/>
                </a:solidFill>
                <a:latin typeface="Times New Roman"/>
                <a:ea typeface="Times New Roman"/>
              </a:rPr>
              <a:t>• aumento  microscopio / distancia en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cador magnitud</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32000" y="2276280"/>
            <a:ext cx="6400800" cy="3097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distancia en foto expresada en cm • aumento microscopio / misma distancia en el negativo expresada en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1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 c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es la sección más difícil de defin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tanto, es también, normalmente la sección más difícil de escrib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ayoría de los artículos son rechazados por los directores de revistas a causa de una discusión deficiente, aunque los datos del documento sean válidos e interesan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ocasiones el sentido de los datos se ve obscurecido por la interpretación hecha en la discusión, lo que se traduce en un rechaz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uchas secciones de discusión por no decir que casi todas resultan demasiado largas y verb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autor duda de sus datos o de su argumentación y se refugia tras una nube de tinta protectora". (Tableau, septiembre de 197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discusión es una relación entre hechos y la explicación: pero para hacer una buena discusión sin RECAPITULAR, depende del entendimiento del redactor sobre HECHOS CIENTÍFICOS Y EXPLICACIÓN CIENTÍFIC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os autores inician la discusión con una cita bibliográfica para respaldar su hipótesis y continuar con otras citas de menor impacto y finalmente explican y comparan sus resultados para dar sus conclus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os autores inicialmente presentan la explicación del comportamiento de sus variables y comparación con otras investigaciones dando el respaldo a su discusión (hipótesis) con una o varias citas en el campo del texto y finalmente establecen sus conclu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de respaldo en unos artículos inician con el autor y en otros o en diferentes párrafos inician con los resultados y al final mencionan al auto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de un artículo científico debe basarse principalmente en la hipótesis CENTRAL del trabajo y ésta debe ser respaldada por citas bibliográficas de trabajos anterior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bibliográficas deben proceder de artículos publicados en Revistas de mayor impacto a la que está publicando el trabajo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no necesariamente deben proceder de artículos originales, pueden ser una revis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ben explicar los resultados basados principalmente en la observación del comportamiento de los tratamientos estudiados con respecto a los parámetros evaluados y comparados con los resultados de otros autor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ntro de la discusión se deben establecer las conclusiones del trabaj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primera parte de la discusión se ubican las citas más antiguas y en la segunda parte las más recient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más antiguas deben respaldar a la hipótesis ya que casi siempre la hipótesis se construye alrededor de otras hipótesi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isten limitaciones. En caso de que no se pueda respaldar con las citas fuertes, entonces se establece la limitació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regular los autores se citan a ellos mismos para respaldar sus propias hipótesis, lo que se considera que no es muy convenient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señalar que la mayoría de los autores respaldan sus hipótesis dentro de la discusión con un 30 a 40% de referencias entre 15 y 25 años anteriores al trabajo que están presentand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sección 2 de la discusión es donde aparecen los hallazgos y se complementan con citas o sea que es la estructura fundamental de la discu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acionar los resultados con la hipótesis del trabaj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paldar los resultados con una revisión de investigaciones previ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explicación posible y/o especulació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mit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lic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 para futuras investigac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icional de Weissberg mencionar algunas excepciones o carencias de correlación y definir puntos desorden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discusión los resultados se discuten, no se recapitul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iempos verbales del artículo</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Resumen.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ntroducción: En present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 &amp; M y resultados: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cusión y conclusiones: En presen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371600" y="2285640"/>
            <a:ext cx="6400800" cy="335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conjunto ordenado de observaciones cuali- o cuantitativas que comprueban o refutan la hipótesis planteada, o cualquier procedimiento, metodología, producto nuevo o modificado inventado en el transcurso de la verificación de la hipótesis (relacionar con pa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ferencias</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Harvard: …es redondo (Pérez,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Vancouver: …es redondo</a:t>
            </a:r>
            <a:r>
              <a:rPr b="0" lang="es-ES" sz="3200" spc="-1" strike="noStrike" baseline="30000">
                <a:solidFill>
                  <a:srgbClr val="000000"/>
                </a:solidFill>
                <a:latin typeface="Times New Roman"/>
              </a:rPr>
              <a:t>20</a:t>
            </a:r>
            <a:r>
              <a:rPr b="0" lang="es-ES" sz="3200" spc="-1" strike="noStrike">
                <a:solidFill>
                  <a:srgbClr val="000000"/>
                </a:solidFill>
                <a:latin typeface="Times New Roman"/>
              </a:rPr>
              <a:t>. o ….es redondo.</a:t>
            </a:r>
            <a:r>
              <a:rPr b="0" lang="es-ES" sz="3200" spc="-1" strike="noStrike" baseline="30000">
                <a:solidFill>
                  <a:srgbClr val="000000"/>
                </a:solidFill>
                <a:latin typeface="Times New Roman"/>
              </a:rPr>
              <a:t>2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baseline="30000">
                <a:solidFill>
                  <a:srgbClr val="000000"/>
                </a:solidFill>
                <a:latin typeface="Times New Roman"/>
              </a:rPr>
              <a:t>Programa Endno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ngo a ese tipo condicionado; cada vez que bajo esta palanca me trae comida…</a:t>
            </a:r>
            <a:endParaRPr b="0" lang="en-US" sz="3600" spc="-1" strike="noStrike">
              <a:solidFill>
                <a:srgbClr val="000000"/>
              </a:solidFill>
              <a:latin typeface="Times New Roman"/>
            </a:endParaRPr>
          </a:p>
        </p:txBody>
      </p:sp>
      <p:pic>
        <p:nvPicPr>
          <p:cNvPr id="170" name="" descr=""/>
          <p:cNvPicPr/>
          <p:nvPr/>
        </p:nvPicPr>
        <p:blipFill>
          <a:blip r:embed="rId1"/>
          <a:stretch/>
        </p:blipFill>
        <p:spPr>
          <a:xfrm>
            <a:off x="1763640" y="1982880"/>
            <a:ext cx="6048360" cy="44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5:03:04Z</dcterms:created>
  <dc:creator>JL Arias</dc:creator>
  <dc:description/>
  <dc:language>en-US</dc:language>
  <cp:lastModifiedBy>Dr JL Arias</cp:lastModifiedBy>
  <dcterms:modified xsi:type="dcterms:W3CDTF">2011-12-29T17:22:24Z</dcterms:modified>
  <cp:revision>38</cp:revision>
  <dc:subject/>
  <dc:title>Redacción, Difusión Científica y Bibliometría</dc:title>
</cp:coreProperties>
</file>