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1CA-2845-45B4-8A53-0A1E13D2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4A4-3F97-4015-BEF7-082FB4B0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627-3D84-4D22-A091-9508AF26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311-C261-4369-97F6-B1325320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E66F-DCE2-4F60-89E1-BA76BBAA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1DB1-EF5F-4D8D-BFFB-B48E818B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1156-8218-4D10-924E-2B392127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E645-9CF4-44B6-8451-F75868B0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8CC3-E15D-40BF-B33A-4B6CE240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6824-E2B4-4D0F-813A-64DC86EB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C338-8DC9-4FF6-B5A3-09CBD05D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7CC-1E9E-472C-927E-BFE7B3C4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725D-BB94-4159-94A2-707D2E42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CE27-1E19-4EE0-BE49-4CEF0FA4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9ADC-FB5F-4463-871C-394D8BBA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C747-3582-4A70-9954-2BD93984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19D6-5288-43CE-B375-3BA9ABE0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E08-531B-4BF8-B1A5-C5225E68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85A-128C-487F-BD8E-BFAB4167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07E-0207-4B64-AF72-6D66FED3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275-4FA9-4A71-8CC6-222A607B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A92-9A6D-44C2-8332-9E7B3586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591-32F9-4AAC-8023-AB98B094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23D-BA82-471F-8928-6F1B74AB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E3DC-DC5F-418D-82F5-ADDC268A45F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778A-DF6A-4800-B6FD-651F9BF053C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CLASE AG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685800" y="60948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 Black"/>
              </a:rPr>
              <a:t>INGESTA DE AGUA DE OVINO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 Black"/>
              </a:rPr>
              <a:t>Y CAPRIN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01680" y="5486400"/>
            <a:ext cx="4280400" cy="11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Arial Narrow"/>
              </a:rPr>
              <a:t>Patricio Pérez M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 Narrow"/>
              </a:rPr>
              <a:t>Departamento de Fomento de la Producción Animal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 Narrow"/>
              </a:rPr>
              <a:t>Facultad de Ciencias Veterinarias y Pecuari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 Narrow"/>
              </a:rPr>
              <a:t>Universidad de Chi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250920" y="476280"/>
          <a:ext cx="880920" cy="16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76280"/>
                    <a:ext cx="88092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456480" y="2008080"/>
            <a:ext cx="432432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. Estado Fisiológic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. Tamaño de la cama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.  Semana de lactanc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4. Temperatura ambie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5. Humedad relativa 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emperatura ambient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6. Materia seca consumi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7. Variación diurna y estacion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820400" y="1828800"/>
            <a:ext cx="432288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8. Contenido de sal en la r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9. Contenido de proteína de la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ie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0. Variación individu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1. Temperatura del agua d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ebid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2. Frecuencia de ingesta d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gu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857680" y="5493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4000" spc="-1" strike="noStrike">
                <a:solidFill>
                  <a:srgbClr val="66ccff"/>
                </a:solidFill>
                <a:latin typeface="Arial Black"/>
              </a:rPr>
              <a:t> </a:t>
            </a:r>
            <a:r>
              <a:rPr b="1" lang="es-ES_tradnl" sz="4000" spc="-1" strike="noStrike">
                <a:solidFill>
                  <a:srgbClr val="66ccff"/>
                </a:solidFill>
                <a:latin typeface="Arial Black"/>
              </a:rPr>
              <a:t>TEMARI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0920" y="990720"/>
            <a:ext cx="8353440" cy="596844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OVINO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ernero en fase de lactanci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6,0-7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ovinos en crecimiento o ceb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cas al final de la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5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OVINOS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inos en crecimiento o engord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ejas  al inicio de la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,0-2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ejas en fin de gestación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1 corde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0-3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2 ó 3 corder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5-4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ejas en lactación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Primer m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4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Meses siguient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3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CAPRINO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bras al inicio de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,0-3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bras en fin de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5-4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bras en lac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3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ccff"/>
                </a:solidFill>
                <a:latin typeface="Arial"/>
              </a:rPr>
              <a:t>CUADRO 1.  VALORES APROXIMADOS DE LAS CANTIDADES DE AGUA TOTAL INGERIDA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9029"/>
                </a:moveTo>
                <a:lnTo>
                  <a:pt x="7301" y="9029"/>
                </a:lnTo>
                <a:lnTo>
                  <a:pt x="7301" y="14365"/>
                </a:lnTo>
                <a:cubicBezTo>
                  <a:pt x="7301" y="15287"/>
                  <a:pt x="8102" y="16018"/>
                  <a:pt x="9138" y="16018"/>
                </a:cubicBezTo>
                <a:lnTo>
                  <a:pt x="10800" y="16018"/>
                </a:lnTo>
                <a:cubicBezTo>
                  <a:pt x="11836" y="16018"/>
                  <a:pt x="12636" y="15287"/>
                  <a:pt x="12636" y="14365"/>
                </a:cubicBezTo>
                <a:lnTo>
                  <a:pt x="12636" y="9029"/>
                </a:lnTo>
                <a:lnTo>
                  <a:pt x="10800" y="9029"/>
                </a:lnTo>
                <a:lnTo>
                  <a:pt x="14308" y="5522"/>
                </a:lnTo>
                <a:lnTo>
                  <a:pt x="17981" y="9029"/>
                </a:lnTo>
                <a:lnTo>
                  <a:pt x="16144" y="9029"/>
                </a:lnTo>
                <a:lnTo>
                  <a:pt x="16144" y="14365"/>
                </a:lnTo>
                <a:cubicBezTo>
                  <a:pt x="16144" y="17132"/>
                  <a:pt x="13568" y="19691"/>
                  <a:pt x="10800" y="19691"/>
                </a:cubicBezTo>
                <a:lnTo>
                  <a:pt x="9138" y="19691"/>
                </a:lnTo>
                <a:cubicBezTo>
                  <a:pt x="6370" y="19691"/>
                  <a:pt x="3794" y="17132"/>
                  <a:pt x="3794" y="14365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516720" y="105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tr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85800" y="53352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ccff"/>
                </a:solidFill>
                <a:latin typeface="Arial"/>
              </a:rPr>
              <a:t>CUADRO  2.  REQUERIMIENTO DE AGUA DE OVEJAS PREÑADAS COMO PORCENTAJE DE LA INGESTA DE UNA OVEJA SEC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6" name="Object 5"/>
          <p:cNvGraphicFramePr/>
          <p:nvPr/>
        </p:nvGraphicFramePr>
        <p:xfrm>
          <a:off x="539640" y="2514600"/>
          <a:ext cx="8502840" cy="321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14600"/>
                    <a:ext cx="850284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AutoShape 6"/>
          <p:cNvSpPr/>
          <p:nvPr/>
        </p:nvSpPr>
        <p:spPr>
          <a:xfrm>
            <a:off x="815328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7493"/>
                </a:moveTo>
                <a:lnTo>
                  <a:pt x="14498" y="7493"/>
                </a:lnTo>
                <a:lnTo>
                  <a:pt x="14498" y="12828"/>
                </a:lnTo>
                <a:cubicBezTo>
                  <a:pt x="14498" y="13751"/>
                  <a:pt x="15299" y="14482"/>
                  <a:pt x="16335" y="14482"/>
                </a:cubicBezTo>
                <a:lnTo>
                  <a:pt x="17997" y="14482"/>
                </a:lnTo>
                <a:cubicBezTo>
                  <a:pt x="19033" y="14482"/>
                  <a:pt x="19834" y="13751"/>
                  <a:pt x="19834" y="12828"/>
                </a:cubicBezTo>
                <a:lnTo>
                  <a:pt x="19834" y="7493"/>
                </a:lnTo>
                <a:lnTo>
                  <a:pt x="17997" y="7493"/>
                </a:lnTo>
                <a:lnTo>
                  <a:pt x="21505" y="3985"/>
                </a:lnTo>
                <a:lnTo>
                  <a:pt x="25178" y="7493"/>
                </a:lnTo>
                <a:lnTo>
                  <a:pt x="23341" y="7493"/>
                </a:lnTo>
                <a:lnTo>
                  <a:pt x="23341" y="12828"/>
                </a:lnTo>
                <a:cubicBezTo>
                  <a:pt x="23341" y="15596"/>
                  <a:pt x="20765" y="18155"/>
                  <a:pt x="17997" y="18155"/>
                </a:cubicBezTo>
                <a:lnTo>
                  <a:pt x="16335" y="18155"/>
                </a:lnTo>
                <a:cubicBezTo>
                  <a:pt x="13567" y="18155"/>
                  <a:pt x="10991" y="15596"/>
                  <a:pt x="10991" y="12828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3"/>
          <p:cNvGraphicFramePr/>
          <p:nvPr/>
        </p:nvGraphicFramePr>
        <p:xfrm>
          <a:off x="1116000" y="1197000"/>
          <a:ext cx="7056360" cy="53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705636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4"/>
          <p:cNvSpPr/>
          <p:nvPr/>
        </p:nvSpPr>
        <p:spPr>
          <a:xfrm>
            <a:off x="762120" y="2602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ccff"/>
                </a:solidFill>
                <a:latin typeface="Arial"/>
              </a:rPr>
              <a:t>CUADRO  3. REQUERIMIENTOS DE AGUA PARA OVIN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8534520" y="6119640"/>
            <a:ext cx="609480" cy="73836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38360"/>
              <a:gd name="textAreaBottom" fmla="*/ 699120 h 738360"/>
            </a:gdLst>
            <a:ahLst/>
            <a:rect l="textAreaLeft" t="textAreaTop" r="textAreaRight" b="textAreaBottom"/>
            <a:pathLst>
              <a:path w="21600" h="26165">
                <a:moveTo>
                  <a:pt x="0" y="0"/>
                </a:moveTo>
                <a:lnTo>
                  <a:pt x="21600" y="0"/>
                </a:lnTo>
                <a:lnTo>
                  <a:pt x="21600" y="26165"/>
                </a:lnTo>
                <a:lnTo>
                  <a:pt x="0" y="26165"/>
                </a:lnTo>
                <a:close/>
              </a:path>
              <a:path fill="lightenLess" w="21600" h="261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65">
                <a:moveTo>
                  <a:pt x="21600" y="0"/>
                </a:moveTo>
                <a:lnTo>
                  <a:pt x="21600" y="26165"/>
                </a:lnTo>
                <a:lnTo>
                  <a:pt x="20200" y="24765"/>
                </a:lnTo>
                <a:lnTo>
                  <a:pt x="20200" y="1400"/>
                </a:lnTo>
                <a:close/>
              </a:path>
              <a:path fill="darkenLess" w="21600" h="26165">
                <a:moveTo>
                  <a:pt x="21600" y="26165"/>
                </a:moveTo>
                <a:lnTo>
                  <a:pt x="0" y="26165"/>
                </a:lnTo>
                <a:lnTo>
                  <a:pt x="1400" y="24765"/>
                </a:lnTo>
                <a:lnTo>
                  <a:pt x="20200" y="24765"/>
                </a:lnTo>
                <a:close/>
              </a:path>
              <a:path fill="lighten" w="21600" h="26165">
                <a:moveTo>
                  <a:pt x="0" y="261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65"/>
                </a:lnTo>
                <a:close/>
              </a:path>
              <a:path fill="darken" w="21600" h="26165">
                <a:moveTo>
                  <a:pt x="3794" y="9775"/>
                </a:moveTo>
                <a:lnTo>
                  <a:pt x="7301" y="9775"/>
                </a:lnTo>
                <a:lnTo>
                  <a:pt x="7301" y="15110"/>
                </a:lnTo>
                <a:cubicBezTo>
                  <a:pt x="7301" y="16033"/>
                  <a:pt x="8102" y="16764"/>
                  <a:pt x="9138" y="16764"/>
                </a:cubicBezTo>
                <a:lnTo>
                  <a:pt x="10800" y="16764"/>
                </a:lnTo>
                <a:cubicBezTo>
                  <a:pt x="11836" y="16764"/>
                  <a:pt x="12636" y="16033"/>
                  <a:pt x="12636" y="15110"/>
                </a:cubicBezTo>
                <a:lnTo>
                  <a:pt x="12636" y="9775"/>
                </a:lnTo>
                <a:lnTo>
                  <a:pt x="10800" y="9775"/>
                </a:lnTo>
                <a:lnTo>
                  <a:pt x="14308" y="6267"/>
                </a:lnTo>
                <a:lnTo>
                  <a:pt x="17981" y="9775"/>
                </a:lnTo>
                <a:lnTo>
                  <a:pt x="16144" y="9775"/>
                </a:lnTo>
                <a:lnTo>
                  <a:pt x="16144" y="15110"/>
                </a:lnTo>
                <a:cubicBezTo>
                  <a:pt x="16144" y="17878"/>
                  <a:pt x="13568" y="20437"/>
                  <a:pt x="10800" y="20437"/>
                </a:cubicBezTo>
                <a:lnTo>
                  <a:pt x="9138" y="20437"/>
                </a:lnTo>
                <a:cubicBezTo>
                  <a:pt x="6370" y="20437"/>
                  <a:pt x="3794" y="17878"/>
                  <a:pt x="3794" y="15110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11280" y="1773360"/>
          <a:ext cx="7921440" cy="4336920"/>
        </p:xfrm>
        <a:graphic>
          <a:graphicData uri="http://schemas.openxmlformats.org/drawingml/2006/table">
            <a:tbl>
              <a:tblPr/>
              <a:tblGrid>
                <a:gridCol w="4824360"/>
                <a:gridCol w="30970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O (L/cabeza/día)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jas secas en pasto verd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jas en ramoneo de arbustos y pasto seco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jas con corderos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rregas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- 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32"/>
          <p:cNvSpPr/>
          <p:nvPr/>
        </p:nvSpPr>
        <p:spPr>
          <a:xfrm>
            <a:off x="755640" y="64008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UENTE: Fundación Chile, 200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34"/>
          <p:cNvSpPr/>
          <p:nvPr/>
        </p:nvSpPr>
        <p:spPr>
          <a:xfrm>
            <a:off x="826920" y="47628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ccff"/>
                </a:solidFill>
                <a:latin typeface="Arial"/>
              </a:rPr>
              <a:t>CUADRO 4.  REQUERIMIENTO DE AGUA DE ACUERDO AL TIPO DE GANA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2209680"/>
            <a:ext cx="85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OTAL AGUA INGERIDA = 3,86 x Kg MS - 0.99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WI/DM = 0.18 x T + 1.2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429000" y="685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dd7e5"/>
                </a:solidFill>
                <a:latin typeface="Arial"/>
              </a:rPr>
              <a:t>CUADRO 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8153280" y="5791320"/>
            <a:ext cx="738360" cy="7617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520 h 761760"/>
              <a:gd name="textAreaBottom" fmla="*/ 713880 h 761760"/>
            </a:gdLst>
            <a:ahLst/>
            <a:rect l="textAreaLeft" t="textAreaTop" r="textAreaRight" b="textAreaBottom"/>
            <a:pathLst>
              <a:path w="21600" h="22284">
                <a:moveTo>
                  <a:pt x="0" y="0"/>
                </a:moveTo>
                <a:lnTo>
                  <a:pt x="21600" y="0"/>
                </a:lnTo>
                <a:lnTo>
                  <a:pt x="21600" y="22284"/>
                </a:lnTo>
                <a:lnTo>
                  <a:pt x="0" y="22284"/>
                </a:lnTo>
                <a:close/>
              </a:path>
              <a:path fill="lightenLess" w="21600" h="222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84">
                <a:moveTo>
                  <a:pt x="21600" y="0"/>
                </a:moveTo>
                <a:lnTo>
                  <a:pt x="21600" y="22284"/>
                </a:lnTo>
                <a:lnTo>
                  <a:pt x="20200" y="20884"/>
                </a:lnTo>
                <a:lnTo>
                  <a:pt x="20200" y="1400"/>
                </a:lnTo>
                <a:close/>
              </a:path>
              <a:path fill="darkenLess" w="21600" h="22284">
                <a:moveTo>
                  <a:pt x="21600" y="22284"/>
                </a:moveTo>
                <a:lnTo>
                  <a:pt x="0" y="22284"/>
                </a:lnTo>
                <a:lnTo>
                  <a:pt x="1400" y="20884"/>
                </a:lnTo>
                <a:lnTo>
                  <a:pt x="20200" y="20884"/>
                </a:lnTo>
                <a:close/>
              </a:path>
              <a:path fill="lighten" w="21600" h="22284">
                <a:moveTo>
                  <a:pt x="0" y="222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84"/>
                </a:lnTo>
                <a:close/>
              </a:path>
              <a:path fill="darken" w="21600" h="22284">
                <a:moveTo>
                  <a:pt x="3794" y="7835"/>
                </a:moveTo>
                <a:lnTo>
                  <a:pt x="7301" y="7835"/>
                </a:lnTo>
                <a:lnTo>
                  <a:pt x="7301" y="13170"/>
                </a:lnTo>
                <a:cubicBezTo>
                  <a:pt x="7301" y="14093"/>
                  <a:pt x="8102" y="14824"/>
                  <a:pt x="9138" y="14824"/>
                </a:cubicBezTo>
                <a:lnTo>
                  <a:pt x="10800" y="14824"/>
                </a:lnTo>
                <a:cubicBezTo>
                  <a:pt x="11836" y="14824"/>
                  <a:pt x="12636" y="14093"/>
                  <a:pt x="12636" y="13170"/>
                </a:cubicBezTo>
                <a:lnTo>
                  <a:pt x="12636" y="7835"/>
                </a:lnTo>
                <a:lnTo>
                  <a:pt x="10800" y="7835"/>
                </a:lnTo>
                <a:lnTo>
                  <a:pt x="14308" y="4327"/>
                </a:lnTo>
                <a:lnTo>
                  <a:pt x="17981" y="7835"/>
                </a:lnTo>
                <a:lnTo>
                  <a:pt x="16144" y="7835"/>
                </a:lnTo>
                <a:lnTo>
                  <a:pt x="16144" y="13170"/>
                </a:lnTo>
                <a:cubicBezTo>
                  <a:pt x="16144" y="15938"/>
                  <a:pt x="13568" y="18497"/>
                  <a:pt x="10800" y="18497"/>
                </a:cubicBezTo>
                <a:lnTo>
                  <a:pt x="9138" y="18497"/>
                </a:lnTo>
                <a:cubicBezTo>
                  <a:pt x="6370" y="18497"/>
                  <a:pt x="3794" y="15938"/>
                  <a:pt x="3794" y="13170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00000" y="2455920"/>
          <a:ext cx="7488360" cy="3421080"/>
        </p:xfrm>
        <a:graphic>
          <a:graphicData uri="http://schemas.openxmlformats.org/drawingml/2006/table">
            <a:tbl>
              <a:tblPr/>
              <a:tblGrid>
                <a:gridCol w="1695600"/>
                <a:gridCol w="890640"/>
                <a:gridCol w="1089000"/>
                <a:gridCol w="933480"/>
                <a:gridCol w="901440"/>
                <a:gridCol w="1119240"/>
                <a:gridCol w="858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Temperatura corral (20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Temperatura corral (30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aracterístic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 º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30 º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4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3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4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PV (kg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0.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1.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1.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0.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0.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1.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MSI (g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515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620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475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096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21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07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MSI (%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89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3.1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8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4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59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26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I ( ml/día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237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822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575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659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849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991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67"/>
          <p:cNvSpPr/>
          <p:nvPr/>
        </p:nvSpPr>
        <p:spPr>
          <a:xfrm>
            <a:off x="468360" y="620640"/>
            <a:ext cx="820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FECTO DE LA TEMPERATURA DEL CORRAL (20 ºC V/S 30 ºC) SOBRE CAMBIO DE PESO, MS INGERIDA, % MSI E INGESTA DE AGUA ENTREGADA A DIFERENTES TEMPERATURAS (20, 30 Y 40 ºC) EN CAPONES DE LA RAZA MERIN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411280" y="981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Arial"/>
              </a:rPr>
              <a:t>BIBLIOGRAFÍ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95280" y="2276640"/>
            <a:ext cx="8209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IA 2007.  MANEJO DEL PASTOREO. 129 pp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UNDACIÓN CHILE, 2005.  Tópicos en Producción Ovina en el Secano Central. 116 pp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RC. 2007.  NUTRIENT REQUIREMENTS OS SMALL RUMINANTS.  362 pp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20:50:14Z</dcterms:created>
  <dc:creator>Norma San Martín</dc:creator>
  <dc:description/>
  <dc:language>en-US</dc:language>
  <cp:lastModifiedBy>WinuE</cp:lastModifiedBy>
  <dcterms:modified xsi:type="dcterms:W3CDTF">2010-06-09T19:26:16Z</dcterms:modified>
  <cp:revision>11</cp:revision>
  <dc:subject/>
  <dc:title>Sin título de diapositiva</dc:title>
</cp:coreProperties>
</file>