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B375-D7CA-416F-A85A-876148740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EF02-32AF-471F-8956-BC418C76D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2FE9-8221-4689-B715-8B5549A30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554B-2D87-43C2-A3B5-9C5CA0FC4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69C23-FA53-495C-9409-0FC47D281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5AAB9-F1FF-40FF-8A48-1305DC818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5A6CD-0627-44BA-BD16-07C97EE13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A5675-C4C1-4DF1-8B1B-D4267B90B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521E0-8673-449C-801B-4FBC929CC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EC535-F096-4421-AC4C-ECEDA418F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6390D-5A81-407D-9470-E9DFEB8F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6F9B-8981-4291-899A-B8EF40311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89155-E0E2-40BE-A2F8-F00161258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DC1E5-BD24-4376-8426-BDC9774FF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B8CF4-A5F7-40D9-9EC2-B729DBB53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B7BF9-70E6-472F-BE45-99358F67D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1C523-7442-410D-8CC4-A8EA1C38B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7854-2BAD-4253-AFA7-DEC15E453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12F9-15B4-476D-B87F-5F7D71F47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331A-2962-4834-9FC6-FADE24367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C173-81DF-4599-8861-E3C38B9BE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4953-4E8C-4789-929D-543DC88F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A37D-3DDB-4B51-A660-3CD57BA2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5413-AB6C-4481-A56E-02FC904B4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74572-933C-4406-9DFF-BAA13DE46A46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90480" y="3340080"/>
            <a:ext cx="7653600" cy="485640"/>
          </a:xfrm>
          <a:custGeom>
            <a:avLst/>
            <a:gdLst>
              <a:gd name="textAreaLeft" fmla="*/ 0 w 7653600"/>
              <a:gd name="textAreaRight" fmla="*/ 7653960 w 765360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B3AEA-24A2-4460-B865-176A7D6A0424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CLASE AGU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2"/>
          <p:cNvSpPr/>
          <p:nvPr/>
        </p:nvSpPr>
        <p:spPr>
          <a:xfrm>
            <a:off x="685800" y="609480"/>
            <a:ext cx="8077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Arial Black"/>
              </a:rPr>
              <a:t>INGESTA DE AGUA DE OVINOS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Arial Black"/>
              </a:rPr>
              <a:t>Y CAPRINO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301680" y="5486400"/>
            <a:ext cx="4280400" cy="115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Arial Narrow"/>
              </a:rPr>
              <a:t>Patricio Pérez M.</a:t>
            </a: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 Narrow"/>
              </a:rPr>
              <a:t>Departamento de Fomento de la Producción Animal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 Narrow"/>
              </a:rPr>
              <a:t>Facultad de Ciencias Veterinarias y Pecuarias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 Narrow"/>
              </a:rPr>
              <a:t>Universidad de Chile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86" name="Object 5"/>
          <p:cNvGraphicFramePr/>
          <p:nvPr/>
        </p:nvGraphicFramePr>
        <p:xfrm>
          <a:off x="250920" y="476280"/>
          <a:ext cx="880920" cy="1679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476280"/>
                    <a:ext cx="880920" cy="16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"/>
          <p:cNvSpPr/>
          <p:nvPr/>
        </p:nvSpPr>
        <p:spPr>
          <a:xfrm>
            <a:off x="456480" y="2008080"/>
            <a:ext cx="4324320" cy="453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1. Estado Fisiológic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2. Tamaño de la camad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3.  Semana de lactanci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4. Temperatura ambient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5. Humedad relativa y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emperatura ambiente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6. Materia seca consumid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7. Variación diurna y estaciona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4820400" y="1828800"/>
            <a:ext cx="4322880" cy="453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8. Contenido de sal en la ració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9. Contenido de proteína de la 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ieta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10. Variación individua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11. Temperatura del agua de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bebida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12. Frecuencia de ingesta de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agua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2857680" y="54936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s-ES_tradnl" sz="4000" spc="-1" strike="noStrike">
                <a:solidFill>
                  <a:srgbClr val="66ccff"/>
                </a:solidFill>
                <a:latin typeface="Arial Black"/>
              </a:rPr>
              <a:t> </a:t>
            </a:r>
            <a:r>
              <a:rPr b="1" lang="es-ES_tradnl" sz="4000" spc="-1" strike="noStrike">
                <a:solidFill>
                  <a:srgbClr val="66ccff"/>
                </a:solidFill>
                <a:latin typeface="Arial Black"/>
              </a:rPr>
              <a:t>TEMARIO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250920" y="990720"/>
            <a:ext cx="8353440" cy="5968440"/>
          </a:xfrm>
          <a:prstGeom prst="rect">
            <a:avLst/>
          </a:prstGeom>
          <a:noFill/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BOVINOS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Ternero en fase de lactancia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6,0-7,0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Bovinos en crecimiento o cebo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3,5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Vacas al final de la gestación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4,0-5,0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OVINOS: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Ovinos en crecimiento o engorda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2,0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Ovejas  al inicio de la gestación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2,0-2,5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Ovejas en fin de gestación: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-  1 cordero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3,0-3,5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-  2 ó 3 cordero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3,5-4,5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Ovejas en lactación: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-  Primer me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4,0-4,5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-  Meses siguiente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4,0-3,0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CAPRINOS: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abras al inicio de gestación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2,0-3,0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abras en fin de gestación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3,5-4,0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abras en lactación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4,0-3,0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2286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ccff"/>
                </a:solidFill>
                <a:latin typeface="Arial"/>
              </a:rPr>
              <a:t>CUADRO 1.  VALORES APROXIMADOS DE LAS CANTIDADES DE AGUA TOTAL INGERIDA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8610480" y="624852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9029"/>
                </a:moveTo>
                <a:lnTo>
                  <a:pt x="7301" y="9029"/>
                </a:lnTo>
                <a:lnTo>
                  <a:pt x="7301" y="14365"/>
                </a:lnTo>
                <a:cubicBezTo>
                  <a:pt x="7301" y="15287"/>
                  <a:pt x="8102" y="16018"/>
                  <a:pt x="9138" y="16018"/>
                </a:cubicBezTo>
                <a:lnTo>
                  <a:pt x="10800" y="16018"/>
                </a:lnTo>
                <a:cubicBezTo>
                  <a:pt x="11836" y="16018"/>
                  <a:pt x="12636" y="15287"/>
                  <a:pt x="12636" y="14365"/>
                </a:cubicBezTo>
                <a:lnTo>
                  <a:pt x="12636" y="9029"/>
                </a:lnTo>
                <a:lnTo>
                  <a:pt x="10800" y="9029"/>
                </a:lnTo>
                <a:lnTo>
                  <a:pt x="14308" y="5522"/>
                </a:lnTo>
                <a:lnTo>
                  <a:pt x="17981" y="9029"/>
                </a:lnTo>
                <a:lnTo>
                  <a:pt x="16144" y="9029"/>
                </a:lnTo>
                <a:lnTo>
                  <a:pt x="16144" y="14365"/>
                </a:lnTo>
                <a:cubicBezTo>
                  <a:pt x="16144" y="17132"/>
                  <a:pt x="13568" y="19691"/>
                  <a:pt x="10800" y="19691"/>
                </a:cubicBezTo>
                <a:lnTo>
                  <a:pt x="9138" y="19691"/>
                </a:lnTo>
                <a:cubicBezTo>
                  <a:pt x="6370" y="19691"/>
                  <a:pt x="3794" y="17132"/>
                  <a:pt x="3794" y="14365"/>
                </a:cubicBezTo>
                <a:close/>
              </a:path>
            </a:pathLst>
          </a:cu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6516720" y="1052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Litro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685800" y="533520"/>
            <a:ext cx="81532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ccff"/>
                </a:solidFill>
                <a:latin typeface="Arial"/>
              </a:rPr>
              <a:t>CUADRO  2.  REQUERIMIENTO DE AGUA DE OVEJAS PREÑADAS COMO PORCENTAJE DE LA INGESTA DE UNA OVEJA SEC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96" name="Object 5"/>
          <p:cNvGraphicFramePr/>
          <p:nvPr/>
        </p:nvGraphicFramePr>
        <p:xfrm>
          <a:off x="539640" y="2514600"/>
          <a:ext cx="8502840" cy="321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514600"/>
                    <a:ext cx="8502840" cy="32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AutoShape 6"/>
          <p:cNvSpPr/>
          <p:nvPr/>
        </p:nvSpPr>
        <p:spPr>
          <a:xfrm>
            <a:off x="8153280" y="59436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7493"/>
                </a:moveTo>
                <a:lnTo>
                  <a:pt x="14498" y="7493"/>
                </a:lnTo>
                <a:lnTo>
                  <a:pt x="14498" y="12828"/>
                </a:lnTo>
                <a:cubicBezTo>
                  <a:pt x="14498" y="13751"/>
                  <a:pt x="15299" y="14482"/>
                  <a:pt x="16335" y="14482"/>
                </a:cubicBezTo>
                <a:lnTo>
                  <a:pt x="17997" y="14482"/>
                </a:lnTo>
                <a:cubicBezTo>
                  <a:pt x="19033" y="14482"/>
                  <a:pt x="19834" y="13751"/>
                  <a:pt x="19834" y="12828"/>
                </a:cubicBezTo>
                <a:lnTo>
                  <a:pt x="19834" y="7493"/>
                </a:lnTo>
                <a:lnTo>
                  <a:pt x="17997" y="7493"/>
                </a:lnTo>
                <a:lnTo>
                  <a:pt x="21505" y="3985"/>
                </a:lnTo>
                <a:lnTo>
                  <a:pt x="25178" y="7493"/>
                </a:lnTo>
                <a:lnTo>
                  <a:pt x="23341" y="7493"/>
                </a:lnTo>
                <a:lnTo>
                  <a:pt x="23341" y="12828"/>
                </a:lnTo>
                <a:cubicBezTo>
                  <a:pt x="23341" y="15596"/>
                  <a:pt x="20765" y="18155"/>
                  <a:pt x="17997" y="18155"/>
                </a:cubicBezTo>
                <a:lnTo>
                  <a:pt x="16335" y="18155"/>
                </a:lnTo>
                <a:cubicBezTo>
                  <a:pt x="13567" y="18155"/>
                  <a:pt x="10991" y="15596"/>
                  <a:pt x="10991" y="12828"/>
                </a:cubicBezTo>
                <a:close/>
              </a:path>
            </a:pathLst>
          </a:cu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Object 3"/>
          <p:cNvGraphicFramePr/>
          <p:nvPr/>
        </p:nvGraphicFramePr>
        <p:xfrm>
          <a:off x="1116000" y="1197000"/>
          <a:ext cx="7056360" cy="5327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197000"/>
                    <a:ext cx="7056360" cy="53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4"/>
          <p:cNvSpPr/>
          <p:nvPr/>
        </p:nvSpPr>
        <p:spPr>
          <a:xfrm>
            <a:off x="762120" y="26028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ccff"/>
                </a:solidFill>
                <a:latin typeface="Arial"/>
              </a:rPr>
              <a:t>CUADRO  3. REQUERIMIENTOS DE AGUA PARA OVINO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AutoShape 5"/>
          <p:cNvSpPr/>
          <p:nvPr/>
        </p:nvSpPr>
        <p:spPr>
          <a:xfrm>
            <a:off x="8534520" y="6119640"/>
            <a:ext cx="609480" cy="73836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738360"/>
              <a:gd name="textAreaBottom" fmla="*/ 699120 h 738360"/>
            </a:gdLst>
            <a:ahLst/>
            <a:rect l="textAreaLeft" t="textAreaTop" r="textAreaRight" b="textAreaBottom"/>
            <a:pathLst>
              <a:path w="21600" h="26165">
                <a:moveTo>
                  <a:pt x="0" y="0"/>
                </a:moveTo>
                <a:lnTo>
                  <a:pt x="21600" y="0"/>
                </a:lnTo>
                <a:lnTo>
                  <a:pt x="21600" y="26165"/>
                </a:lnTo>
                <a:lnTo>
                  <a:pt x="0" y="26165"/>
                </a:lnTo>
                <a:close/>
              </a:path>
              <a:path fill="lightenLess" w="21600" h="261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165">
                <a:moveTo>
                  <a:pt x="21600" y="0"/>
                </a:moveTo>
                <a:lnTo>
                  <a:pt x="21600" y="26165"/>
                </a:lnTo>
                <a:lnTo>
                  <a:pt x="20200" y="24765"/>
                </a:lnTo>
                <a:lnTo>
                  <a:pt x="20200" y="1400"/>
                </a:lnTo>
                <a:close/>
              </a:path>
              <a:path fill="darkenLess" w="21600" h="26165">
                <a:moveTo>
                  <a:pt x="21600" y="26165"/>
                </a:moveTo>
                <a:lnTo>
                  <a:pt x="0" y="26165"/>
                </a:lnTo>
                <a:lnTo>
                  <a:pt x="1400" y="24765"/>
                </a:lnTo>
                <a:lnTo>
                  <a:pt x="20200" y="24765"/>
                </a:lnTo>
                <a:close/>
              </a:path>
              <a:path fill="lighten" w="21600" h="26165">
                <a:moveTo>
                  <a:pt x="0" y="261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4765"/>
                </a:lnTo>
                <a:close/>
              </a:path>
              <a:path fill="darken" w="21600" h="26165">
                <a:moveTo>
                  <a:pt x="3794" y="9775"/>
                </a:moveTo>
                <a:lnTo>
                  <a:pt x="7301" y="9775"/>
                </a:lnTo>
                <a:lnTo>
                  <a:pt x="7301" y="15110"/>
                </a:lnTo>
                <a:cubicBezTo>
                  <a:pt x="7301" y="16033"/>
                  <a:pt x="8102" y="16764"/>
                  <a:pt x="9138" y="16764"/>
                </a:cubicBezTo>
                <a:lnTo>
                  <a:pt x="10800" y="16764"/>
                </a:lnTo>
                <a:cubicBezTo>
                  <a:pt x="11836" y="16764"/>
                  <a:pt x="12636" y="16033"/>
                  <a:pt x="12636" y="15110"/>
                </a:cubicBezTo>
                <a:lnTo>
                  <a:pt x="12636" y="9775"/>
                </a:lnTo>
                <a:lnTo>
                  <a:pt x="10800" y="9775"/>
                </a:lnTo>
                <a:lnTo>
                  <a:pt x="14308" y="6267"/>
                </a:lnTo>
                <a:lnTo>
                  <a:pt x="17981" y="9775"/>
                </a:lnTo>
                <a:lnTo>
                  <a:pt x="16144" y="9775"/>
                </a:lnTo>
                <a:lnTo>
                  <a:pt x="16144" y="15110"/>
                </a:lnTo>
                <a:cubicBezTo>
                  <a:pt x="16144" y="17878"/>
                  <a:pt x="13568" y="20437"/>
                  <a:pt x="10800" y="20437"/>
                </a:cubicBezTo>
                <a:lnTo>
                  <a:pt x="9138" y="20437"/>
                </a:lnTo>
                <a:cubicBezTo>
                  <a:pt x="6370" y="20437"/>
                  <a:pt x="3794" y="17878"/>
                  <a:pt x="3794" y="15110"/>
                </a:cubicBezTo>
                <a:close/>
              </a:path>
            </a:pathLst>
          </a:cu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611280" y="1773360"/>
          <a:ext cx="7921440" cy="4336920"/>
        </p:xfrm>
        <a:graphic>
          <a:graphicData uri="http://schemas.openxmlformats.org/drawingml/2006/table">
            <a:tbl>
              <a:tblPr/>
              <a:tblGrid>
                <a:gridCol w="4824360"/>
                <a:gridCol w="309708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PO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UMO (L/cabeza/día)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81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vejas secas en pasto verde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– 6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vejas en ramoneo de arbustos y pasto seco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– 12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81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vejas con corderos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– 10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81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rregas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- 4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Text Box 32"/>
          <p:cNvSpPr/>
          <p:nvPr/>
        </p:nvSpPr>
        <p:spPr>
          <a:xfrm>
            <a:off x="755640" y="6400800"/>
            <a:ext cx="51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UENTE: Fundación Chile, 2005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Text Box 34"/>
          <p:cNvSpPr/>
          <p:nvPr/>
        </p:nvSpPr>
        <p:spPr>
          <a:xfrm>
            <a:off x="826920" y="476280"/>
            <a:ext cx="749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ccff"/>
                </a:solidFill>
                <a:latin typeface="Arial"/>
              </a:rPr>
              <a:t>CUADRO 4.  REQUERIMIENTO DE AGUA DE ACUERDO AL TIPO DE GANAD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304920" y="2209680"/>
            <a:ext cx="85341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TOTAL AGUA INGERIDA = 3,86 x Kg MS - 0.99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TWI/DM = 0.18 x T + 1.25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3429000" y="6858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bdd7e5"/>
                </a:solidFill>
                <a:latin typeface="Arial"/>
              </a:rPr>
              <a:t>CUADRO 5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AutoShape 4"/>
          <p:cNvSpPr/>
          <p:nvPr/>
        </p:nvSpPr>
        <p:spPr>
          <a:xfrm>
            <a:off x="8153280" y="5791320"/>
            <a:ext cx="738360" cy="761760"/>
          </a:xfrm>
          <a:custGeom>
            <a:avLst/>
            <a:gdLst>
              <a:gd name="textAreaLeft" fmla="*/ 47880 w 738360"/>
              <a:gd name="textAreaRight" fmla="*/ 690840 w 738360"/>
              <a:gd name="textAreaTop" fmla="*/ 47520 h 761760"/>
              <a:gd name="textAreaBottom" fmla="*/ 713880 h 761760"/>
            </a:gdLst>
            <a:ahLst/>
            <a:rect l="textAreaLeft" t="textAreaTop" r="textAreaRight" b="textAreaBottom"/>
            <a:pathLst>
              <a:path w="21600" h="22284">
                <a:moveTo>
                  <a:pt x="0" y="0"/>
                </a:moveTo>
                <a:lnTo>
                  <a:pt x="21600" y="0"/>
                </a:lnTo>
                <a:lnTo>
                  <a:pt x="21600" y="22284"/>
                </a:lnTo>
                <a:lnTo>
                  <a:pt x="0" y="22284"/>
                </a:lnTo>
                <a:close/>
              </a:path>
              <a:path fill="lightenLess" w="21600" h="2228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84">
                <a:moveTo>
                  <a:pt x="21600" y="0"/>
                </a:moveTo>
                <a:lnTo>
                  <a:pt x="21600" y="22284"/>
                </a:lnTo>
                <a:lnTo>
                  <a:pt x="20200" y="20884"/>
                </a:lnTo>
                <a:lnTo>
                  <a:pt x="20200" y="1400"/>
                </a:lnTo>
                <a:close/>
              </a:path>
              <a:path fill="darkenLess" w="21600" h="22284">
                <a:moveTo>
                  <a:pt x="21600" y="22284"/>
                </a:moveTo>
                <a:lnTo>
                  <a:pt x="0" y="22284"/>
                </a:lnTo>
                <a:lnTo>
                  <a:pt x="1400" y="20884"/>
                </a:lnTo>
                <a:lnTo>
                  <a:pt x="20200" y="20884"/>
                </a:lnTo>
                <a:close/>
              </a:path>
              <a:path fill="lighten" w="21600" h="22284">
                <a:moveTo>
                  <a:pt x="0" y="2228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84"/>
                </a:lnTo>
                <a:close/>
              </a:path>
              <a:path fill="darken" w="21600" h="22284">
                <a:moveTo>
                  <a:pt x="3794" y="7835"/>
                </a:moveTo>
                <a:lnTo>
                  <a:pt x="7301" y="7835"/>
                </a:lnTo>
                <a:lnTo>
                  <a:pt x="7301" y="13170"/>
                </a:lnTo>
                <a:cubicBezTo>
                  <a:pt x="7301" y="14093"/>
                  <a:pt x="8102" y="14824"/>
                  <a:pt x="9138" y="14824"/>
                </a:cubicBezTo>
                <a:lnTo>
                  <a:pt x="10800" y="14824"/>
                </a:lnTo>
                <a:cubicBezTo>
                  <a:pt x="11836" y="14824"/>
                  <a:pt x="12636" y="14093"/>
                  <a:pt x="12636" y="13170"/>
                </a:cubicBezTo>
                <a:lnTo>
                  <a:pt x="12636" y="7835"/>
                </a:lnTo>
                <a:lnTo>
                  <a:pt x="10800" y="7835"/>
                </a:lnTo>
                <a:lnTo>
                  <a:pt x="14308" y="4327"/>
                </a:lnTo>
                <a:lnTo>
                  <a:pt x="17981" y="7835"/>
                </a:lnTo>
                <a:lnTo>
                  <a:pt x="16144" y="7835"/>
                </a:lnTo>
                <a:lnTo>
                  <a:pt x="16144" y="13170"/>
                </a:lnTo>
                <a:cubicBezTo>
                  <a:pt x="16144" y="15938"/>
                  <a:pt x="13568" y="18497"/>
                  <a:pt x="10800" y="18497"/>
                </a:cubicBezTo>
                <a:lnTo>
                  <a:pt x="9138" y="18497"/>
                </a:lnTo>
                <a:cubicBezTo>
                  <a:pt x="6370" y="18497"/>
                  <a:pt x="3794" y="15938"/>
                  <a:pt x="3794" y="13170"/>
                </a:cubicBezTo>
                <a:close/>
              </a:path>
            </a:pathLst>
          </a:cu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900000" y="2455920"/>
          <a:ext cx="7488360" cy="3421080"/>
        </p:xfrm>
        <a:graphic>
          <a:graphicData uri="http://schemas.openxmlformats.org/drawingml/2006/table">
            <a:tbl>
              <a:tblPr/>
              <a:tblGrid>
                <a:gridCol w="1695600"/>
                <a:gridCol w="890640"/>
                <a:gridCol w="1089000"/>
                <a:gridCol w="933480"/>
                <a:gridCol w="901440"/>
                <a:gridCol w="1119240"/>
                <a:gridCol w="85896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Temperatura corral (20)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Temperatura corral (30)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Característica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20 ºC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30 ºC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40 º C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20 º C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30 º C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40 º C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CPV (kg)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-0.9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-1.7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-1.2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0.2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-0.4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-1.2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MSI (g)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1515 </a:t>
                      </a:r>
                      <a:r>
                        <a:rPr b="1" lang="es-ES" sz="16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ab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1620 </a:t>
                      </a:r>
                      <a:r>
                        <a:rPr b="1" lang="es-ES" sz="16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a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1475 </a:t>
                      </a:r>
                      <a:r>
                        <a:rPr b="1" lang="es-ES" sz="16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ab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1096 </a:t>
                      </a:r>
                      <a:r>
                        <a:rPr b="1" lang="es-ES" sz="16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c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1211 </a:t>
                      </a:r>
                      <a:r>
                        <a:rPr b="1" lang="es-ES" sz="16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bc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1073 </a:t>
                      </a:r>
                      <a:r>
                        <a:rPr b="1" lang="es-ES" sz="16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c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MSI (%)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2.89 </a:t>
                      </a:r>
                      <a:r>
                        <a:rPr b="1" lang="es-ES" sz="16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ab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3.13 </a:t>
                      </a:r>
                      <a:r>
                        <a:rPr b="1" lang="es-ES" sz="16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a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2.83 </a:t>
                      </a:r>
                      <a:r>
                        <a:rPr b="1" lang="es-ES" sz="16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ab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2.41 </a:t>
                      </a:r>
                      <a:r>
                        <a:rPr b="1" lang="es-ES" sz="16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bc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2.59 </a:t>
                      </a:r>
                      <a:r>
                        <a:rPr b="1" lang="es-ES" sz="16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bc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2.26 </a:t>
                      </a:r>
                      <a:r>
                        <a:rPr b="1" lang="es-ES" sz="16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c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AI ( ml/día)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5237 </a:t>
                      </a:r>
                      <a:r>
                        <a:rPr b="1" lang="es-ES" sz="16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a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5822 </a:t>
                      </a:r>
                      <a:r>
                        <a:rPr b="1" lang="es-ES" sz="16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a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5575 </a:t>
                      </a:r>
                      <a:r>
                        <a:rPr b="1" lang="es-ES" sz="16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a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6591 </a:t>
                      </a:r>
                      <a:r>
                        <a:rPr b="1" lang="es-ES" sz="16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b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8491 </a:t>
                      </a:r>
                      <a:r>
                        <a:rPr b="1" lang="es-ES" sz="16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bc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9913 </a:t>
                      </a:r>
                      <a:r>
                        <a:rPr b="1" lang="es-ES" sz="16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c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Text Box 267"/>
          <p:cNvSpPr/>
          <p:nvPr/>
        </p:nvSpPr>
        <p:spPr>
          <a:xfrm>
            <a:off x="468360" y="620640"/>
            <a:ext cx="8207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FECTO DE LA TEMPERATURA DEL CORRAL (20 ºC V/S 30 ºC) SOBRE CAMBIO DE PESO, MS INGERIDA, % MSI E INGESTA DE AGUA ENTREGADA A DIFERENTES TEMPERATURAS (20, 30 Y 40 ºC) EN CAPONES DE LA RAZA MERINO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2411280" y="98100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ccff"/>
                </a:solidFill>
                <a:latin typeface="Arial"/>
              </a:rPr>
              <a:t>BIBLIOGRAFÍ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395280" y="2276640"/>
            <a:ext cx="8209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FIA 2007.  MANEJO DEL PASTOREO. 129 pp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FUNDACIÓN CHILE, 2005.  Tópicos en Producción Ovina en el Secano Central. 116 pp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NRC. 2007.  NUTRIENT REQUIREMENTS OS SMALL RUMINANTS.  362 pp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20:50:14Z</dcterms:created>
  <dc:creator>Norma San Martín</dc:creator>
  <dc:description/>
  <dc:language>en-US</dc:language>
  <cp:lastModifiedBy>WinuE</cp:lastModifiedBy>
  <dcterms:modified xsi:type="dcterms:W3CDTF">2010-06-09T19:26:16Z</dcterms:modified>
  <cp:revision>11</cp:revision>
  <dc:subject/>
  <dc:title>Sin título de diapositiva</dc:title>
</cp:coreProperties>
</file>