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5A1-9AB8-4D86-8608-FDB54148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23C-0A87-4988-9FB3-E8EBAD3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F37-BA96-467B-A162-9821A023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08A-8503-4EBA-A6BE-FA02C0A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309C-513C-482E-A71D-EA8BCBD5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F69-71E7-46A1-881D-37F1814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3480-9DB3-452F-91B0-D0867E2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3490-B7DA-433A-A0CD-BD71160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BCC7-7BED-4493-9771-C91E809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868-1B7D-4959-B9FB-0D4FFC8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C52D-E0E3-4C7F-9E32-BC272DBC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572-03B3-4E8F-B303-02EC3045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216D-BC20-401D-870D-891EED3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6B5-8399-45C4-908D-4F539F74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0084-1471-408B-8F26-959B7E85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AEE-FA8F-4508-A590-5C570EB9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0E6-BB80-4E56-9EFD-FC701041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4B9-D55F-4B9E-9A9F-AFB6532E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32A-0243-420C-A773-D35640B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37C-5B44-4C2D-AC4B-C9E664A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71B-B259-421D-AEC9-50D1DCF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966-6F7B-4106-AF5D-2C8CF03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7BF-605D-4C7D-B477-5013BBC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EDA-C111-46D5-B2A1-2E54BBA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34D-2BB0-42E9-BAAC-7328A664D2F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B7F-1198-40CE-8332-59754F05EDF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LASE 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685800" y="6094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INGESTA DE AGUA DE OVINO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Y CAPR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1680" y="5486400"/>
            <a:ext cx="4280400" cy="11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50920" y="476280"/>
          <a:ext cx="88092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88092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6480" y="2008080"/>
            <a:ext cx="4324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. Estado Fisiológ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. Tamaño de la cam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.  Semana de lacta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. Temperatura amb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. Humedad relativa 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ambi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. Materia seca consum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. Variación diurna y esta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20400" y="1828800"/>
            <a:ext cx="43228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. Contenido de sal en la r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. Contenido de proteína de la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e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. Variación individ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1. Temperatura del agua d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ebi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. Frecuencia de ingesta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gu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57680" y="549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TEMARI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990720"/>
            <a:ext cx="8353440" cy="59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OVIN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rnero en fase de lactanc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,0-7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ovinos en crecimiento o ceb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cas al final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5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VINO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inos en crecimiento o engord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 al inicio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2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fin de ges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1 corde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0-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2 ó 3 cord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lac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Primer 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Meses sigu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PRIN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al inicio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fin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lac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Arial"/>
              </a:rPr>
              <a:t>CUADRO 1.  VALORES APROXIMADOS DE LAS CANTIDADES DE AGUA TOTAL INGERIDA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51672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5800" y="5335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2.  REQUERIMIENTO DE AGUA DE OVEJAS PREÑADAS COMO PORCENTAJE DE LA INGESTA DE UNA OVEJA SE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539640" y="2514600"/>
          <a:ext cx="850284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14600"/>
                    <a:ext cx="85028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8153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3"/>
          <p:cNvGraphicFramePr/>
          <p:nvPr/>
        </p:nvGraphicFramePr>
        <p:xfrm>
          <a:off x="1116000" y="1197000"/>
          <a:ext cx="705636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05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762120" y="260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3. REQUERIMIENTOS DE AGUA PARA OV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534520" y="611964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1773360"/>
          <a:ext cx="7921440" cy="4336920"/>
        </p:xfrm>
        <a:graphic>
          <a:graphicData uri="http://schemas.openxmlformats.org/drawingml/2006/table">
            <a:tbl>
              <a:tblPr/>
              <a:tblGrid>
                <a:gridCol w="4824360"/>
                <a:gridCol w="3097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(L/cabeza/día)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secas en pasto verd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en ramoneo de arbustos y pasto sec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con cordero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rega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2"/>
          <p:cNvSpPr/>
          <p:nvPr/>
        </p:nvSpPr>
        <p:spPr>
          <a:xfrm>
            <a:off x="755640" y="6400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: Fundación Chile, 20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26920" y="476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4.  REQUERIMIENTO DE AGUA DE ACUERDO AL TIPO DE GAN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20968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 AGUA INGERIDA = 3,86 x Kg MS - 0.99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WI/DM = 0.18 x T + 1.2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685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dd7e5"/>
                </a:solidFill>
                <a:latin typeface="Arial"/>
              </a:rPr>
              <a:t>CUADRO 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153280" y="5791320"/>
            <a:ext cx="738360" cy="7617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520 h 761760"/>
              <a:gd name="textAreaBottom" fmla="*/ 713880 h 761760"/>
            </a:gdLst>
            <a:ahLst/>
            <a:rect l="textAreaLeft" t="textAreaTop" r="textAreaRight" b="textAreaBottom"/>
            <a:pathLst>
              <a:path w="21600" h="22284">
                <a:moveTo>
                  <a:pt x="0" y="0"/>
                </a:moveTo>
                <a:lnTo>
                  <a:pt x="21600" y="0"/>
                </a:lnTo>
                <a:lnTo>
                  <a:pt x="21600" y="22284"/>
                </a:lnTo>
                <a:lnTo>
                  <a:pt x="0" y="22284"/>
                </a:lnTo>
                <a:close/>
              </a:path>
              <a:path fill="lightenLess" w="21600" h="222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84">
                <a:moveTo>
                  <a:pt x="21600" y="0"/>
                </a:moveTo>
                <a:lnTo>
                  <a:pt x="21600" y="22284"/>
                </a:lnTo>
                <a:lnTo>
                  <a:pt x="20200" y="20884"/>
                </a:lnTo>
                <a:lnTo>
                  <a:pt x="20200" y="1400"/>
                </a:lnTo>
                <a:close/>
              </a:path>
              <a:path fill="darkenLess" w="21600" h="22284">
                <a:moveTo>
                  <a:pt x="21600" y="22284"/>
                </a:moveTo>
                <a:lnTo>
                  <a:pt x="0" y="22284"/>
                </a:lnTo>
                <a:lnTo>
                  <a:pt x="1400" y="20884"/>
                </a:lnTo>
                <a:lnTo>
                  <a:pt x="20200" y="20884"/>
                </a:lnTo>
                <a:close/>
              </a:path>
              <a:path fill="lighten" w="21600" h="22284">
                <a:moveTo>
                  <a:pt x="0" y="222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84"/>
                </a:lnTo>
                <a:close/>
              </a:path>
              <a:path fill="darken" w="21600" h="22284">
                <a:moveTo>
                  <a:pt x="3794" y="7835"/>
                </a:moveTo>
                <a:lnTo>
                  <a:pt x="7301" y="7835"/>
                </a:lnTo>
                <a:lnTo>
                  <a:pt x="7301" y="13170"/>
                </a:lnTo>
                <a:cubicBezTo>
                  <a:pt x="7301" y="14093"/>
                  <a:pt x="8102" y="14824"/>
                  <a:pt x="9138" y="14824"/>
                </a:cubicBezTo>
                <a:lnTo>
                  <a:pt x="10800" y="14824"/>
                </a:lnTo>
                <a:cubicBezTo>
                  <a:pt x="11836" y="14824"/>
                  <a:pt x="12636" y="14093"/>
                  <a:pt x="12636" y="13170"/>
                </a:cubicBezTo>
                <a:lnTo>
                  <a:pt x="12636" y="7835"/>
                </a:lnTo>
                <a:lnTo>
                  <a:pt x="10800" y="7835"/>
                </a:lnTo>
                <a:lnTo>
                  <a:pt x="14308" y="4327"/>
                </a:lnTo>
                <a:lnTo>
                  <a:pt x="17981" y="7835"/>
                </a:lnTo>
                <a:lnTo>
                  <a:pt x="16144" y="7835"/>
                </a:lnTo>
                <a:lnTo>
                  <a:pt x="16144" y="13170"/>
                </a:lnTo>
                <a:cubicBezTo>
                  <a:pt x="16144" y="15938"/>
                  <a:pt x="13568" y="18497"/>
                  <a:pt x="10800" y="18497"/>
                </a:cubicBezTo>
                <a:lnTo>
                  <a:pt x="9138" y="18497"/>
                </a:lnTo>
                <a:cubicBezTo>
                  <a:pt x="6370" y="18497"/>
                  <a:pt x="3794" y="15938"/>
                  <a:pt x="3794" y="1317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2455920"/>
          <a:ext cx="7488360" cy="3421080"/>
        </p:xfrm>
        <a:graphic>
          <a:graphicData uri="http://schemas.openxmlformats.org/drawingml/2006/table">
            <a:tbl>
              <a:tblPr/>
              <a:tblGrid>
                <a:gridCol w="1695600"/>
                <a:gridCol w="890640"/>
                <a:gridCol w="1089000"/>
                <a:gridCol w="933480"/>
                <a:gridCol w="901440"/>
                <a:gridCol w="1119240"/>
                <a:gridCol w="858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2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3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cterístic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PV (k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51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620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4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9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1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7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%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.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4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5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2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I ( ml/día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237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822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5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5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84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99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7"/>
          <p:cNvSpPr/>
          <p:nvPr/>
        </p:nvSpPr>
        <p:spPr>
          <a:xfrm>
            <a:off x="468360" y="620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CTO DE LA TEMPERATURA DEL CORRAL (20 ºC V/S 30 ºC) SOBRE CAMBIO DE PESO, MS INGERIDA, % MSI E INGESTA DE AGUA ENTREGADA A DIFERENTES TEMPERATURAS (20, 30 Y 40 ºC) EN CAPONES DE LA RAZA MERIN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11280" y="98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Arial"/>
              </a:rPr>
              <a:t>BIBLIOGRAF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95280" y="227664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A 2007.  MANEJO DEL PASTOREO. 129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CIÓN CHILE, 2005.  Tópicos en Producción Ovina en el Secano Central. 116 p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RC. 2007.  NUTRIENT REQUIREMENTS OS SMALL RUMINANTS.  362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20:50:14Z</dcterms:created>
  <dc:creator>Norma San Martín</dc:creator>
  <dc:description/>
  <dc:language>en-US</dc:language>
  <cp:lastModifiedBy>WinuE</cp:lastModifiedBy>
  <dcterms:modified xsi:type="dcterms:W3CDTF">2010-06-09T19:26:16Z</dcterms:modified>
  <cp:revision>11</cp:revision>
  <dc:subject/>
  <dc:title>Sin título de diapositiva</dc:title>
</cp:coreProperties>
</file>