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430-D600-4E1D-A116-262664DC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5114-35F7-407C-B211-1B268B3D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14A-1C06-4B29-9FBE-C0532601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6B7-536C-4B9A-9550-38B8FF17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E7C5-1B29-406D-BB9B-1BC2FBD2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450-3394-4585-B33D-C4EE43A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3F8B-BF72-413B-9770-F4E71A3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1F77-FC5D-490F-9501-3F2A7E2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488-EF41-4E99-AA06-6C93974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0DA0-BE75-4D47-A29F-9862A0C3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591-982F-49B0-A3EF-5738D2BF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49D-DAEA-4FA1-AD1F-C2C4BAED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D8D5-5591-4D60-871B-74C9D7E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4913-9382-4FE2-8187-1FB50C0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10B6-8815-4A31-8950-080166E0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ABB1-8E2E-4883-93BB-7573DDE8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2FD5-011A-4E5D-A9F6-FDD0EFEB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956-635D-415B-8746-93118CF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E44-545A-4CD9-94C4-3E1C9A21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226-446C-4C2D-B30F-B65E6786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AD-4D53-4CBD-9708-309F8DAD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371-D46D-45E9-8F7D-408DA6F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1A0-AD42-4390-8313-265A9CB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7AE-C7A3-4D8C-92EB-107A1A3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DDD-B570-4ECC-BBD7-02B9A0C8303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A30-79E4-40C9-84FD-69C9CECD1F7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LASE AG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685800" y="6094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INGESTA DE AGUA DE OVINO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 Black"/>
              </a:rPr>
              <a:t>Y CAPRIN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01680" y="5486400"/>
            <a:ext cx="4280400" cy="11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Narrow"/>
              </a:rPr>
              <a:t>Patricio Pérez M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Departamento de Fomento de la Producción Animal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Facultad de Ciencias Veterinarias y Pecuaria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 Narrow"/>
              </a:rPr>
              <a:t>Universidad de Chi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250920" y="476280"/>
          <a:ext cx="880920" cy="16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76280"/>
                    <a:ext cx="88092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456480" y="2008080"/>
            <a:ext cx="43243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. Estado Fisiológic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. Tamaño de la cama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.  Semana de lactanc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. Temperatura ambie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. Humedad relativa 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emperatura ambient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. Materia seca consumi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7. Variación diurna y estacion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20400" y="1828800"/>
            <a:ext cx="432288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8. Contenido de sal en la ra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. Contenido de proteína de la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et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0. Variación individu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1. Temperatura del agua d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ebid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. Frecuencia de ingesta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gua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57680" y="549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 </a:t>
            </a:r>
            <a:r>
              <a:rPr b="1" lang="es-ES_tradnl" sz="4000" spc="-1" strike="noStrike">
                <a:solidFill>
                  <a:srgbClr val="66ccff"/>
                </a:solidFill>
                <a:latin typeface="Arial Black"/>
              </a:rPr>
              <a:t>TEMARI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50920" y="990720"/>
            <a:ext cx="8353440" cy="5968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OVIN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ernero en fase de lactanc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,0-7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ovinos en crecimiento o ceb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acas al final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5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OVINOS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inos en crecimiento o engord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 al inicio de la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2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fin de ges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1 corde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0-3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2 ó 3 cord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vejas en lactación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Primer m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4,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 Meses sigu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PRINO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al inicio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2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fin de ges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,5-4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bras en lactación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,0-3,0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Arial"/>
              </a:rPr>
              <a:t>CUADRO 1.  VALORES APROXIMADOS DE LAS CANTIDADES DE AGUA TOTAL INGERIDA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861048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029"/>
                </a:moveTo>
                <a:lnTo>
                  <a:pt x="7301" y="9029"/>
                </a:lnTo>
                <a:lnTo>
                  <a:pt x="7301" y="14365"/>
                </a:lnTo>
                <a:cubicBezTo>
                  <a:pt x="7301" y="15287"/>
                  <a:pt x="8102" y="16018"/>
                  <a:pt x="9138" y="16018"/>
                </a:cubicBezTo>
                <a:lnTo>
                  <a:pt x="10800" y="16018"/>
                </a:lnTo>
                <a:cubicBezTo>
                  <a:pt x="11836" y="16018"/>
                  <a:pt x="12636" y="15287"/>
                  <a:pt x="12636" y="14365"/>
                </a:cubicBezTo>
                <a:lnTo>
                  <a:pt x="12636" y="9029"/>
                </a:lnTo>
                <a:lnTo>
                  <a:pt x="10800" y="9029"/>
                </a:lnTo>
                <a:lnTo>
                  <a:pt x="14308" y="5522"/>
                </a:lnTo>
                <a:lnTo>
                  <a:pt x="17981" y="9029"/>
                </a:lnTo>
                <a:lnTo>
                  <a:pt x="16144" y="9029"/>
                </a:lnTo>
                <a:lnTo>
                  <a:pt x="16144" y="14365"/>
                </a:lnTo>
                <a:cubicBezTo>
                  <a:pt x="16144" y="17132"/>
                  <a:pt x="13568" y="19691"/>
                  <a:pt x="10800" y="19691"/>
                </a:cubicBezTo>
                <a:lnTo>
                  <a:pt x="9138" y="19691"/>
                </a:lnTo>
                <a:cubicBezTo>
                  <a:pt x="6370" y="19691"/>
                  <a:pt x="3794" y="17132"/>
                  <a:pt x="3794" y="14365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51672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tr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85800" y="53352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2.  REQUERIMIENTO DE AGUA DE OVEJAS PREÑADAS COMO PORCENTAJE DE LA INGESTA DE UNA OVEJA SEC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539640" y="2514600"/>
          <a:ext cx="8502840" cy="32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14600"/>
                    <a:ext cx="85028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AutoShape 6"/>
          <p:cNvSpPr/>
          <p:nvPr/>
        </p:nvSpPr>
        <p:spPr>
          <a:xfrm>
            <a:off x="8153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7493"/>
                </a:moveTo>
                <a:lnTo>
                  <a:pt x="14498" y="7493"/>
                </a:lnTo>
                <a:lnTo>
                  <a:pt x="14498" y="12828"/>
                </a:lnTo>
                <a:cubicBezTo>
                  <a:pt x="14498" y="13751"/>
                  <a:pt x="15299" y="14482"/>
                  <a:pt x="16335" y="14482"/>
                </a:cubicBezTo>
                <a:lnTo>
                  <a:pt x="17997" y="14482"/>
                </a:lnTo>
                <a:cubicBezTo>
                  <a:pt x="19033" y="14482"/>
                  <a:pt x="19834" y="13751"/>
                  <a:pt x="19834" y="12828"/>
                </a:cubicBezTo>
                <a:lnTo>
                  <a:pt x="19834" y="7493"/>
                </a:lnTo>
                <a:lnTo>
                  <a:pt x="17997" y="7493"/>
                </a:lnTo>
                <a:lnTo>
                  <a:pt x="21505" y="3985"/>
                </a:lnTo>
                <a:lnTo>
                  <a:pt x="25178" y="7493"/>
                </a:lnTo>
                <a:lnTo>
                  <a:pt x="23341" y="7493"/>
                </a:lnTo>
                <a:lnTo>
                  <a:pt x="23341" y="12828"/>
                </a:lnTo>
                <a:cubicBezTo>
                  <a:pt x="23341" y="15596"/>
                  <a:pt x="20765" y="18155"/>
                  <a:pt x="17997" y="18155"/>
                </a:cubicBezTo>
                <a:lnTo>
                  <a:pt x="16335" y="18155"/>
                </a:lnTo>
                <a:cubicBezTo>
                  <a:pt x="13567" y="18155"/>
                  <a:pt x="10991" y="15596"/>
                  <a:pt x="10991" y="12828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3"/>
          <p:cNvGraphicFramePr/>
          <p:nvPr/>
        </p:nvGraphicFramePr>
        <p:xfrm>
          <a:off x="1116000" y="1197000"/>
          <a:ext cx="705636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7056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762120" y="260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 3. REQUERIMIENTOS DE AGUA PARA OV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8534520" y="6119640"/>
            <a:ext cx="609480" cy="73836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738360"/>
              <a:gd name="textAreaBottom" fmla="*/ 699120 h 738360"/>
            </a:gdLst>
            <a:ahLst/>
            <a:rect l="textAreaLeft" t="textAreaTop" r="textAreaRight" b="textAreaBottom"/>
            <a:pathLst>
              <a:path w="21600" h="26165">
                <a:moveTo>
                  <a:pt x="0" y="0"/>
                </a:moveTo>
                <a:lnTo>
                  <a:pt x="21600" y="0"/>
                </a:lnTo>
                <a:lnTo>
                  <a:pt x="21600" y="26165"/>
                </a:lnTo>
                <a:lnTo>
                  <a:pt x="0" y="26165"/>
                </a:lnTo>
                <a:close/>
              </a:path>
              <a:path fill="lightenLess" w="21600" h="261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65">
                <a:moveTo>
                  <a:pt x="21600" y="0"/>
                </a:moveTo>
                <a:lnTo>
                  <a:pt x="21600" y="26165"/>
                </a:lnTo>
                <a:lnTo>
                  <a:pt x="20200" y="24765"/>
                </a:lnTo>
                <a:lnTo>
                  <a:pt x="20200" y="1400"/>
                </a:lnTo>
                <a:close/>
              </a:path>
              <a:path fill="darkenLess" w="21600" h="26165">
                <a:moveTo>
                  <a:pt x="21600" y="26165"/>
                </a:moveTo>
                <a:lnTo>
                  <a:pt x="0" y="26165"/>
                </a:lnTo>
                <a:lnTo>
                  <a:pt x="1400" y="24765"/>
                </a:lnTo>
                <a:lnTo>
                  <a:pt x="20200" y="24765"/>
                </a:lnTo>
                <a:close/>
              </a:path>
              <a:path fill="lighten" w="21600" h="26165">
                <a:moveTo>
                  <a:pt x="0" y="261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65"/>
                </a:lnTo>
                <a:close/>
              </a:path>
              <a:path fill="darken" w="21600" h="26165">
                <a:moveTo>
                  <a:pt x="3794" y="9775"/>
                </a:moveTo>
                <a:lnTo>
                  <a:pt x="7301" y="9775"/>
                </a:lnTo>
                <a:lnTo>
                  <a:pt x="7301" y="15110"/>
                </a:lnTo>
                <a:cubicBezTo>
                  <a:pt x="7301" y="16033"/>
                  <a:pt x="8102" y="16764"/>
                  <a:pt x="9138" y="16764"/>
                </a:cubicBezTo>
                <a:lnTo>
                  <a:pt x="10800" y="16764"/>
                </a:lnTo>
                <a:cubicBezTo>
                  <a:pt x="11836" y="16764"/>
                  <a:pt x="12636" y="16033"/>
                  <a:pt x="12636" y="15110"/>
                </a:cubicBezTo>
                <a:lnTo>
                  <a:pt x="12636" y="9775"/>
                </a:lnTo>
                <a:lnTo>
                  <a:pt x="10800" y="9775"/>
                </a:lnTo>
                <a:lnTo>
                  <a:pt x="14308" y="6267"/>
                </a:lnTo>
                <a:lnTo>
                  <a:pt x="17981" y="9775"/>
                </a:lnTo>
                <a:lnTo>
                  <a:pt x="16144" y="9775"/>
                </a:lnTo>
                <a:lnTo>
                  <a:pt x="16144" y="15110"/>
                </a:lnTo>
                <a:cubicBezTo>
                  <a:pt x="16144" y="17878"/>
                  <a:pt x="13568" y="20437"/>
                  <a:pt x="10800" y="20437"/>
                </a:cubicBezTo>
                <a:lnTo>
                  <a:pt x="9138" y="20437"/>
                </a:lnTo>
                <a:cubicBezTo>
                  <a:pt x="6370" y="20437"/>
                  <a:pt x="3794" y="17878"/>
                  <a:pt x="3794" y="1511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11280" y="1773360"/>
          <a:ext cx="7921440" cy="4336920"/>
        </p:xfrm>
        <a:graphic>
          <a:graphicData uri="http://schemas.openxmlformats.org/drawingml/2006/table">
            <a:tbl>
              <a:tblPr/>
              <a:tblGrid>
                <a:gridCol w="4824360"/>
                <a:gridCol w="3097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O (L/cabeza/día)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secas en pasto verd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en ramoneo de arbustos y pasto seco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jas con cordero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– 1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regas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32"/>
          <p:cNvSpPr/>
          <p:nvPr/>
        </p:nvSpPr>
        <p:spPr>
          <a:xfrm>
            <a:off x="755640" y="6400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ENTE: Fundación Chile, 20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826920" y="47628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Arial"/>
              </a:rPr>
              <a:t>CUADRO 4.  REQUERIMIENTO DE AGUA DE ACUERDO AL TIPO DE GANA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209680"/>
            <a:ext cx="85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 AGUA INGERIDA = 3,86 x Kg MS - 0.99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WI/DM = 0.18 x T + 1.2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429000" y="685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dd7e5"/>
                </a:solidFill>
                <a:latin typeface="Arial"/>
              </a:rPr>
              <a:t>CUADRO 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153280" y="5791320"/>
            <a:ext cx="738360" cy="7617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520 h 761760"/>
              <a:gd name="textAreaBottom" fmla="*/ 713880 h 761760"/>
            </a:gdLst>
            <a:ahLst/>
            <a:rect l="textAreaLeft" t="textAreaTop" r="textAreaRight" b="textAreaBottom"/>
            <a:pathLst>
              <a:path w="21600" h="22284">
                <a:moveTo>
                  <a:pt x="0" y="0"/>
                </a:moveTo>
                <a:lnTo>
                  <a:pt x="21600" y="0"/>
                </a:lnTo>
                <a:lnTo>
                  <a:pt x="21600" y="22284"/>
                </a:lnTo>
                <a:lnTo>
                  <a:pt x="0" y="22284"/>
                </a:lnTo>
                <a:close/>
              </a:path>
              <a:path fill="lightenLess" w="21600" h="222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84">
                <a:moveTo>
                  <a:pt x="21600" y="0"/>
                </a:moveTo>
                <a:lnTo>
                  <a:pt x="21600" y="22284"/>
                </a:lnTo>
                <a:lnTo>
                  <a:pt x="20200" y="20884"/>
                </a:lnTo>
                <a:lnTo>
                  <a:pt x="20200" y="1400"/>
                </a:lnTo>
                <a:close/>
              </a:path>
              <a:path fill="darkenLess" w="21600" h="22284">
                <a:moveTo>
                  <a:pt x="21600" y="22284"/>
                </a:moveTo>
                <a:lnTo>
                  <a:pt x="0" y="22284"/>
                </a:lnTo>
                <a:lnTo>
                  <a:pt x="1400" y="20884"/>
                </a:lnTo>
                <a:lnTo>
                  <a:pt x="20200" y="20884"/>
                </a:lnTo>
                <a:close/>
              </a:path>
              <a:path fill="lighten" w="21600" h="22284">
                <a:moveTo>
                  <a:pt x="0" y="222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84"/>
                </a:lnTo>
                <a:close/>
              </a:path>
              <a:path fill="darken" w="21600" h="22284">
                <a:moveTo>
                  <a:pt x="3794" y="7835"/>
                </a:moveTo>
                <a:lnTo>
                  <a:pt x="7301" y="7835"/>
                </a:lnTo>
                <a:lnTo>
                  <a:pt x="7301" y="13170"/>
                </a:lnTo>
                <a:cubicBezTo>
                  <a:pt x="7301" y="14093"/>
                  <a:pt x="8102" y="14824"/>
                  <a:pt x="9138" y="14824"/>
                </a:cubicBezTo>
                <a:lnTo>
                  <a:pt x="10800" y="14824"/>
                </a:lnTo>
                <a:cubicBezTo>
                  <a:pt x="11836" y="14824"/>
                  <a:pt x="12636" y="14093"/>
                  <a:pt x="12636" y="13170"/>
                </a:cubicBezTo>
                <a:lnTo>
                  <a:pt x="12636" y="7835"/>
                </a:lnTo>
                <a:lnTo>
                  <a:pt x="10800" y="7835"/>
                </a:lnTo>
                <a:lnTo>
                  <a:pt x="14308" y="4327"/>
                </a:lnTo>
                <a:lnTo>
                  <a:pt x="17981" y="7835"/>
                </a:lnTo>
                <a:lnTo>
                  <a:pt x="16144" y="7835"/>
                </a:lnTo>
                <a:lnTo>
                  <a:pt x="16144" y="13170"/>
                </a:lnTo>
                <a:cubicBezTo>
                  <a:pt x="16144" y="15938"/>
                  <a:pt x="13568" y="18497"/>
                  <a:pt x="10800" y="18497"/>
                </a:cubicBezTo>
                <a:lnTo>
                  <a:pt x="9138" y="18497"/>
                </a:lnTo>
                <a:cubicBezTo>
                  <a:pt x="6370" y="18497"/>
                  <a:pt x="3794" y="15938"/>
                  <a:pt x="3794" y="13170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2455920"/>
          <a:ext cx="7488360" cy="3421080"/>
        </p:xfrm>
        <a:graphic>
          <a:graphicData uri="http://schemas.openxmlformats.org/drawingml/2006/table">
            <a:tbl>
              <a:tblPr/>
              <a:tblGrid>
                <a:gridCol w="1695600"/>
                <a:gridCol w="890640"/>
                <a:gridCol w="1089000"/>
                <a:gridCol w="933480"/>
                <a:gridCol w="901440"/>
                <a:gridCol w="1119240"/>
                <a:gridCol w="858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2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Temperatura corral (30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aracterístic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40 º 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PV (k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0.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-1.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g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51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620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4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9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21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107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MSI (%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3.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8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4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59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2.26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I ( ml/día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237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822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5575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65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8491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b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9913 </a:t>
                      </a:r>
                      <a:r>
                        <a:rPr b="1" lang="es-E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c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67"/>
          <p:cNvSpPr/>
          <p:nvPr/>
        </p:nvSpPr>
        <p:spPr>
          <a:xfrm>
            <a:off x="468360" y="620640"/>
            <a:ext cx="820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FECTO DE LA TEMPERATURA DEL CORRAL (20 ºC V/S 30 ºC) SOBRE CAMBIO DE PESO, MS INGERIDA, % MSI E INGESTA DE AGUA ENTREGADA A DIFERENTES TEMPERATURAS (20, 30 Y 40 ºC) EN CAPONES DE LA RAZA MERIN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411280" y="98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Arial"/>
              </a:rPr>
              <a:t>BIBLIOGRAFÍ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95280" y="227664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A 2007.  MANEJO DEL PASTOREO. 129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CIÓN CHILE, 2005.  Tópicos en Producción Ovina en el Secano Central. 116 pp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RC. 2007.  NUTRIENT REQUIREMENTS OS SMALL RUMINANTS.  362 pp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20:50:14Z</dcterms:created>
  <dc:creator>Norma San Martín</dc:creator>
  <dc:description/>
  <dc:language>en-US</dc:language>
  <cp:lastModifiedBy>WinuE</cp:lastModifiedBy>
  <dcterms:modified xsi:type="dcterms:W3CDTF">2010-06-09T19:26:16Z</dcterms:modified>
  <cp:revision>11</cp:revision>
  <dc:subject/>
  <dc:title>Sin título de diapositiva</dc:title>
</cp:coreProperties>
</file>