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07B-5535-4A01-A325-823251C0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C8E-ED4E-4230-B737-09005B1F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EB8-2FD8-433C-8216-79BAE926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09A-6273-46EE-8D85-0E9F1A00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015-F276-4A00-AAB3-55E048BF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766-C0E6-470D-817F-3E88AFE8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497-A329-48FA-AF5E-AF3DD7CB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A83-BE16-4039-9EA4-8A463CD2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725-6E9C-4952-8D68-B107381B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8D4-4EEA-4C6F-845C-39A4F9C2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377-3098-4347-9E2B-1FC1F9A3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A3E-1057-4ACE-80B0-C0B17328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58EB-F8C6-49D5-94D8-148953D0719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68360" y="5084640"/>
            <a:ext cx="8172360" cy="13129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5e761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8000"/>
                </a:solidFill>
                <a:latin typeface="Arial"/>
              </a:rPr>
              <a:t>LA PRADERA COMO ALIMENTO PARA EL GAN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Object 6"/>
          <p:cNvGraphicFramePr/>
          <p:nvPr/>
        </p:nvGraphicFramePr>
        <p:xfrm>
          <a:off x="395280" y="333360"/>
          <a:ext cx="93672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33360"/>
                    <a:ext cx="93672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Rectangle 8"/>
          <p:cNvSpPr/>
          <p:nvPr/>
        </p:nvSpPr>
        <p:spPr>
          <a:xfrm>
            <a:off x="4582800" y="333360"/>
            <a:ext cx="4280400" cy="1402560"/>
          </a:xfrm>
          <a:prstGeom prst="rect">
            <a:avLst/>
          </a:prstGeom>
          <a:noFill/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Patricio Pérez 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Departamento de Fomento de la Producción A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Facultad de Ciencias Veterinarias y Pecu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pperez@uchile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gráfico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099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9" name="Text Box 5"/>
          <p:cNvSpPr/>
          <p:nvPr/>
        </p:nvSpPr>
        <p:spPr>
          <a:xfrm>
            <a:off x="539640" y="2602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ENIDO DE ENERGÍA METABOLIZABLE EN LOS DISTINTOS COMPONENTES DE UNA PLANTA FORRA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7885080" y="5589720"/>
            <a:ext cx="1042920" cy="1079280"/>
          </a:xfrm>
          <a:custGeom>
            <a:avLst/>
            <a:gdLst>
              <a:gd name="textAreaLeft" fmla="*/ 148680 w 1042920"/>
              <a:gd name="textAreaRight" fmla="*/ 893880 w 1042920"/>
              <a:gd name="textAreaTop" fmla="*/ 616680 h 1079280"/>
              <a:gd name="textAreaBottom" fmla="*/ 925200 h 1079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905120" y="6922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 u="sng">
                <a:solidFill>
                  <a:srgbClr val="990000"/>
                </a:solidFill>
                <a:uFillTx/>
                <a:latin typeface="Arial"/>
              </a:rPr>
              <a:t>TEMA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533520" y="2165400"/>
            <a:ext cx="86104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1.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2. COSTOS COMPA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3. POTENCIAL DE PRODUCCIÓN POR A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4. RAZONES POR LO QUE LOS FORRAJES PRESENTAN MENORE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ÍNDICES PRODU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31640" y="285840"/>
            <a:ext cx="871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 Factores que influyen en la calidad de l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forraj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Factores Endóge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5.1. Estado fen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5.2. Época de Flo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5.3.  Ploi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4. 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Valor nutritivo varía dentro de una misma  pla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Factores Exter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5.5. Especies constituyentes de la pr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6. Ferti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7. 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8.Humedad del su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>
            <a:hlinkClick r:id="" action="ppaction://hlinkshowjump?jump=nextslide"/>
          </p:cNvPr>
          <p:cNvSpPr/>
          <p:nvPr/>
        </p:nvSpPr>
        <p:spPr>
          <a:xfrm>
            <a:off x="7885080" y="587700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3794"/>
                </a:moveTo>
                <a:lnTo>
                  <a:pt x="19947" y="10800"/>
                </a:lnTo>
                <a:lnTo>
                  <a:pt x="593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95280" y="620640"/>
            <a:ext cx="806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9. Época de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10. Relación hoja: ta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11. Manejo del Pas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6.  La pradera usada en estado fresco o conser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File0013"/>
          <p:cNvPicPr/>
          <p:nvPr/>
        </p:nvPicPr>
        <p:blipFill>
          <a:blip r:embed="rId1"/>
          <a:stretch/>
        </p:blipFill>
        <p:spPr>
          <a:xfrm>
            <a:off x="684360" y="363600"/>
            <a:ext cx="7272360" cy="5707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2" name="AutoShape 6"/>
          <p:cNvSpPr/>
          <p:nvPr/>
        </p:nvSpPr>
        <p:spPr>
          <a:xfrm>
            <a:off x="8172360" y="587700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3794" y="11868"/>
                </a:moveTo>
                <a:lnTo>
                  <a:pt x="17806" y="4861"/>
                </a:lnTo>
                <a:lnTo>
                  <a:pt x="17806" y="18874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File0014"/>
          <p:cNvPicPr/>
          <p:nvPr/>
        </p:nvPicPr>
        <p:blipFill>
          <a:blip r:embed="rId1"/>
          <a:stretch/>
        </p:blipFill>
        <p:spPr>
          <a:xfrm>
            <a:off x="900000" y="1557360"/>
            <a:ext cx="5472360" cy="5184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4" name="AutoShape 5"/>
          <p:cNvSpPr/>
          <p:nvPr/>
        </p:nvSpPr>
        <p:spPr>
          <a:xfrm>
            <a:off x="7885080" y="5589720"/>
            <a:ext cx="719280" cy="7650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72">
                <a:moveTo>
                  <a:pt x="0" y="0"/>
                </a:moveTo>
                <a:lnTo>
                  <a:pt x="21600" y="0"/>
                </a:lnTo>
                <a:lnTo>
                  <a:pt x="21600" y="22972"/>
                </a:lnTo>
                <a:lnTo>
                  <a:pt x="0" y="22972"/>
                </a:lnTo>
                <a:close/>
              </a:path>
              <a:path fill="lightenLess" w="21600" h="22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2">
                <a:moveTo>
                  <a:pt x="21600" y="0"/>
                </a:moveTo>
                <a:lnTo>
                  <a:pt x="21600" y="22972"/>
                </a:lnTo>
                <a:lnTo>
                  <a:pt x="20200" y="21572"/>
                </a:lnTo>
                <a:lnTo>
                  <a:pt x="20200" y="1400"/>
                </a:lnTo>
                <a:close/>
              </a:path>
              <a:path fill="darkenLess" w="21600" h="22972">
                <a:moveTo>
                  <a:pt x="21600" y="22972"/>
                </a:moveTo>
                <a:lnTo>
                  <a:pt x="0" y="22972"/>
                </a:lnTo>
                <a:lnTo>
                  <a:pt x="1400" y="21572"/>
                </a:lnTo>
                <a:lnTo>
                  <a:pt x="20200" y="21572"/>
                </a:lnTo>
                <a:close/>
              </a:path>
              <a:path fill="lighten" w="21600" h="22972">
                <a:moveTo>
                  <a:pt x="0" y="22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2"/>
                </a:lnTo>
                <a:close/>
              </a:path>
              <a:path fill="darken" w="21600" h="22972">
                <a:moveTo>
                  <a:pt x="3794" y="11486"/>
                </a:moveTo>
                <a:lnTo>
                  <a:pt x="17806" y="4480"/>
                </a:lnTo>
                <a:lnTo>
                  <a:pt x="17806" y="18493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0" y="33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DIGESTIBILIDAD DE LA PORCIÓN SUPERIOR E INFERIOR FOLLAJE DE ALFAL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Estado Fenológico"/>
          <p:cNvPicPr/>
          <p:nvPr/>
        </p:nvPicPr>
        <p:blipFill>
          <a:blip r:embed="rId1"/>
          <a:stretch/>
        </p:blipFill>
        <p:spPr>
          <a:xfrm>
            <a:off x="468360" y="189000"/>
            <a:ext cx="5391000" cy="6491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7" name="Text Box 6"/>
          <p:cNvSpPr/>
          <p:nvPr/>
        </p:nvSpPr>
        <p:spPr>
          <a:xfrm>
            <a:off x="5867280" y="549360"/>
            <a:ext cx="32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fecto del Estado Fenológico en los componentes celulares de una gramí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7596360" y="5445000"/>
            <a:ext cx="1152360" cy="1152720"/>
          </a:xfrm>
          <a:custGeom>
            <a:avLst/>
            <a:gdLst>
              <a:gd name="textAreaLeft" fmla="*/ 164520 w 1152360"/>
              <a:gd name="textAreaRight" fmla="*/ 987840 w 1152360"/>
              <a:gd name="textAreaTop" fmla="*/ 658800 h 1152720"/>
              <a:gd name="textAreaBottom" fmla="*/ 988200 h 1152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003640" y="189000"/>
            <a:ext cx="8636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39640" y="189000"/>
            <a:ext cx="4537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File0001"/>
          <p:cNvPicPr/>
          <p:nvPr/>
        </p:nvPicPr>
        <p:blipFill>
          <a:blip r:embed="rId1"/>
          <a:stretch/>
        </p:blipFill>
        <p:spPr>
          <a:xfrm>
            <a:off x="611280" y="1413000"/>
            <a:ext cx="7848360" cy="4768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468360" y="18900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MINUCIÓN DE LA CONCENTRACIÓN DE ENERGÍA EN DIFERENTES COMPONENTES DE LAS PLANTAS DE GRAMÍN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7885080" y="5661000"/>
            <a:ext cx="1008000" cy="1052640"/>
          </a:xfrm>
          <a:custGeom>
            <a:avLst/>
            <a:gdLst>
              <a:gd name="textAreaLeft" fmla="*/ 144000 w 1008000"/>
              <a:gd name="textAreaRight" fmla="*/ 864000 w 1008000"/>
              <a:gd name="textAreaTop" fmla="*/ 601560 h 1052640"/>
              <a:gd name="textAreaBottom" fmla="*/ 902520 h 1052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File0002"/>
          <p:cNvPicPr/>
          <p:nvPr/>
        </p:nvPicPr>
        <p:blipFill>
          <a:blip r:embed="rId1"/>
          <a:stretch/>
        </p:blipFill>
        <p:spPr>
          <a:xfrm>
            <a:off x="755640" y="2349360"/>
            <a:ext cx="7561440" cy="3260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826920" y="76500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AMAÑO DE LAS CÉLULAS DE BALLICAS EN BALLICAS DIPLOIDES Y TETRAPLO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55640" y="2276640"/>
            <a:ext cx="7561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596360" y="5373720"/>
            <a:ext cx="1368360" cy="1268280"/>
          </a:xfrm>
          <a:custGeom>
            <a:avLst/>
            <a:gdLst>
              <a:gd name="textAreaLeft" fmla="*/ 195480 w 1368360"/>
              <a:gd name="textAreaRight" fmla="*/ 1172880 w 1368360"/>
              <a:gd name="textAreaTop" fmla="*/ 724680 h 1268280"/>
              <a:gd name="textAreaBottom" fmla="*/ 1087200 h 1268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4:23:28Z</dcterms:created>
  <dc:creator>Norma San Martín</dc:creator>
  <dc:description/>
  <dc:language>en-US</dc:language>
  <cp:lastModifiedBy>WinuE</cp:lastModifiedBy>
  <dcterms:modified xsi:type="dcterms:W3CDTF">2010-06-09T19:27:38Z</dcterms:modified>
  <cp:revision>9</cp:revision>
  <dc:subject/>
  <dc:title>Sin título de diapositiva</dc:title>
</cp:coreProperties>
</file>