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366-9F22-42DD-A19E-DCED669D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F5A-74B2-471B-AF65-6CF77794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202-1AC3-48FA-9702-C47DF717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FD1-D95E-4D34-8A87-4D633A12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DCA-5CB0-4AEE-8954-8276843F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8EE-C8DC-4802-AD2C-E7EC39E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410-8B0E-4750-A87C-7E76D27B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5E7-DCE0-4240-B821-E03BC7B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229-1CC1-4E28-AB52-9FA038ED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114-E49A-40AE-9D4A-9C84C22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1CB-ABD6-457F-ADF9-5263720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9B2-845D-444B-8839-CDA0B1E1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A9EC-2840-46CB-A3D1-5F5D62C3FEC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68360" y="5084640"/>
            <a:ext cx="8172360" cy="13129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5e761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Arial"/>
              </a:rPr>
              <a:t>LA PRADERA COMO ALIMENTO PARA EL GA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395280" y="333360"/>
          <a:ext cx="93672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33360"/>
                    <a:ext cx="936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8"/>
          <p:cNvSpPr/>
          <p:nvPr/>
        </p:nvSpPr>
        <p:spPr>
          <a:xfrm>
            <a:off x="4582800" y="333360"/>
            <a:ext cx="4280400" cy="140256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pperez@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gráfico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099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539640" y="260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ENIDO DE ENERGÍA METABOLIZABLE EN LOS DISTINTOS COMPONENTES DE UNA PLANTA FORRA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7885080" y="5589720"/>
            <a:ext cx="1042920" cy="1079280"/>
          </a:xfrm>
          <a:custGeom>
            <a:avLst/>
            <a:gdLst>
              <a:gd name="textAreaLeft" fmla="*/ 148680 w 1042920"/>
              <a:gd name="textAreaRight" fmla="*/ 893880 w 1042920"/>
              <a:gd name="textAreaTop" fmla="*/ 616680 h 1079280"/>
              <a:gd name="textAreaBottom" fmla="*/ 925200 h 1079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5120" y="6922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990000"/>
                </a:solidFill>
                <a:uFillTx/>
                <a:latin typeface="Arial"/>
              </a:rPr>
              <a:t>TEM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2165400"/>
            <a:ext cx="86104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1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2. COSTOS COMPA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3. POTENCIAL DE PRODUCCIÓN POR 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4. RAZONES POR LO QUE LOS FORRAJES PRESENTAN MENOR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ÍNDICE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31640" y="285840"/>
            <a:ext cx="871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 Factores que influyen en la calidad de l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orraj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ndóge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5.1. Estado fe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5.2. Época de F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5.3.  Ploi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4. 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Valor nutritivo varía dentro de una misma  pl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xter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5.5. Especies constituyentes de la pr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6. Fert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7.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8.Humedad del su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78850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62064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9.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0. Relación hoja: ta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1. Manejo del Pas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6.  La pradera usada en estado fresco o conser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ile0013"/>
          <p:cNvPicPr/>
          <p:nvPr/>
        </p:nvPicPr>
        <p:blipFill>
          <a:blip r:embed="rId1"/>
          <a:stretch/>
        </p:blipFill>
        <p:spPr>
          <a:xfrm>
            <a:off x="684360" y="363600"/>
            <a:ext cx="7272360" cy="570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2" name="AutoShape 6"/>
          <p:cNvSpPr/>
          <p:nvPr/>
        </p:nvSpPr>
        <p:spPr>
          <a:xfrm>
            <a:off x="817236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11868"/>
                </a:moveTo>
                <a:lnTo>
                  <a:pt x="17806" y="4861"/>
                </a:lnTo>
                <a:lnTo>
                  <a:pt x="17806" y="18874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ile0014"/>
          <p:cNvPicPr/>
          <p:nvPr/>
        </p:nvPicPr>
        <p:blipFill>
          <a:blip r:embed="rId1"/>
          <a:stretch/>
        </p:blipFill>
        <p:spPr>
          <a:xfrm>
            <a:off x="900000" y="1557360"/>
            <a:ext cx="5472360" cy="51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4" name="AutoShape 5"/>
          <p:cNvSpPr/>
          <p:nvPr/>
        </p:nvSpPr>
        <p:spPr>
          <a:xfrm>
            <a:off x="7885080" y="558972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DIGESTIBILIDAD DE LA PORCIÓN SUPERIOR E INFERIOR FOLLAJE DE ALFAL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stado Fenológico"/>
          <p:cNvPicPr/>
          <p:nvPr/>
        </p:nvPicPr>
        <p:blipFill>
          <a:blip r:embed="rId1"/>
          <a:stretch/>
        </p:blipFill>
        <p:spPr>
          <a:xfrm>
            <a:off x="468360" y="189000"/>
            <a:ext cx="5391000" cy="6491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5867280" y="54936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del Estado Fenológico en los componentes celulares de una gram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7596360" y="5445000"/>
            <a:ext cx="1152360" cy="1152720"/>
          </a:xfrm>
          <a:custGeom>
            <a:avLst/>
            <a:gdLst>
              <a:gd name="textAreaLeft" fmla="*/ 164520 w 1152360"/>
              <a:gd name="textAreaRight" fmla="*/ 987840 w 1152360"/>
              <a:gd name="textAreaTop" fmla="*/ 658800 h 1152720"/>
              <a:gd name="textAreaBottom" fmla="*/ 988200 h 1152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003640" y="189000"/>
            <a:ext cx="8636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189000"/>
            <a:ext cx="4537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ile0001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7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18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MINUCIÓN DE LA CONCENTRACIÓN DE ENERGÍA EN DIFERENTES COMPONENTES DE LAS PLANTAS DE GRAM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885080" y="5661000"/>
            <a:ext cx="1008000" cy="1052640"/>
          </a:xfrm>
          <a:custGeom>
            <a:avLst/>
            <a:gdLst>
              <a:gd name="textAreaLeft" fmla="*/ 144000 w 1008000"/>
              <a:gd name="textAreaRight" fmla="*/ 864000 w 1008000"/>
              <a:gd name="textAreaTop" fmla="*/ 601560 h 1052640"/>
              <a:gd name="textAreaBottom" fmla="*/ 902520 h 105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ile0002"/>
          <p:cNvPicPr/>
          <p:nvPr/>
        </p:nvPicPr>
        <p:blipFill>
          <a:blip r:embed="rId1"/>
          <a:stretch/>
        </p:blipFill>
        <p:spPr>
          <a:xfrm>
            <a:off x="755640" y="2349360"/>
            <a:ext cx="7561440" cy="3260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826920" y="7650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MAÑO DE LAS CÉLULAS DE BALLICAS EN BALLICAS DIPLOIDES Y TETRAPLO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5640" y="2276640"/>
            <a:ext cx="7561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596360" y="5373720"/>
            <a:ext cx="1368360" cy="1268280"/>
          </a:xfrm>
          <a:custGeom>
            <a:avLst/>
            <a:gdLst>
              <a:gd name="textAreaLeft" fmla="*/ 195480 w 1368360"/>
              <a:gd name="textAreaRight" fmla="*/ 1172880 w 1368360"/>
              <a:gd name="textAreaTop" fmla="*/ 724680 h 1268280"/>
              <a:gd name="textAreaBottom" fmla="*/ 1087200 h 1268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23:28Z</dcterms:created>
  <dc:creator>Norma San Martín</dc:creator>
  <dc:description/>
  <dc:language>en-US</dc:language>
  <cp:lastModifiedBy>WinuE</cp:lastModifiedBy>
  <dcterms:modified xsi:type="dcterms:W3CDTF">2010-06-09T19:27:38Z</dcterms:modified>
  <cp:revision>9</cp:revision>
  <dc:subject/>
  <dc:title>Sin título de diapositiva</dc:title>
</cp:coreProperties>
</file>