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D13-8A83-4490-BAAC-45146520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36A-59A9-438A-B3D5-8A43C045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2BD8-07C5-4D5B-94D0-F563AF51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5F64-B652-4789-A3C9-99809780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752-221D-4381-92E1-8BDFF245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D68-1346-444D-B050-EC759156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F70-38DF-4E6B-92A0-0C40598F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A5C-F0B0-4F40-B0F2-C97466D1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ADD6-AB86-4E55-8563-64DACB7C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52F1-9EC2-4228-90B0-2AFAA9DB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21D-4510-44D3-9196-68AB7C2A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1A2-E3B4-4066-AB04-33444CBB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C024-257D-4836-A786-8EA0B8CE20E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50920" y="620640"/>
          <a:ext cx="63000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620640"/>
                    <a:ext cx="6300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0" y="5697360"/>
            <a:ext cx="45720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Patricio Pérez 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Departamento de Fomento de la Producción An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Facultad de Ciencias Veterinarias y Pecu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47628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6600"/>
                </a:solidFill>
                <a:latin typeface="Arial Black"/>
              </a:rPr>
              <a:t>FACTORES QUE INCIDEN EN EL CONSUMO DE FORRAJES REALIZADOS POR OVINOS Y CAPRI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5280" y="-464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 DE ENERGÍA PARA MANTENCIÓN (ME) EN RUMIANTES EN SITUACIÓN EN CONFINAMIENTO Y PASTOR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42920" y="820800"/>
          <a:ext cx="6553080" cy="6037200"/>
        </p:xfrm>
        <a:graphic>
          <a:graphicData uri="http://schemas.openxmlformats.org/drawingml/2006/table">
            <a:tbl>
              <a:tblPr/>
              <a:tblGrid>
                <a:gridCol w="1242360"/>
                <a:gridCol w="1294920"/>
                <a:gridCol w="1425960"/>
                <a:gridCol w="2589840"/>
              </a:tblGrid>
              <a:tr h="30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M E</a:t>
                      </a:r>
                      <a:r>
                        <a:rPr b="1" lang="es-ES_tradnl" sz="1200" spc="-1" strike="noStrike" baseline="-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INCRE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REFER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NFI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A PASTOR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GANADO BOV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Blaxter (196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rbett et al (196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Reid (195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Wallace (195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7.0-10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2.2-10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Hutton (196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OVI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Blaxter (196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nglands et al (196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9.6-1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2.7-9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op and Hill (196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mbourne and Reardon (196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0.0-7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Young and Corbett (197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Osuji (197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APRI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5-50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RC (198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chica et al. (199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chica et al. (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chica et al. (unpublished 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.7-1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8.1-6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chica et al. (unpublished 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-122400" y="699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85800" y="1819440"/>
          <a:ext cx="7696080" cy="391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19440"/>
                    <a:ext cx="7696080" cy="39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133720" y="2133720"/>
            <a:ext cx="5790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3808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DRO  3 .  REQUERIMIENTO DE MANTENCIÓN PARA OVEJA EN PASTOREO (MJ ME/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85800" y="1981080"/>
          <a:ext cx="7848720" cy="409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84872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04920" y="380880"/>
            <a:ext cx="8534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DRO 4.  REQUERIMIENTO DE ME PARA CAPONES Y CORDEROS (MJ ME/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80880" y="2362320"/>
          <a:ext cx="8305920" cy="333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30592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57200" y="68580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DRO  5.  REQUERIMIENTO DE ME PARA BORREGAS (MJ ME/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0880" y="2590920"/>
          <a:ext cx="7963200" cy="240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90920"/>
                    <a:ext cx="796320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533520" y="68580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DRO 6.  REQUERIMIENTO DE EM PARA GANACIA DE PESO EN OVEJAS ADULTAS (MJ/ME/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33520" y="2895480"/>
          <a:ext cx="786744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95480"/>
                    <a:ext cx="786744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09480" y="457200"/>
            <a:ext cx="80773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UADRO 7.  ME REQUERIDA (MJ/ME/d) DURANTE PREÑEZ POR OVEJAS  Y VACAS ADICIONALES A LOS REQUERIMIENTOS DE MANTENCIÓN, PARA UN CORDERO DE PESO DE NACIMIENTO DE 4 kg Y PARA UN TERNERO CUYO PESO DE NA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 40 k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609480" y="2286000"/>
          <a:ext cx="735336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7353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533520" y="53352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DRO 8.  PESO DEL UTERO GRÁVIDO PARA OVEJAS Y VA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9092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905120"/>
            <a:ext cx="8588160" cy="44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aumont, R. ; Prache, S. ; Meuret, M. ; Morand- Fehr, P. 2000. How forages characteristics influence behaviour and intake in small ruminants : a reviuw. Livestock Production Science. 64 : 15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pra. 2003. Comportamiento de las cabras en pastoreo. www. Capra.iespana.es./capra/pastoreo/past1.htm( consultada 06-05-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empien, C. 1996. La pradera en los sistemas de producción ovina. En Praderas para Chile. 2ª Ed. Ignacio Ruiz Ed. pp 665-678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empien, C. 1999. Nuevas tecnologías en producción ovina para el secano mediterráneo. Crempien, C. Ed. Instituto de Investigaciones Agropecuarias. 162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col, A. M. 1987. Feeding livestock on pasture. New Zealand Society of Animal Production. Occasional Publishing Nº 10. 145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ciro. 1990. Ruminants. Feeding standards for Australian livestocks. 266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87640" y="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EM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83059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.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CONTROL DE LA ING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ROL DE LAS CARACTERÍSTICAS DE LAS PLANTAS EN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   INGESTIBILIDAD DEL FORRA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4. CARACTERÍSTICAS DE LA VEGETACIÓN Y CONDUC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PASTOR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5. ESTRATEGÍAS DE PASTOREO DEL ANIM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6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COMO EL HOMBRE PUEDE MODIFICAR EL PASTOREO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    ANIM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7. OTROS FACTORES QUE  PUEDEN MODIFICAR LA INGES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FORRAJ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8. REQUERIMIENTOS DE ENERGÍA METABOLIZABLE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ISTINTOS PERÍODOS FISIOLÓG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9. 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80880"/>
            <a:ext cx="792504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A) INGESTA POT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Determinada por:  Tamaño corp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        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Estado Fisi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Especie, raza, edad, estado corp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Peso Estándar de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La  ingesta potencial es modificada p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Enferm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Factores climáticos: Zona de termoneutralida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                                   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Tipo de ais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Actividad metab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                                  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Calidad de la 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60280"/>
            <a:ext cx="807696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)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INGESTA RELATIVA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terminada por: Composición quí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tructura física de la pra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peo de la vegeta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Diges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Proporción de hojas v/s ta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Proporción de paredes cel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ección de forrajes: Sabor, olor, 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ponibilidad de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imentación en la pr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72400" y="5638680"/>
            <a:ext cx="838080" cy="8906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90640"/>
              <a:gd name="textAreaBottom" fmla="*/ 836640 h 890640"/>
            </a:gdLst>
            <a:ahLst/>
            <a:rect l="textAreaLeft" t="textAreaTop" r="textAreaRight" b="textAreaBottom"/>
            <a:pathLst>
              <a:path w="21600" h="22954">
                <a:moveTo>
                  <a:pt x="0" y="0"/>
                </a:moveTo>
                <a:lnTo>
                  <a:pt x="21600" y="0"/>
                </a:lnTo>
                <a:lnTo>
                  <a:pt x="21600" y="22954"/>
                </a:lnTo>
                <a:lnTo>
                  <a:pt x="0" y="22954"/>
                </a:lnTo>
                <a:close/>
              </a:path>
              <a:path fill="lightenLess" w="21600" h="229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4">
                <a:moveTo>
                  <a:pt x="21600" y="0"/>
                </a:moveTo>
                <a:lnTo>
                  <a:pt x="21600" y="22954"/>
                </a:lnTo>
                <a:lnTo>
                  <a:pt x="20200" y="21554"/>
                </a:lnTo>
                <a:lnTo>
                  <a:pt x="20200" y="1400"/>
                </a:lnTo>
                <a:close/>
              </a:path>
              <a:path fill="darkenLess" w="21600" h="22954">
                <a:moveTo>
                  <a:pt x="21600" y="22954"/>
                </a:moveTo>
                <a:lnTo>
                  <a:pt x="0" y="22954"/>
                </a:lnTo>
                <a:lnTo>
                  <a:pt x="1400" y="21554"/>
                </a:lnTo>
                <a:lnTo>
                  <a:pt x="20200" y="21554"/>
                </a:lnTo>
                <a:close/>
              </a:path>
              <a:path fill="lighten" w="21600" h="22954">
                <a:moveTo>
                  <a:pt x="0" y="229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4"/>
                </a:lnTo>
                <a:close/>
              </a:path>
              <a:path fill="darken" w="21600" h="22954">
                <a:moveTo>
                  <a:pt x="3794" y="8170"/>
                </a:moveTo>
                <a:lnTo>
                  <a:pt x="7301" y="8170"/>
                </a:lnTo>
                <a:lnTo>
                  <a:pt x="7301" y="13505"/>
                </a:lnTo>
                <a:cubicBezTo>
                  <a:pt x="7301" y="14428"/>
                  <a:pt x="8102" y="15159"/>
                  <a:pt x="9138" y="15159"/>
                </a:cubicBezTo>
                <a:lnTo>
                  <a:pt x="10800" y="15159"/>
                </a:lnTo>
                <a:cubicBezTo>
                  <a:pt x="11836" y="15159"/>
                  <a:pt x="12636" y="14428"/>
                  <a:pt x="12636" y="13505"/>
                </a:cubicBezTo>
                <a:lnTo>
                  <a:pt x="12636" y="8170"/>
                </a:lnTo>
                <a:lnTo>
                  <a:pt x="10800" y="8170"/>
                </a:lnTo>
                <a:lnTo>
                  <a:pt x="14308" y="4662"/>
                </a:lnTo>
                <a:lnTo>
                  <a:pt x="17981" y="8170"/>
                </a:lnTo>
                <a:lnTo>
                  <a:pt x="16144" y="8170"/>
                </a:lnTo>
                <a:lnTo>
                  <a:pt x="16144" y="13505"/>
                </a:lnTo>
                <a:cubicBezTo>
                  <a:pt x="16144" y="16273"/>
                  <a:pt x="13568" y="18832"/>
                  <a:pt x="10800" y="18832"/>
                </a:cubicBezTo>
                <a:lnTo>
                  <a:pt x="9138" y="18832"/>
                </a:lnTo>
                <a:cubicBezTo>
                  <a:pt x="6370" y="18832"/>
                  <a:pt x="3794" y="16273"/>
                  <a:pt x="3794" y="1350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43040" y="2095560"/>
          <a:ext cx="765792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2095560"/>
                    <a:ext cx="76579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61880" y="333360"/>
            <a:ext cx="8218440" cy="1608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GURA 1.  RELACIÓN ENTRE LAS CARACTERÍSTICAS DEL FORRAJE, MECANISMOS DE CONTROL DE LA INGESTA DE CORTO PLAZO, CONDUCTA EN LA ALIMENTACIÓN E INGESTIBILIDAD DEL FORR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05920" y="5867280"/>
            <a:ext cx="609480" cy="73836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38360"/>
              <a:gd name="textAreaBottom" fmla="*/ 699120 h 738360"/>
            </a:gdLst>
            <a:ahLst/>
            <a:rect l="textAreaLeft" t="textAreaTop" r="textAreaRight" b="textAreaBottom"/>
            <a:pathLst>
              <a:path w="21600" h="26165">
                <a:moveTo>
                  <a:pt x="0" y="0"/>
                </a:moveTo>
                <a:lnTo>
                  <a:pt x="21600" y="0"/>
                </a:lnTo>
                <a:lnTo>
                  <a:pt x="21600" y="26165"/>
                </a:lnTo>
                <a:lnTo>
                  <a:pt x="0" y="26165"/>
                </a:lnTo>
                <a:close/>
              </a:path>
              <a:path fill="lightenLess" w="21600" h="261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65">
                <a:moveTo>
                  <a:pt x="21600" y="0"/>
                </a:moveTo>
                <a:lnTo>
                  <a:pt x="21600" y="26165"/>
                </a:lnTo>
                <a:lnTo>
                  <a:pt x="20200" y="24765"/>
                </a:lnTo>
                <a:lnTo>
                  <a:pt x="20200" y="1400"/>
                </a:lnTo>
                <a:close/>
              </a:path>
              <a:path fill="darkenLess" w="21600" h="26165">
                <a:moveTo>
                  <a:pt x="21600" y="26165"/>
                </a:moveTo>
                <a:lnTo>
                  <a:pt x="0" y="26165"/>
                </a:lnTo>
                <a:lnTo>
                  <a:pt x="1400" y="24765"/>
                </a:lnTo>
                <a:lnTo>
                  <a:pt x="20200" y="24765"/>
                </a:lnTo>
                <a:close/>
              </a:path>
              <a:path fill="lighten" w="21600" h="26165">
                <a:moveTo>
                  <a:pt x="0" y="261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65"/>
                </a:lnTo>
                <a:close/>
              </a:path>
              <a:path fill="darken" w="21600" h="26165">
                <a:moveTo>
                  <a:pt x="3794" y="9775"/>
                </a:moveTo>
                <a:lnTo>
                  <a:pt x="7301" y="9775"/>
                </a:lnTo>
                <a:lnTo>
                  <a:pt x="7301" y="15110"/>
                </a:lnTo>
                <a:cubicBezTo>
                  <a:pt x="7301" y="16033"/>
                  <a:pt x="8102" y="16764"/>
                  <a:pt x="9138" y="16764"/>
                </a:cubicBezTo>
                <a:lnTo>
                  <a:pt x="10800" y="16764"/>
                </a:lnTo>
                <a:cubicBezTo>
                  <a:pt x="11836" y="16764"/>
                  <a:pt x="12636" y="16033"/>
                  <a:pt x="12636" y="15110"/>
                </a:cubicBezTo>
                <a:lnTo>
                  <a:pt x="12636" y="9775"/>
                </a:lnTo>
                <a:lnTo>
                  <a:pt x="10800" y="9775"/>
                </a:lnTo>
                <a:lnTo>
                  <a:pt x="14308" y="6267"/>
                </a:lnTo>
                <a:lnTo>
                  <a:pt x="17981" y="9775"/>
                </a:lnTo>
                <a:lnTo>
                  <a:pt x="16144" y="9775"/>
                </a:lnTo>
                <a:lnTo>
                  <a:pt x="16144" y="15110"/>
                </a:lnTo>
                <a:cubicBezTo>
                  <a:pt x="16144" y="17878"/>
                  <a:pt x="13568" y="20437"/>
                  <a:pt x="10800" y="20437"/>
                </a:cubicBezTo>
                <a:lnTo>
                  <a:pt x="9138" y="20437"/>
                </a:lnTo>
                <a:cubicBezTo>
                  <a:pt x="6370" y="20437"/>
                  <a:pt x="3794" y="17878"/>
                  <a:pt x="3794" y="1511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26920" y="2133720"/>
          <a:ext cx="7705800" cy="38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33720"/>
                    <a:ext cx="77058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53352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GURA 2.  MÉTODO DE SELECCIÓN DE UN NUEVO FORRAJE POR OVINOS Y CAPR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01000" y="57150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IGURA 3.  MODELO MENÚ. EL PASTOR PUEDE INTERVENIR EN LA CONDUCTA DE PASTOREO DEL REB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26920" y="1231920"/>
            <a:ext cx="4824720" cy="4392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2276640"/>
            <a:ext cx="0" cy="2952720"/>
          </a:xfrm>
          <a:prstGeom prst="line">
            <a:avLst/>
          </a:prstGeom>
          <a:ln w="5724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70028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91628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5373720"/>
            <a:ext cx="0" cy="360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5950080"/>
            <a:ext cx="4897440" cy="0"/>
          </a:xfrm>
          <a:prstGeom prst="line">
            <a:avLst/>
          </a:prstGeom>
          <a:ln w="5724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616572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ALATABILIDAD INSTÁNTA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6237360"/>
            <a:ext cx="0" cy="288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24360" y="6381720"/>
            <a:ext cx="289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6381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24360" y="2060640"/>
            <a:ext cx="36738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= Mod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= Promoción del apet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C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= Comida Princip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a – Bb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= Efecto Boo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C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= Comida Secunda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= Postre o alta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404640"/>
          <a:ext cx="8353440" cy="634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8353440" cy="634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0"/>
            <a:ext cx="914400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UADRO 1.   INGESTIÓN Y DIGESTIÓN COMPARADA DE TRES RACIONES PARA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VACAS LECHERAS DE 600 kg QUE RECIBEN EL FORRAJE A VOLUNTAD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2960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233280" y="1916280"/>
          <a:ext cx="8675640" cy="408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916280"/>
                    <a:ext cx="867564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609480" y="6858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ADRO 2.  PESO ESTANDAR DE REFERENCIA (K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2960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4:52:26Z</dcterms:created>
  <dc:creator>Norma San Martín</dc:creator>
  <dc:description/>
  <dc:language>en-US</dc:language>
  <cp:lastModifiedBy>Norma</cp:lastModifiedBy>
  <dcterms:modified xsi:type="dcterms:W3CDTF">2008-11-10T08:05:19Z</dcterms:modified>
  <cp:revision>10</cp:revision>
  <dc:subject/>
  <dc:title>Sin título de diapositiva</dc:title>
</cp:coreProperties>
</file>