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1EE9-F10D-4611-815D-EA215D62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0058-AB31-4268-8201-C67324E5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39B9-F28B-4B3F-B284-63D1DADCA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7742-9B7D-4B24-A778-4347BFA0C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EC6A-65A3-4704-9F38-119DBA22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BC7A-CA8B-4D73-9CEB-0EB22F6E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073F-5A0C-48E4-9DBD-D9DA3111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0A66-137B-4295-ADEF-9D12BD0D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70E5-E255-4CD3-BABE-D3799EA8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12EA-2998-4B85-9FE1-15C2C834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CD56-F2EA-4066-A91B-A1C8B841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0507-6BFD-4F5D-89FB-25CC0597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8E2E-B023-43E0-8D98-D56276B5C54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250920" y="620640"/>
          <a:ext cx="630000" cy="12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620640"/>
                    <a:ext cx="6300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0" y="5697360"/>
            <a:ext cx="45720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Patricio Pérez 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Departamento de Fomento de la Producción Ani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Facultad de Ciencias Veterinarias y Pecua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47628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6600"/>
                </a:solidFill>
                <a:latin typeface="Arial Black"/>
              </a:rPr>
              <a:t>FACTORES QUE INCIDEN EN EL CONSUMO DE FORRAJES REALIZADOS POR OVINOS Y CAPRI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95280" y="-464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EQUERIMIENTO DE ENERGÍA PARA MANTENCIÓN (ME) EN RUMIANTES EN SITUACIÓN EN CONFINAMIENTO Y PASTORE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42920" y="820800"/>
          <a:ext cx="6553080" cy="6037200"/>
        </p:xfrm>
        <a:graphic>
          <a:graphicData uri="http://schemas.openxmlformats.org/drawingml/2006/table">
            <a:tbl>
              <a:tblPr/>
              <a:tblGrid>
                <a:gridCol w="1242360"/>
                <a:gridCol w="1294920"/>
                <a:gridCol w="1425960"/>
                <a:gridCol w="2589840"/>
              </a:tblGrid>
              <a:tr h="30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M E</a:t>
                      </a:r>
                      <a:r>
                        <a:rPr b="1" lang="es-ES_tradnl" sz="1200" spc="-1" strike="noStrike" baseline="-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INCRE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REFER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NFIN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A PASTOR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GANADO BOVI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Blaxter (196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rbett et al (196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7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Reid (195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88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7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Wallace (195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77.0-104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2.2-106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Hutton (196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OVI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Blaxter (196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6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8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5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Langlands et al (196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9.6-1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62.7-9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op and Hill (196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8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49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Lambourne and Reardon (196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60.0-7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Young and Corbett (197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Osuji (197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APRI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5-50-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RC (198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Lachica et al. (199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5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Lachica et al. (19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4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Lachica et al. (unpublished 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8.7-1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8.1-68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Lachica et al. (unpublished 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-122400" y="699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85800" y="1819440"/>
          <a:ext cx="7696080" cy="391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19440"/>
                    <a:ext cx="7696080" cy="39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2133720" y="2133720"/>
            <a:ext cx="5790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3808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ADRO  3 .  REQUERIMIENTO DE MANTENCIÓN PARA OVEJA EN PASTOREO (MJ ME/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685800" y="1981080"/>
          <a:ext cx="7848720" cy="409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84872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304920" y="380880"/>
            <a:ext cx="8534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ADRO 4.  REQUERIMIENTO DE ME PARA CAPONES Y CORDEROS (MJ ME/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380880" y="2362320"/>
          <a:ext cx="8305920" cy="333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30592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457200" y="685800"/>
            <a:ext cx="8077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ADRO  5.  REQUERIMIENTO DE ME PARA BORREGAS (MJ ME/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80880" y="2590920"/>
          <a:ext cx="7963200" cy="240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590920"/>
                    <a:ext cx="7963200" cy="24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533520" y="685800"/>
            <a:ext cx="8229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ADRO 6.  REQUERIMIENTO DE EM PARA GANACIA DE PESO EN OVEJAS ADULTAS (MJ/ME/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533520" y="2895480"/>
          <a:ext cx="786744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895480"/>
                    <a:ext cx="786744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609480" y="457200"/>
            <a:ext cx="80773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UADRO 7.  ME REQUERIDA (MJ/ME/d) DURANTE PREÑEZ POR OVEJAS  Y VACAS ADICIONALES A LOS REQUERIMIENTOS DE MANTENCIÓN, PARA UN CORDERO DE PESO DE NACIMIENTO DE 4 kg Y PARA UN TERNERO CUYO PESO DE NAC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DE 40 k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609480" y="2286000"/>
          <a:ext cx="735336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0"/>
                    <a:ext cx="73533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533520" y="533520"/>
            <a:ext cx="8153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ADRO 8.  PESO DEL UTERO GRÁVIDO PARA OVEJAS Y VA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90920" y="914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BLI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1905120"/>
            <a:ext cx="8588160" cy="44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aumont, R. ; Prache, S. ; Meuret, M. ; Morand- Fehr, P. 2000. How forages characteristics influence behaviour and intake in small ruminants : a reviuw. Livestock Production Science. 64 : 15-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apra. 2003. Comportamiento de las cabras en pastoreo. www. Capra.iespana.es./capra/pastoreo/past1.htm( consultada 06-05-20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rempien, C. 1996. La pradera en los sistemas de producción ovina. En Praderas para Chile. 2ª Ed. Ignacio Ruiz Ed. pp 665-678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rempien, C. 1999. Nuevas tecnologías en producción ovina para el secano mediterráneo. Crempien, C. Ed. Instituto de Investigaciones Agropecuarias. 162 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icol, A. M. 1987. Feeding livestock on pasture. New Zealand Society of Animal Production. Occasional Publishing Nº 10. 145 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ciro. 1990. Ruminants. Feeding standards for Australian livestocks. 266 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987640" y="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TEMAR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830592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1.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.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CONTROL DE LA INGE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3.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ROL DE LAS CARACTERÍSTICAS DE LAS PLANTAS EN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   INGESTIBILIDAD DEL FORRAJ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4. CARACTERÍSTICAS DE LA VEGETACIÓN Y CONDUC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PASTORE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5. ESTRATEGÍAS DE PASTOREO DEL ANIM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6.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COMO EL HOMBRE PUEDE MODIFICAR EL PASTOREO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    ANIM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7. OTROS FACTORES QUE  PUEDEN MODIFICAR LA INGES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FORRAJ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8. REQUERIMIENTOS DE ENERGÍA METABOLIZABLE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DISTINTOS PERÍODOS FISIOLÓG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9. BIBLIOGRAF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380880"/>
            <a:ext cx="7925040" cy="71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A) INGESTA POT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Determinada por:  Tamaño corp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          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Estado Fisi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Especie, raza, edad, estado corp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Peso Estándar de 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La  ingesta potencial es modificada p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Enferme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Factores climáticos: Zona de termoneutralida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                                     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Tipo de ais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         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Actividad metabó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                                    </a:t>
            </a:r>
            <a:r>
              <a:rPr b="1" lang="es-ES_tradnl" sz="2400" spc="-1" strike="noStrike">
                <a:solidFill>
                  <a:srgbClr val="ff9933"/>
                </a:solidFill>
                <a:latin typeface="Arial"/>
              </a:rPr>
              <a:t>Calidad de la di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260280"/>
            <a:ext cx="807696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) </a:t>
            </a: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INGESTA RELATIVA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terminada por: Composición quí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structura física de la prad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peo de la vegetació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Diges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Proporción de hojas v/s ta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Proporción de paredes cel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lección de forrajes: Sabor, olor, t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ponibilidad de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ple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imentación en la prá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772400" y="5638680"/>
            <a:ext cx="838080" cy="8906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90640"/>
              <a:gd name="textAreaBottom" fmla="*/ 836640 h 890640"/>
            </a:gdLst>
            <a:ahLst/>
            <a:rect l="textAreaLeft" t="textAreaTop" r="textAreaRight" b="textAreaBottom"/>
            <a:pathLst>
              <a:path w="21600" h="22954">
                <a:moveTo>
                  <a:pt x="0" y="0"/>
                </a:moveTo>
                <a:lnTo>
                  <a:pt x="21600" y="0"/>
                </a:lnTo>
                <a:lnTo>
                  <a:pt x="21600" y="22954"/>
                </a:lnTo>
                <a:lnTo>
                  <a:pt x="0" y="22954"/>
                </a:lnTo>
                <a:close/>
              </a:path>
              <a:path fill="lightenLess" w="21600" h="229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54">
                <a:moveTo>
                  <a:pt x="21600" y="0"/>
                </a:moveTo>
                <a:lnTo>
                  <a:pt x="21600" y="22954"/>
                </a:lnTo>
                <a:lnTo>
                  <a:pt x="20200" y="21554"/>
                </a:lnTo>
                <a:lnTo>
                  <a:pt x="20200" y="1400"/>
                </a:lnTo>
                <a:close/>
              </a:path>
              <a:path fill="darkenLess" w="21600" h="22954">
                <a:moveTo>
                  <a:pt x="21600" y="22954"/>
                </a:moveTo>
                <a:lnTo>
                  <a:pt x="0" y="22954"/>
                </a:lnTo>
                <a:lnTo>
                  <a:pt x="1400" y="21554"/>
                </a:lnTo>
                <a:lnTo>
                  <a:pt x="20200" y="21554"/>
                </a:lnTo>
                <a:close/>
              </a:path>
              <a:path fill="lighten" w="21600" h="22954">
                <a:moveTo>
                  <a:pt x="0" y="229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54"/>
                </a:lnTo>
                <a:close/>
              </a:path>
              <a:path fill="darken" w="21600" h="22954">
                <a:moveTo>
                  <a:pt x="3794" y="8170"/>
                </a:moveTo>
                <a:lnTo>
                  <a:pt x="7301" y="8170"/>
                </a:lnTo>
                <a:lnTo>
                  <a:pt x="7301" y="13505"/>
                </a:lnTo>
                <a:cubicBezTo>
                  <a:pt x="7301" y="14428"/>
                  <a:pt x="8102" y="15159"/>
                  <a:pt x="9138" y="15159"/>
                </a:cubicBezTo>
                <a:lnTo>
                  <a:pt x="10800" y="15159"/>
                </a:lnTo>
                <a:cubicBezTo>
                  <a:pt x="11836" y="15159"/>
                  <a:pt x="12636" y="14428"/>
                  <a:pt x="12636" y="13505"/>
                </a:cubicBezTo>
                <a:lnTo>
                  <a:pt x="12636" y="8170"/>
                </a:lnTo>
                <a:lnTo>
                  <a:pt x="10800" y="8170"/>
                </a:lnTo>
                <a:lnTo>
                  <a:pt x="14308" y="4662"/>
                </a:lnTo>
                <a:lnTo>
                  <a:pt x="17981" y="8170"/>
                </a:lnTo>
                <a:lnTo>
                  <a:pt x="16144" y="8170"/>
                </a:lnTo>
                <a:lnTo>
                  <a:pt x="16144" y="13505"/>
                </a:lnTo>
                <a:cubicBezTo>
                  <a:pt x="16144" y="16273"/>
                  <a:pt x="13568" y="18832"/>
                  <a:pt x="10800" y="18832"/>
                </a:cubicBezTo>
                <a:lnTo>
                  <a:pt x="9138" y="18832"/>
                </a:lnTo>
                <a:cubicBezTo>
                  <a:pt x="6370" y="18832"/>
                  <a:pt x="3794" y="16273"/>
                  <a:pt x="3794" y="13505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43040" y="2095560"/>
          <a:ext cx="765792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2095560"/>
                    <a:ext cx="765792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461880" y="333360"/>
            <a:ext cx="8218440" cy="1608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IGURA 1.  RELACIÓN ENTRE LAS CARACTERÍSTICAS DEL FORRAJE, MECANISMOS DE CONTROL DE LA INGESTA DE CORTO PLAZO, CONDUCTA EN LA ALIMENTACIÓN E INGESTIBILIDAD DEL FORR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05920" y="5867280"/>
            <a:ext cx="609480" cy="73836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738360"/>
              <a:gd name="textAreaBottom" fmla="*/ 699120 h 738360"/>
            </a:gdLst>
            <a:ahLst/>
            <a:rect l="textAreaLeft" t="textAreaTop" r="textAreaRight" b="textAreaBottom"/>
            <a:pathLst>
              <a:path w="21600" h="26165">
                <a:moveTo>
                  <a:pt x="0" y="0"/>
                </a:moveTo>
                <a:lnTo>
                  <a:pt x="21600" y="0"/>
                </a:lnTo>
                <a:lnTo>
                  <a:pt x="21600" y="26165"/>
                </a:lnTo>
                <a:lnTo>
                  <a:pt x="0" y="26165"/>
                </a:lnTo>
                <a:close/>
              </a:path>
              <a:path fill="lightenLess" w="21600" h="261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65">
                <a:moveTo>
                  <a:pt x="21600" y="0"/>
                </a:moveTo>
                <a:lnTo>
                  <a:pt x="21600" y="26165"/>
                </a:lnTo>
                <a:lnTo>
                  <a:pt x="20200" y="24765"/>
                </a:lnTo>
                <a:lnTo>
                  <a:pt x="20200" y="1400"/>
                </a:lnTo>
                <a:close/>
              </a:path>
              <a:path fill="darkenLess" w="21600" h="26165">
                <a:moveTo>
                  <a:pt x="21600" y="26165"/>
                </a:moveTo>
                <a:lnTo>
                  <a:pt x="0" y="26165"/>
                </a:lnTo>
                <a:lnTo>
                  <a:pt x="1400" y="24765"/>
                </a:lnTo>
                <a:lnTo>
                  <a:pt x="20200" y="24765"/>
                </a:lnTo>
                <a:close/>
              </a:path>
              <a:path fill="lighten" w="21600" h="26165">
                <a:moveTo>
                  <a:pt x="0" y="261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65"/>
                </a:lnTo>
                <a:close/>
              </a:path>
              <a:path fill="darken" w="21600" h="26165">
                <a:moveTo>
                  <a:pt x="3794" y="9775"/>
                </a:moveTo>
                <a:lnTo>
                  <a:pt x="7301" y="9775"/>
                </a:lnTo>
                <a:lnTo>
                  <a:pt x="7301" y="15110"/>
                </a:lnTo>
                <a:cubicBezTo>
                  <a:pt x="7301" y="16033"/>
                  <a:pt x="8102" y="16764"/>
                  <a:pt x="9138" y="16764"/>
                </a:cubicBezTo>
                <a:lnTo>
                  <a:pt x="10800" y="16764"/>
                </a:lnTo>
                <a:cubicBezTo>
                  <a:pt x="11836" y="16764"/>
                  <a:pt x="12636" y="16033"/>
                  <a:pt x="12636" y="15110"/>
                </a:cubicBezTo>
                <a:lnTo>
                  <a:pt x="12636" y="9775"/>
                </a:lnTo>
                <a:lnTo>
                  <a:pt x="10800" y="9775"/>
                </a:lnTo>
                <a:lnTo>
                  <a:pt x="14308" y="6267"/>
                </a:lnTo>
                <a:lnTo>
                  <a:pt x="17981" y="9775"/>
                </a:lnTo>
                <a:lnTo>
                  <a:pt x="16144" y="9775"/>
                </a:lnTo>
                <a:lnTo>
                  <a:pt x="16144" y="15110"/>
                </a:lnTo>
                <a:cubicBezTo>
                  <a:pt x="16144" y="17878"/>
                  <a:pt x="13568" y="20437"/>
                  <a:pt x="10800" y="20437"/>
                </a:cubicBezTo>
                <a:lnTo>
                  <a:pt x="9138" y="20437"/>
                </a:lnTo>
                <a:cubicBezTo>
                  <a:pt x="6370" y="20437"/>
                  <a:pt x="3794" y="17878"/>
                  <a:pt x="3794" y="1511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26920" y="2133720"/>
          <a:ext cx="7705800" cy="381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133720"/>
                    <a:ext cx="770580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533520" y="53352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GURA 2.  MÉTODO DE SELECCIÓN DE UN NUEVO FORRAJE POR OVINOS Y CAPR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01000" y="57150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0"/>
            <a:ext cx="7772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FIGURA 3.  MODELO MENÚ. EL PASTOR PUEDE INTERVENIR EN LA CONDUCTA DE PASTOREO DEL REBAÑ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26920" y="1231920"/>
            <a:ext cx="4824720" cy="4392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9640" y="2276640"/>
            <a:ext cx="0" cy="2952720"/>
          </a:xfrm>
          <a:prstGeom prst="line">
            <a:avLst/>
          </a:prstGeom>
          <a:ln w="5724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700280"/>
            <a:ext cx="0" cy="431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916280"/>
            <a:ext cx="431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5373720"/>
            <a:ext cx="0" cy="360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5950080"/>
            <a:ext cx="4897440" cy="0"/>
          </a:xfrm>
          <a:prstGeom prst="line">
            <a:avLst/>
          </a:prstGeom>
          <a:ln w="5724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71640" y="616572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PALATABILIDAD INSTÁNTA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6237360"/>
            <a:ext cx="0" cy="288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24360" y="6381720"/>
            <a:ext cx="289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6381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24360" y="2060640"/>
            <a:ext cx="36738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= Mod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= Promoción del apeti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C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= Comida Princip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a – Bb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= Efecto Boo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C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= Comida Secunda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= Postre o alta 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50920" y="404640"/>
          <a:ext cx="8353440" cy="634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4640"/>
                    <a:ext cx="8353440" cy="634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0" y="0"/>
            <a:ext cx="914400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UADRO 1.   INGESTIÓN Y DIGESTIÓN COMPARADA DE TRES RACIONES PARA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VACAS LECHERAS DE 600 kg QUE RECIBEN EL FORRAJE A VOLUNTAD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229600" y="6019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7493"/>
                </a:moveTo>
                <a:lnTo>
                  <a:pt x="8653" y="7493"/>
                </a:lnTo>
                <a:lnTo>
                  <a:pt x="8653" y="12828"/>
                </a:lnTo>
                <a:cubicBezTo>
                  <a:pt x="8653" y="13751"/>
                  <a:pt x="9453" y="14482"/>
                  <a:pt x="10489" y="14482"/>
                </a:cubicBezTo>
                <a:lnTo>
                  <a:pt x="12152" y="14482"/>
                </a:lnTo>
                <a:cubicBezTo>
                  <a:pt x="13187" y="14482"/>
                  <a:pt x="13988" y="13751"/>
                  <a:pt x="13988" y="12828"/>
                </a:cubicBezTo>
                <a:lnTo>
                  <a:pt x="13988" y="7493"/>
                </a:lnTo>
                <a:lnTo>
                  <a:pt x="12152" y="7493"/>
                </a:lnTo>
                <a:lnTo>
                  <a:pt x="15659" y="3985"/>
                </a:lnTo>
                <a:lnTo>
                  <a:pt x="19332" y="7493"/>
                </a:lnTo>
                <a:lnTo>
                  <a:pt x="17496" y="7493"/>
                </a:lnTo>
                <a:lnTo>
                  <a:pt x="17496" y="12828"/>
                </a:lnTo>
                <a:cubicBezTo>
                  <a:pt x="17496" y="15596"/>
                  <a:pt x="14919" y="18155"/>
                  <a:pt x="12152" y="18155"/>
                </a:cubicBezTo>
                <a:lnTo>
                  <a:pt x="10489" y="18155"/>
                </a:lnTo>
                <a:cubicBezTo>
                  <a:pt x="7721" y="18155"/>
                  <a:pt x="5145" y="15596"/>
                  <a:pt x="5145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233280" y="1916280"/>
          <a:ext cx="8675640" cy="408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1916280"/>
                    <a:ext cx="8675640" cy="40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609480" y="68580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UADRO 2.  PESO ESTANDAR DE REFERENCIA (K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29600" y="58672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4:52:26Z</dcterms:created>
  <dc:creator>Norma San Martín</dc:creator>
  <dc:description/>
  <dc:language>en-US</dc:language>
  <cp:lastModifiedBy>Norma</cp:lastModifiedBy>
  <dcterms:modified xsi:type="dcterms:W3CDTF">2008-11-10T08:05:19Z</dcterms:modified>
  <cp:revision>10</cp:revision>
  <dc:subject/>
  <dc:title>Sin título de diapositiva</dc:title>
</cp:coreProperties>
</file>