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BOLIDO.WAV" ContentType="audio/x-wav"/>
  <Override PartName="/ppt/media/BOMBA.WAV" ContentType="audio/x-wav"/>
  <Override PartName="/ppt/media/APLAUSO.WAV" ContentType="audio/x-wav"/>
  <Override PartName="/ppt/media/image2.wmf" ContentType="image/x-wmf"/>
  <Override PartName="/ppt/media/CLIC.WAV" ContentType="audio/x-wav"/>
  <Override PartName="/ppt/media/image3.wmf" ContentType="image/x-wmf"/>
  <Override PartName="/ppt/media/ARPEGIO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500-31A8-434D-BA74-A75F4873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898-3E00-4F11-926C-31579A6B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507-8296-470A-A345-0D4A8AB6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87D-A23A-401B-84C4-64E26692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795-B3FD-4214-964E-66266BD6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866-583B-4B82-9426-48E7D814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29E-D79D-4852-B44C-CA34084D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669-EB5C-48CC-B31A-612EB384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9D8-2026-4054-B799-2C7A5406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AC9-FFF3-4D19-8447-C4901477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DED-572F-4131-9E10-32D0B890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314B-5891-48E7-9AB7-24668527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C500-1655-40A9-93D0-2E801D863928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RPEGIO.WAV"/><Relationship Id="rId3" Type="http://schemas.openxmlformats.org/officeDocument/2006/relationships/audio" Target="../media/BOMB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OLIDO.WAV"/><Relationship Id="rId3" Type="http://schemas.openxmlformats.org/officeDocument/2006/relationships/audio" Target="../media/APLAUSO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ductividad prima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rcicio teór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ponentes de la Productividad Brut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2514600"/>
          <a:ext cx="77724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724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ductividad Bru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.795,45 kg glucosa x 3.994,4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35.132.545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é representa esta cifra? (PB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62160" cy="295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52800" y="50292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OTOSÍNTESIS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PEGI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III.- Energía gastada en evapotranspiració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itros de agua evapor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000 kg ms x 250 l. = 1.500.000 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consumi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500.000 x 593 kcal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889.500.000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V.- Energía recibida en el terren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500 cal/cm2/día x 10.000 cm2)/1000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000 Kcal/m2/d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100 días y en 4.000 m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Disponib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00 x 4.000 x 5.000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2 x 10</a:t>
            </a:r>
            <a:r>
              <a:rPr b="0" lang="es-ES_tradnl" sz="3200" spc="-1" strike="noStrike" baseline="30000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m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omas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.000 kg ms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. Ne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6.624.700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pir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8. 068.073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. Bruta (asimilación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5.132.545 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nspir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889.500.000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ingresa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24.632.545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disponibl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 x 10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2971800"/>
            <a:ext cx="121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5638680"/>
            <a:ext cx="121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638680"/>
            <a:ext cx="76212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4648320"/>
            <a:ext cx="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4267080"/>
            <a:ext cx="129528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4267080"/>
            <a:ext cx="3200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297180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352680" y="2133720"/>
            <a:ext cx="60984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657600" y="2666520"/>
            <a:ext cx="83808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388620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UJO DE LA ENERGÍ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88620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426708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0480" y="575640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no utili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5280" y="392760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809880"/>
            <a:ext cx="1066680" cy="762120"/>
          </a:xfrm>
          <a:prstGeom prst="irregularSeal1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27672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ingre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74920" y="209880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 de evapotrans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8000" y="38862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411480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411480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77840" y="3774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38098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36520" y="491796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i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ficiencias y Rendimien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U = ED - E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U = 2.000.000.000 - 924.632.5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U = 1.075.367.455 kcal = 53.8% de 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ficiencia d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utiliz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EI/ED) 100 = 46,2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ficiencia d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bsor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A/ ED) 100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1,76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77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1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ndimien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 asimilación: A (PB) /EI = 3,8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 ecológico:    PN/EI        = 2,9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 producción:  PN/ A       = 75.8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érdida respiratoria: R/A  = 22,9%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ecede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rreno de 80 m x 50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ha cosechado al final de 100 días, 10.000 plantas de maí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disponible promedio = 500 ly/día (ly = 1 cal/cm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os necesari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so promedio por planta = 3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enido de agua por planta = 8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rbono por planta = 45% de mat. se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sos molecular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lucosa = 180; CO2 = 44; C =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CO2 + 12H2O =&gt; (710 Kcal) =&gt; C6H12O6 + 6O2 + 6H2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so promedio diario de ms. durante el crecimiento = 1/2 peso seco 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2 perdido en Resp = 1% del peso seco/d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vaporación total 250 li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ergía usada en evaporación = 593 kc /li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arrol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omasa al final del perío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kg de ms. total =&gt; 10.000 x 3 k x 0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6.000 k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g/cm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000.000/4.000m2 =&gt;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1.500 g/ m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I.-Productividad neta en Kc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rbono fijado al final de los 100 dí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.000 k x 0.45 =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2.700 kg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carbo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quivale en glucosa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(C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72g ---------18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700 k -------- 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X =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6.750 kg de gluco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ergía para producir la gluco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mol = 180 g =&gt; 710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k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80g ------------ 710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000g  ----------   X 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3.944,4 kcal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750 kg producidos x 3.944,4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26.624.700 kc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é representa esta cifr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95560" y="1981080"/>
            <a:ext cx="675144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39280" y="385128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TIVIDAD NETA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LAUS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I.-Energía perdida en respir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érdida diaria de CO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so promedio = 3000 k; pérdida = 1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000 x 0.01 = 30 kg/d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todo el período: 30 x 100 = 3.000 k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carbon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2 C en 44 CO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x en 3.000 kg =&gt;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818.18 kg de C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Transformando C en Kc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) Equivalente en glucos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72 C -----------  180 de gluco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818,18 ---------    X =&gt;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X = 2.045,45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) Energía consumida en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respir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045,45 x 3.944,4 =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8. 068.073 Kc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1T23:09:27Z</dcterms:created>
  <dc:creator> </dc:creator>
  <dc:description/>
  <dc:language>en-US</dc:language>
  <cp:lastModifiedBy>U. de Chile</cp:lastModifiedBy>
  <dcterms:modified xsi:type="dcterms:W3CDTF">2005-11-30T19:58:43Z</dcterms:modified>
  <cp:revision>10</cp:revision>
  <dc:subject/>
  <dc:title>Productividad primaria</dc:title>
</cp:coreProperties>
</file>