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BOLIDO.WAV" ContentType="audio/x-wav"/>
  <Override PartName="/ppt/media/BOMBA.WAV" ContentType="audio/x-wav"/>
  <Override PartName="/ppt/media/APLAUSO.WAV" ContentType="audio/x-wav"/>
  <Override PartName="/ppt/media/image2.wmf" ContentType="image/x-wmf"/>
  <Override PartName="/ppt/media/CLIC.WAV" ContentType="audio/x-wav"/>
  <Override PartName="/ppt/media/image3.wmf" ContentType="image/x-wmf"/>
  <Override PartName="/ppt/media/ARPEGIO.WAV" ContentType="audio/x-wav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C4CF9-BA4D-44BF-ADCC-1CB205436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96C90-0AFB-4A56-9859-3D60EDD3B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F6E9B-845E-4192-9FE9-319F07418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D0D3F-5B59-41B5-856D-F4E34A58A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9AA9B-E2FE-4DC7-A8E9-3F80BB33C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3FBD1-39FB-4F55-A542-1AF124AA1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BD169-6AF8-48D3-96AF-005B48739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47BF5-7989-4E80-8442-8303090B4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22AB6-CEDB-4D42-BC30-7DCD775EF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D1450-F4F6-402C-9BA4-01BFC76AD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CCCF5-37A5-4A10-99C0-046EBAFCD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D07C8-FF59-4C8D-B0C3-5CF50D7F7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e"/>
            </a:gs>
            <a:gs pos="50000">
              <a:srgbClr val="0000cc"/>
            </a:gs>
            <a:gs pos="100000">
              <a:srgbClr val="0000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AC411-223C-44F1-8E3F-7DAABB3A5029}" type="slidenum">
              <a:rPr b="0" lang="es-ES_trad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audio" Target="../media/CLIC.WAV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audio" Target="../media/ARPEGIO.WAV"/><Relationship Id="rId3" Type="http://schemas.openxmlformats.org/officeDocument/2006/relationships/audio" Target="../media/BOMBA.WAV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audio" Target="../media/BOLIDO.WAV"/><Relationship Id="rId3" Type="http://schemas.openxmlformats.org/officeDocument/2006/relationships/audio" Target="../media/APLAUSO.WAV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e"/>
            </a:gs>
            <a:gs pos="50000">
              <a:srgbClr val="0000cc"/>
            </a:gs>
            <a:gs pos="100000">
              <a:srgbClr val="0000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roductividad primari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jercicio teóric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e"/>
            </a:gs>
            <a:gs pos="50000">
              <a:srgbClr val="0000cc"/>
            </a:gs>
            <a:gs pos="100000">
              <a:srgbClr val="0000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Componentes de la Productividad Bruta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2514600"/>
          <a:ext cx="7772400" cy="304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14600"/>
                    <a:ext cx="7772400" cy="304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random/>
  </p:transition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e"/>
            </a:gs>
            <a:gs pos="50000">
              <a:srgbClr val="0000cc"/>
            </a:gs>
            <a:gs pos="100000">
              <a:srgbClr val="0000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roductividad Brut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8.795,45 kg glucosa x 3.994,4 kc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00"/>
                </a:solidFill>
                <a:latin typeface="Times New Roman"/>
              </a:rPr>
              <a:t>35.132.545 kc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e"/>
            </a:gs>
            <a:gs pos="50000">
              <a:srgbClr val="0000cc"/>
            </a:gs>
            <a:gs pos="100000">
              <a:srgbClr val="0000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Qué representa esta cifra? (PB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2590920" y="1905120"/>
            <a:ext cx="3962160" cy="295272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3052800" y="5029200"/>
            <a:ext cx="29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FOTOSÍNTESIS 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RPEGI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OMB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e"/>
            </a:gs>
            <a:gs pos="50000">
              <a:srgbClr val="0000cc"/>
            </a:gs>
            <a:gs pos="100000">
              <a:srgbClr val="0000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00"/>
                </a:solidFill>
                <a:latin typeface="Times New Roman"/>
              </a:rPr>
              <a:t>III.- Energía gastada en evapotranspiración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litros de agua evaporado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6.000 kg ms x 250 l. = 1.500.000 l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energía consumida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1.500.000 x 593 kcal = </a:t>
            </a:r>
            <a:r>
              <a:rPr b="0" lang="es-ES_tradnl" sz="3200" spc="-1" strike="noStrike">
                <a:solidFill>
                  <a:srgbClr val="ffff00"/>
                </a:solidFill>
                <a:latin typeface="Times New Roman"/>
              </a:rPr>
              <a:t>889.500.000 kc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e"/>
            </a:gs>
            <a:gs pos="50000">
              <a:srgbClr val="0000cc"/>
            </a:gs>
            <a:gs pos="100000">
              <a:srgbClr val="0000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IV.- Energía recibida en el terreno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(500 cal/cm2/día x 10.000 cm2)/1000 =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5.000 Kcal/m2/dí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En 100 días y en 4.000 m2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Energía Disponibl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100 x 4.000 x 5.000 = </a:t>
            </a:r>
            <a:r>
              <a:rPr b="0" lang="es-ES_tradnl" sz="3200" spc="-1" strike="noStrike">
                <a:solidFill>
                  <a:srgbClr val="ffff00"/>
                </a:solidFill>
                <a:latin typeface="Times New Roman"/>
              </a:rPr>
              <a:t>2 x 10</a:t>
            </a:r>
            <a:r>
              <a:rPr b="0" lang="es-ES_tradnl" sz="3200" spc="-1" strike="noStrike" baseline="30000">
                <a:solidFill>
                  <a:srgbClr val="ffff00"/>
                </a:solidFill>
                <a:latin typeface="Times New Roman"/>
              </a:rPr>
              <a:t>9</a:t>
            </a:r>
            <a:r>
              <a:rPr b="0" lang="es-ES_tradnl" sz="3200" spc="-1" strike="noStrike">
                <a:solidFill>
                  <a:srgbClr val="ffff00"/>
                </a:solidFill>
                <a:latin typeface="Times New Roman"/>
              </a:rPr>
              <a:t> kc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e"/>
            </a:gs>
            <a:gs pos="50000">
              <a:srgbClr val="0000cc"/>
            </a:gs>
            <a:gs pos="100000">
              <a:srgbClr val="0000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Resume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Biomasa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6.000 kg ms  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P. Neta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26.624.700 Kc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Respiración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 8. 068.073 Kc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P. Bruta (asimilación)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35.132.545  Kc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Transpiración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889.500.000 Kc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E ingresada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924.632.545 Kc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E disponible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2 x 10</a:t>
            </a:r>
            <a:r>
              <a:rPr b="0" lang="es-ES_tradnl" sz="2800" spc="-1" strike="noStrike" baseline="30000">
                <a:solidFill>
                  <a:srgbClr val="ffffff"/>
                </a:solidFill>
                <a:latin typeface="Times New Roman"/>
              </a:rPr>
              <a:t>9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        Kc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e"/>
            </a:gs>
            <a:gs pos="50000">
              <a:srgbClr val="0000cc"/>
            </a:gs>
            <a:gs pos="100000">
              <a:srgbClr val="0000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990720" y="2971800"/>
            <a:ext cx="12189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90720" y="5638680"/>
            <a:ext cx="12189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209680" y="5638680"/>
            <a:ext cx="762120" cy="7621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4648320"/>
            <a:ext cx="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286000" y="4267080"/>
            <a:ext cx="1295280" cy="12956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286000" y="4267080"/>
            <a:ext cx="32004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209680" y="2971800"/>
            <a:ext cx="12193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3352680" y="2133720"/>
            <a:ext cx="609840" cy="8380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657600" y="2666520"/>
            <a:ext cx="838080" cy="12193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3886200"/>
            <a:ext cx="1828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LUJO DE LA ENERGÍ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562720" y="3886200"/>
            <a:ext cx="1828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486400" y="4267080"/>
            <a:ext cx="914400" cy="914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30480" y="5756400"/>
            <a:ext cx="187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no utilizad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15280" y="3927600"/>
            <a:ext cx="67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 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3809880"/>
            <a:ext cx="1066680" cy="762120"/>
          </a:xfrm>
          <a:prstGeom prst="irregularSeal1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905120" y="3276720"/>
            <a:ext cx="161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ingresad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174920" y="2098800"/>
            <a:ext cx="235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 de evapotransp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888000" y="3886200"/>
            <a:ext cx="56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38680" y="4114800"/>
            <a:ext cx="914400" cy="914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638680" y="4114800"/>
            <a:ext cx="17528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377840" y="3774960"/>
            <a:ext cx="5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P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001000" y="3809880"/>
            <a:ext cx="609480" cy="228600"/>
          </a:xfrm>
          <a:prstGeom prst="rightArrow">
            <a:avLst>
              <a:gd name="adj1" fmla="val 50000"/>
              <a:gd name="adj2" fmla="val 66654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536520" y="4917960"/>
            <a:ext cx="15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spir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e"/>
            </a:gs>
            <a:gs pos="50000">
              <a:srgbClr val="0000cc"/>
            </a:gs>
            <a:gs pos="100000">
              <a:srgbClr val="0000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ficiencias y Rendimiento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ENU = ED - E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ENU = 2.000.000.000 - 924.632.545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ENU = 1.075.367.455 kcal = 53.8% de 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Eficiencia de </a:t>
            </a:r>
            <a:r>
              <a:rPr b="0" lang="es-ES_tradnl" sz="3200" spc="-1" strike="noStrike">
                <a:solidFill>
                  <a:srgbClr val="ffff00"/>
                </a:solidFill>
                <a:latin typeface="Times New Roman"/>
              </a:rPr>
              <a:t>utilización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(EI/ED) 100 = 46,2 %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Eficiencia de </a:t>
            </a:r>
            <a:r>
              <a:rPr b="0" lang="es-ES_tradnl" sz="3200" spc="-1" strike="noStrike">
                <a:solidFill>
                  <a:srgbClr val="ffff00"/>
                </a:solidFill>
                <a:latin typeface="Times New Roman"/>
              </a:rPr>
              <a:t>absorción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(A/ ED) 100 = </a:t>
            </a:r>
            <a:r>
              <a:rPr b="0" lang="es-ES_tradnl" sz="3200" spc="-1" strike="noStrike">
                <a:solidFill>
                  <a:srgbClr val="ffff00"/>
                </a:solidFill>
                <a:latin typeface="Times New Roman"/>
              </a:rPr>
              <a:t>1,76%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2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0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65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2" dur="5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1" dur="50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2" dur="50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e"/>
            </a:gs>
            <a:gs pos="50000">
              <a:srgbClr val="0000cc"/>
            </a:gs>
            <a:gs pos="100000">
              <a:srgbClr val="0000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Rendimiento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. asimilación: A (PB) /EI = 3,8%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. ecológico:    PN/EI        = 2,9 %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. producción:  PN/ A       = 75.8%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érdida respiratoria: R/A  = 22,9%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e"/>
            </a:gs>
            <a:gs pos="50000">
              <a:srgbClr val="0000cc"/>
            </a:gs>
            <a:gs pos="100000">
              <a:srgbClr val="0000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ntecedent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Terreno de 80 m x 50 m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Se ha cosechado al final de 100 días, 10.000 plantas de maíz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Energía disponible promedio = 500 ly/día (ly = 1 cal/cm2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e"/>
            </a:gs>
            <a:gs pos="50000">
              <a:srgbClr val="0000cc"/>
            </a:gs>
            <a:gs pos="100000">
              <a:srgbClr val="0000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atos necesario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eso promedio por planta = 3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ontenido de agua por planta = 80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arbono por planta = 45% de mat. sec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esos moleculare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glucosa = 180; CO2 = 44; C = 1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6CO2 + 12H2O =&gt; (710 Kcal) =&gt; C6H12O6 + 6O2 + 6H2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eso promedio diario de ms. durante el crecimiento = 1/2 peso seco tot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O2 perdido en Resp = 1% del peso seco/dí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vaporación total 250 litr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nergía usada en evaporación = 593 kc /litr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e"/>
            </a:gs>
            <a:gs pos="50000">
              <a:srgbClr val="0000cc"/>
            </a:gs>
            <a:gs pos="100000">
              <a:srgbClr val="0000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esarroll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Biomasa al final del período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kg de ms. total =&gt; 10.000 x 3 k x 0.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00"/>
                </a:solidFill>
                <a:latin typeface="Times New Roman"/>
              </a:rPr>
              <a:t>6.000 k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en g/cm2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6.000.000/4.000m2 =&gt; </a:t>
            </a:r>
            <a:r>
              <a:rPr b="0" lang="es-ES_tradnl" sz="3200" spc="-1" strike="noStrike">
                <a:solidFill>
                  <a:srgbClr val="ffff00"/>
                </a:solidFill>
                <a:latin typeface="Times New Roman"/>
              </a:rPr>
              <a:t>1.500 g/ m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e"/>
            </a:gs>
            <a:gs pos="50000">
              <a:srgbClr val="0000cc"/>
            </a:gs>
            <a:gs pos="100000">
              <a:srgbClr val="0000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00"/>
                </a:solidFill>
                <a:latin typeface="Times New Roman"/>
              </a:rPr>
              <a:t>I.-Productividad neta en Kcal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Carbono fijado al final de los 100 día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6.000 k x 0.45 = </a:t>
            </a:r>
            <a:r>
              <a:rPr b="0" lang="es-ES_tradnl" sz="2800" spc="-1" strike="noStrike">
                <a:solidFill>
                  <a:srgbClr val="ffff00"/>
                </a:solidFill>
                <a:latin typeface="Times New Roman"/>
              </a:rPr>
              <a:t>2.700 kg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de carbon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Equivale en glucosa: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(C</a:t>
            </a:r>
            <a:r>
              <a:rPr b="0" lang="es-ES_tradnl" sz="3200" spc="-1" strike="noStrike" baseline="-25000">
                <a:solidFill>
                  <a:srgbClr val="ffffff"/>
                </a:solidFill>
                <a:latin typeface="Times New Roman"/>
              </a:rPr>
              <a:t>6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12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6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72g ---------18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2.700 k --------  X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X = </a:t>
            </a:r>
            <a:r>
              <a:rPr b="0" lang="es-ES_tradnl" sz="2800" spc="-1" strike="noStrike">
                <a:solidFill>
                  <a:srgbClr val="ffff00"/>
                </a:solidFill>
                <a:latin typeface="Times New Roman"/>
              </a:rPr>
              <a:t>6.750 kg de glucos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e"/>
            </a:gs>
            <a:gs pos="50000">
              <a:srgbClr val="0000cc"/>
            </a:gs>
            <a:gs pos="100000">
              <a:srgbClr val="0000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nergía para producir la glucos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1 mol = 180 g =&gt; 710 kc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1 kg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180g ------------ 710 kc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1000g  ----------   X  = </a:t>
            </a:r>
            <a:r>
              <a:rPr b="0" lang="es-ES_tradnl" sz="3200" spc="-1" strike="noStrike">
                <a:solidFill>
                  <a:srgbClr val="ffff00"/>
                </a:solidFill>
                <a:latin typeface="Times New Roman"/>
              </a:rPr>
              <a:t>3.944,4 kcal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6.750 kg producidos x 3.944,4 kc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00"/>
                </a:solidFill>
                <a:latin typeface="Times New Roman"/>
              </a:rPr>
              <a:t>26.624.700 kca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e"/>
            </a:gs>
            <a:gs pos="50000">
              <a:srgbClr val="0000cc"/>
            </a:gs>
            <a:gs pos="100000">
              <a:srgbClr val="0000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Qué representa esta cifra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195560" y="1981080"/>
            <a:ext cx="6751440" cy="41148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439280" y="3851280"/>
            <a:ext cx="402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RODUCTIVIDAD NETA!!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OLID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LAUS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e"/>
            </a:gs>
            <a:gs pos="50000">
              <a:srgbClr val="0000cc"/>
            </a:gs>
            <a:gs pos="100000">
              <a:srgbClr val="0000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II.-Energía perdida en respiració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Pérdida diaria de CO2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peso promedio = 3000 k; pérdida = 1%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3.000 x 0.01 = 30 kg/dí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En todo el período: 30 x 100 = 3.000 k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En carbono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12 C en 44 CO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x en 3.000 kg =&gt; </a:t>
            </a:r>
            <a:r>
              <a:rPr b="0" lang="es-ES_tradnl" sz="3200" spc="-1" strike="noStrike">
                <a:solidFill>
                  <a:srgbClr val="ffff00"/>
                </a:solidFill>
                <a:latin typeface="Times New Roman"/>
              </a:rPr>
              <a:t>818.18 kg de C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e"/>
            </a:gs>
            <a:gs pos="50000">
              <a:srgbClr val="0000cc"/>
            </a:gs>
            <a:gs pos="100000">
              <a:srgbClr val="0000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00"/>
                </a:solidFill>
                <a:latin typeface="Times New Roman"/>
              </a:rPr>
              <a:t>Transformando C en Kcal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1) Equivalente en glucosa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72 C -----------  180 de glucos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818,18 ---------    X =&gt; </a:t>
            </a:r>
            <a:r>
              <a:rPr b="0" lang="es-ES_tradnl" sz="2800" spc="-1" strike="noStrike">
                <a:solidFill>
                  <a:srgbClr val="ffff00"/>
                </a:solidFill>
                <a:latin typeface="Times New Roman"/>
              </a:rPr>
              <a:t>X = 2.045,45 k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2) Energía consumida en </a:t>
            </a:r>
            <a:r>
              <a:rPr b="0" lang="es-ES_tradnl" sz="3200" spc="-1" strike="noStrike">
                <a:solidFill>
                  <a:srgbClr val="ffff00"/>
                </a:solidFill>
                <a:latin typeface="Times New Roman"/>
              </a:rPr>
              <a:t>respiración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2.045,45 x 3.944,4 = </a:t>
            </a:r>
            <a:r>
              <a:rPr b="0" lang="es-ES_tradnl" sz="2800" spc="-1" strike="noStrike">
                <a:solidFill>
                  <a:srgbClr val="ffff00"/>
                </a:solidFill>
                <a:latin typeface="Times New Roman"/>
              </a:rPr>
              <a:t>8. 068.073 Kcal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31T23:09:27Z</dcterms:created>
  <dc:creator> </dc:creator>
  <dc:description/>
  <dc:language>en-US</dc:language>
  <cp:lastModifiedBy>U. de Chile</cp:lastModifiedBy>
  <dcterms:modified xsi:type="dcterms:W3CDTF">2005-11-30T19:58:43Z</dcterms:modified>
  <cp:revision>10</cp:revision>
  <dc:subject/>
  <dc:title>Productividad primaria</dc:title>
</cp:coreProperties>
</file>