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BOLIDO.WAV" ContentType="audio/x-wav"/>
  <Override PartName="/ppt/media/BOMBA.WAV" ContentType="audio/x-wav"/>
  <Override PartName="/ppt/media/APLAUSO.WAV" ContentType="audio/x-wav"/>
  <Override PartName="/ppt/media/image2.wmf" ContentType="image/x-wmf"/>
  <Override PartName="/ppt/media/CLIC.WAV" ContentType="audio/x-wav"/>
  <Override PartName="/ppt/media/image3.wmf" ContentType="image/x-wmf"/>
  <Override PartName="/ppt/media/ARPEGIO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6BEA-5461-4AE0-9D95-15980D69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B48-64C5-4DBE-9D69-F0B2FDB6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320-CADD-47B2-9F9B-B4FD6D07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DCB-A97E-43D5-8E01-273041EB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18E-F66D-4F62-B557-FFD74946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4C9-9766-406E-AC2F-BDCCB6FA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C39-0E75-4BEC-8C63-E0FABCFB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61B3-97A7-47F0-B80C-60C10D0B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F4C-194B-4895-A0D3-9DF5961F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923-5030-49AF-BEB7-29DCF45F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4A9-2B0B-4DEF-86EB-576DC928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B1B-C37B-421D-94DA-0DF69C81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FACD-60DB-435B-A7B4-8811A9730F4B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RPEGIO.WAV"/><Relationship Id="rId3" Type="http://schemas.openxmlformats.org/officeDocument/2006/relationships/audio" Target="../media/BOMB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OLIDO.WAV"/><Relationship Id="rId3" Type="http://schemas.openxmlformats.org/officeDocument/2006/relationships/audio" Target="../media/APLAUSO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ductividad prima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rcicio teór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ponentes de la Productividad Brut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2514600"/>
          <a:ext cx="77724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72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ductividad Bru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.795,45 kg glucosa x 3.994,4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35.132.545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é representa esta cifra? (PB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6216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52800" y="50292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OTOSÍNTESIS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PEGI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III.- Energía gastada en evapotranspiració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itros de agua evapor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000 kg ms x 250 l. = 1.500.000 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consumi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500.000 x 593 kcal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889.500.000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V.- Energía recibida en el terren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500 cal/cm2/día x 10.000 cm2)/1000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000 Kcal/m2/d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100 días y en 4.000 m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Disponib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00 x 4.000 x 5.000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2 x 10</a:t>
            </a:r>
            <a:r>
              <a:rPr b="0" lang="es-ES_tradnl" sz="3200" spc="-1" strike="noStrike" baseline="30000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m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omas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.000 kg ms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. Ne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6.624.700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pir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8. 068.073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. Bruta (asimilación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5.132.545 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nspir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889.500.000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ingresa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24.632.545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disponibl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 x 10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2971800"/>
            <a:ext cx="121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5638680"/>
            <a:ext cx="121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638680"/>
            <a:ext cx="76212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4648320"/>
            <a:ext cx="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4267080"/>
            <a:ext cx="129528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4267080"/>
            <a:ext cx="3200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29718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352680" y="2133720"/>
            <a:ext cx="60984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657600" y="2666520"/>
            <a:ext cx="83808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388620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UJO DE LA ENERGÍ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88620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426708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0480" y="575640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no utili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5280" y="392760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809880"/>
            <a:ext cx="1066680" cy="762120"/>
          </a:xfrm>
          <a:prstGeom prst="irregularSeal1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27672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ingre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74920" y="209880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 de evapotrans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8000" y="38862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411480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411480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7840" y="3774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8098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36520" y="491796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i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ficiencias y Rendimien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U = ED - E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U = 2.000.000.000 - 924.632.5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U = 1.075.367.455 kcal = 53.8% de 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ficiencia d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utiliz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EI/ED) 100 = 46,2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ficiencia d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bsor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A/ ED) 100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1,76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ndimien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 asimilación: A (PB) /EI = 3,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 ecológico:    PN/EI        = 2,9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 producción:  PN/ A       = 75.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érdida respiratoria: R/A  = 22,9%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ecede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rreno de 80 m x 50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ha cosechado al final de 100 días, 10.000 plantas de maí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disponible promedio = 500 ly/día (ly = 1 cal/cm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os necesari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so promedio por planta = 3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enido de agua por planta = 8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rbono por planta = 45% de mat. se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sos molecular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lucosa = 180; CO2 = 44; C =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CO2 + 12H2O =&gt; (710 Kcal) =&gt; C6H12O6 + 6O2 + 6H2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so promedio diario de ms. durante el crecimiento = 1/2 peso seco 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2 perdido en Resp = 1% del peso seco/d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vaporación total 250 li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ergía usada en evaporación = 593 kc /li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arrol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omasa al final del perío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kg de ms. total =&gt; 10.000 x 3 k x 0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6.000 k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g/cm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000.000/4.000m2 =&gt;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1.500 g/ m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I.-Productividad neta en Kc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rbono fijado al final de los 100 dí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.000 k x 0.45 =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2.700 kg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carbo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quivale en glucosa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(C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72g ---------18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700 k -------- 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X =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6.750 kg de gluco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ergía para producir la gluco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mol = 180 g =&gt; 710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k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80g ------------ 710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000g  ----------   X 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3.944,4 kcal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750 kg producidos x 3.944,4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26.624.700 kc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é representa esta cifr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95560" y="1981080"/>
            <a:ext cx="675144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39280" y="385128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IVIDAD NETA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LAUS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I.-Energía perdida en respir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érdida diaria de CO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so promedio = 3000 k; pérdida = 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000 x 0.01 = 30 kg/d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todo el período: 30 x 100 = 3.000 k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carbon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2 C en 44 CO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x en 3.000 kg =&gt;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818.18 kg de C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Transformando C en Kc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) Equivalente en glucos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72 C -----------  180 de gluco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818,18 ---------    X =&gt;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X = 2.045,45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) Energía consumida en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respir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045,45 x 3.944,4 =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8. 068.073 Kc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1T23:09:27Z</dcterms:created>
  <dc:creator> </dc:creator>
  <dc:description/>
  <dc:language>en-US</dc:language>
  <cp:lastModifiedBy>U. de Chile</cp:lastModifiedBy>
  <dcterms:modified xsi:type="dcterms:W3CDTF">2005-11-30T19:58:43Z</dcterms:modified>
  <cp:revision>10</cp:revision>
  <dc:subject/>
  <dc:title>Productividad primaria</dc:title>
</cp:coreProperties>
</file>