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.png" ContentType="image/png"/>
  <Override PartName="/ppt/media/image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7D2F-AB91-41AC-8F2C-5A6194CA6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10DF-E185-47D6-B16E-D45F4B9EC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7CD4-4B68-439E-8EDE-3E240D87C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47A9-F57D-4986-8F63-B39037F27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6E22-B6BB-4DD7-B062-7C46669BC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07F6-02D7-4F1F-9C28-3C65199AC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1714-EF7F-48A8-A855-991A8D90F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D1A9-7CBC-490B-AAC1-E9CB5477A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ECCF-B360-48EB-AB90-60240B6A4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7149-117D-45CE-BD9A-E513CB5A1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4DE8-AD49-4096-A20B-56B0B580C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DE1E-CCA9-4FDF-8A4A-3DB465EA6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F558-1683-4F50-BB6B-729E3E440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8CAC-87E6-4844-8107-5E55D3C62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80E-7080-45D0-AD5F-08FFD5BD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96D-DC78-4A3D-9F41-0D49AC27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FB2-91CF-4869-9200-FBDEC4E0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1E1-96B4-4DB8-8A50-7DC4D656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81D4-0E42-47B5-A453-73EA0CAF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4F60-16BE-41E6-99A8-BEEA6883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F836-A3EE-41D7-93EF-E1B14A5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A65A-596F-4705-8B03-067D9AB4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213E-DEAE-4129-91BC-13841860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064A-7D88-415F-AC7B-D872140A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AEFE-C90B-4AC8-8A75-A442C1D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581-6E6A-4A10-B9F4-0B40AC8C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F6B8-A388-4F83-9803-62A02967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4AA4-B7FA-47C3-A026-8D0572B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20DA-7D5F-41EA-89B0-C38A55D0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3006-AD3A-4517-BBE2-131837F2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EA6A-09B0-4666-947A-355E5706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5CE3-A345-4BD6-A9C4-799627A9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C6D8-F858-434C-90F5-EC9EB1A7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DF15-061C-4243-ABD4-6F211B7B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D312-44E7-4D2E-AF91-878FA164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7A5F-D3BE-43F4-B000-28D51326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41E-E4D1-4C8E-9D0B-9CAFD198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CF7E-F7A5-42B2-9E10-5A828697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9178-C743-4B6E-9D9C-8C56382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0FEC-CD94-4AEB-9AE0-40F5FDB3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4645D-1D7A-4DB7-ACC5-1EADB4FE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D319-570D-4C22-A2AD-DE04753C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20E7-7330-4577-894F-E4AD1722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8641-AF05-4439-9AD1-BE73D9AD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262C-7E59-4CB7-9182-8B16F78A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8F91-5EEA-4EB8-B757-2BBFC84C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C5198-8660-41DD-BD00-4263BB17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00D-3593-44F3-93DF-785AEFF3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2D18A-3E46-4DBB-9D3F-CFDBA54D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2A1B-0ED8-413D-AC0F-080CF246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0B2D2-5C9B-4224-96C0-5120AA64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7F1CC-E593-4A2E-A57A-00C05B28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87C5E-C4E2-402C-AE99-4AB3167C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A3DEC-AAEE-45A5-AAAE-8761AA9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F5A4-B5BE-4F96-8189-DD2C3F14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E44B-B6A1-4119-93BA-6EB5BB37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B4113-AD56-4751-9276-68E18C33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A0B-7E1A-4E11-8DD2-A6EDDAF8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E1A-EA1D-4EC2-81F4-32B852AC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584-3DBC-4976-8B84-9B94D06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D93-47A5-40F3-8850-F2A7FC46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21E-DD21-4232-BD67-30BCACBA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46BB-F73D-495D-8CFE-6A99F8437E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6230-1B1A-4895-885F-2FB3BC549A7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CE1A-50AE-4ECE-A990-D341653394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CA62-7365-43A5-8B65-472244EDEA4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Rectángulo"/>
          <p:cNvSpPr/>
          <p:nvPr/>
        </p:nvSpPr>
        <p:spPr>
          <a:xfrm>
            <a:off x="857160" y="2143080"/>
            <a:ext cx="7643880" cy="25927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46464"/>
                </a:solidFill>
                <a:latin typeface="Comic Sans MS"/>
              </a:rPr>
              <a:t>Ejercicio Práctico Nº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646464"/>
                </a:solidFill>
                <a:latin typeface="Comic Sans MS"/>
              </a:rPr>
              <a:t>Bioclimatolog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46464"/>
                </a:solidFill>
                <a:latin typeface="Comic Sans MS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0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261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9"/>
          <p:cNvSpPr/>
          <p:nvPr/>
        </p:nvSpPr>
        <p:spPr>
          <a:xfrm>
            <a:off x="500040" y="2428920"/>
            <a:ext cx="5500800" cy="4287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70"/>
          <p:cNvSpPr/>
          <p:nvPr/>
        </p:nvSpPr>
        <p:spPr>
          <a:xfrm>
            <a:off x="357120" y="400068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</a:rPr>
              <a:t>Diagrama de potencialidad vegetativa seg</a:t>
            </a:r>
            <a:r>
              <a:rPr b="1" lang="es-CL" sz="2400" spc="-1" strike="noStrike" u="sng">
                <a:solidFill>
                  <a:srgbClr val="7f7f7f"/>
                </a:solidFill>
                <a:uFillTx/>
                <a:latin typeface="Calibri"/>
              </a:rPr>
              <a:t>ú</a:t>
            </a: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</a:rPr>
              <a:t>n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negro            T &lt; 5°C                  Mes fr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í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achurado       5°C &lt; T &lt; 20          Mes semifr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í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blanco           T &gt; 10°C                 Mes c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Group 64"/>
          <p:cNvGrpSpPr/>
          <p:nvPr/>
        </p:nvGrpSpPr>
        <p:grpSpPr>
          <a:xfrm>
            <a:off x="1143000" y="3786120"/>
            <a:ext cx="1905120" cy="494640"/>
            <a:chOff x="1143000" y="3786120"/>
            <a:chExt cx="1905120" cy="494640"/>
          </a:xfrm>
        </p:grpSpPr>
        <p:sp>
          <p:nvSpPr>
            <p:cNvPr id="296" name="Rectangle 44"/>
            <p:cNvSpPr/>
            <p:nvPr/>
          </p:nvSpPr>
          <p:spPr>
            <a:xfrm>
              <a:off x="11430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18288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27432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1447560" y="3786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287440" y="3821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5"/>
          <p:cNvGrpSpPr/>
          <p:nvPr/>
        </p:nvGrpSpPr>
        <p:grpSpPr>
          <a:xfrm>
            <a:off x="1143000" y="4357800"/>
            <a:ext cx="1905120" cy="494640"/>
            <a:chOff x="1143000" y="4357800"/>
            <a:chExt cx="1905120" cy="494640"/>
          </a:xfrm>
        </p:grpSpPr>
        <p:sp>
          <p:nvSpPr>
            <p:cNvPr id="302" name="Rectangle 49"/>
            <p:cNvSpPr/>
            <p:nvPr/>
          </p:nvSpPr>
          <p:spPr>
            <a:xfrm>
              <a:off x="1143000" y="446904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50"/>
            <p:cNvSpPr/>
            <p:nvPr/>
          </p:nvSpPr>
          <p:spPr>
            <a:xfrm>
              <a:off x="1828800" y="4469040"/>
              <a:ext cx="304920" cy="304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51"/>
            <p:cNvSpPr/>
            <p:nvPr/>
          </p:nvSpPr>
          <p:spPr>
            <a:xfrm>
              <a:off x="2743200" y="4469040"/>
              <a:ext cx="304920" cy="304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447560" y="435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2287440" y="4392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66"/>
          <p:cNvGrpSpPr/>
          <p:nvPr/>
        </p:nvGrpSpPr>
        <p:grpSpPr>
          <a:xfrm>
            <a:off x="1143000" y="4929120"/>
            <a:ext cx="1905120" cy="494640"/>
            <a:chOff x="1143000" y="4929120"/>
            <a:chExt cx="1905120" cy="494640"/>
          </a:xfrm>
        </p:grpSpPr>
        <p:sp>
          <p:nvSpPr>
            <p:cNvPr id="308" name="Rectangle 54"/>
            <p:cNvSpPr/>
            <p:nvPr/>
          </p:nvSpPr>
          <p:spPr>
            <a:xfrm>
              <a:off x="1143000" y="5040000"/>
              <a:ext cx="304920" cy="30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55"/>
            <p:cNvSpPr/>
            <p:nvPr/>
          </p:nvSpPr>
          <p:spPr>
            <a:xfrm>
              <a:off x="1828800" y="5040000"/>
              <a:ext cx="30492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56"/>
            <p:cNvSpPr/>
            <p:nvPr/>
          </p:nvSpPr>
          <p:spPr>
            <a:xfrm>
              <a:off x="2743200" y="504000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57"/>
            <p:cNvSpPr/>
            <p:nvPr/>
          </p:nvSpPr>
          <p:spPr>
            <a:xfrm>
              <a:off x="1447560" y="4929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58"/>
            <p:cNvSpPr/>
            <p:nvPr/>
          </p:nvSpPr>
          <p:spPr>
            <a:xfrm>
              <a:off x="2287440" y="4964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67"/>
          <p:cNvGrpSpPr/>
          <p:nvPr/>
        </p:nvGrpSpPr>
        <p:grpSpPr>
          <a:xfrm>
            <a:off x="1143000" y="5500800"/>
            <a:ext cx="1905120" cy="494640"/>
            <a:chOff x="1143000" y="5500800"/>
            <a:chExt cx="1905120" cy="494640"/>
          </a:xfrm>
        </p:grpSpPr>
        <p:sp>
          <p:nvSpPr>
            <p:cNvPr id="314" name="Rectangle 59"/>
            <p:cNvSpPr/>
            <p:nvPr/>
          </p:nvSpPr>
          <p:spPr>
            <a:xfrm>
              <a:off x="1143000" y="5612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60"/>
            <p:cNvSpPr/>
            <p:nvPr/>
          </p:nvSpPr>
          <p:spPr>
            <a:xfrm>
              <a:off x="1828800" y="5612040"/>
              <a:ext cx="304920" cy="304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61"/>
            <p:cNvSpPr/>
            <p:nvPr/>
          </p:nvSpPr>
          <p:spPr>
            <a:xfrm>
              <a:off x="2743200" y="5612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62"/>
            <p:cNvSpPr/>
            <p:nvPr/>
          </p:nvSpPr>
          <p:spPr>
            <a:xfrm>
              <a:off x="1447560" y="5500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3"/>
            <p:cNvSpPr/>
            <p:nvPr/>
          </p:nvSpPr>
          <p:spPr>
            <a:xfrm>
              <a:off x="2287440" y="5535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Rectangle 68"/>
          <p:cNvSpPr/>
          <p:nvPr/>
        </p:nvSpPr>
        <p:spPr>
          <a:xfrm>
            <a:off x="4191120" y="4114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9"/>
          <p:cNvSpPr/>
          <p:nvPr/>
        </p:nvSpPr>
        <p:spPr>
          <a:xfrm>
            <a:off x="4191120" y="58672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0"/>
          <p:cNvSpPr/>
          <p:nvPr/>
        </p:nvSpPr>
        <p:spPr>
          <a:xfrm>
            <a:off x="4191120" y="4952880"/>
            <a:ext cx="304560" cy="304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1"/>
          <p:cNvSpPr/>
          <p:nvPr/>
        </p:nvSpPr>
        <p:spPr>
          <a:xfrm>
            <a:off x="4841640" y="4127400"/>
            <a:ext cx="32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HÚME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CÁLID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 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2"/>
          <p:cNvSpPr/>
          <p:nvPr/>
        </p:nvSpPr>
        <p:spPr>
          <a:xfrm>
            <a:off x="4824720" y="495288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SEMI-ÁRI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SEMI-FRÍ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SEMI-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3"/>
          <p:cNvSpPr/>
          <p:nvPr/>
        </p:nvSpPr>
        <p:spPr>
          <a:xfrm>
            <a:off x="4827240" y="586728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ÁRI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FRÍ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DES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4"/>
          <p:cNvSpPr/>
          <p:nvPr/>
        </p:nvSpPr>
        <p:spPr>
          <a:xfrm>
            <a:off x="4519440" y="4054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5"/>
          <p:cNvSpPr/>
          <p:nvPr/>
        </p:nvSpPr>
        <p:spPr>
          <a:xfrm>
            <a:off x="4535280" y="488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6"/>
          <p:cNvSpPr/>
          <p:nvPr/>
        </p:nvSpPr>
        <p:spPr>
          <a:xfrm>
            <a:off x="4535280" y="577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329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66" descr=""/>
          <p:cNvPicPr/>
          <p:nvPr/>
        </p:nvPicPr>
        <p:blipFill>
          <a:blip r:embed="rId12"/>
          <a:stretch/>
        </p:blipFill>
        <p:spPr>
          <a:xfrm>
            <a:off x="4143240" y="4929120"/>
            <a:ext cx="381240" cy="352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7" descr=""/>
          <p:cNvPicPr/>
          <p:nvPr/>
        </p:nvPicPr>
        <p:blipFill>
          <a:blip r:embed="rId13"/>
          <a:stretch/>
        </p:blipFill>
        <p:spPr>
          <a:xfrm>
            <a:off x="1143000" y="6072120"/>
            <a:ext cx="1981080" cy="4096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7"/>
          <p:cNvSpPr/>
          <p:nvPr/>
        </p:nvSpPr>
        <p:spPr>
          <a:xfrm>
            <a:off x="500040" y="2857680"/>
            <a:ext cx="5500800" cy="5713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8"/>
          <p:cNvSpPr/>
          <p:nvPr/>
        </p:nvSpPr>
        <p:spPr>
          <a:xfrm>
            <a:off x="214200" y="19800"/>
            <a:ext cx="8929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  <a:ea typeface="Calibri"/>
              </a:rPr>
              <a:t>Diagrama de meses desfavo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blanco           Mes 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achurado      Mes semi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negro            Mes desfavorablesemi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357120" y="524880"/>
            <a:ext cx="8143920" cy="55825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1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UEST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Por qué razón en Chile se utiliza preferentemente el hiterógrafo  para evaluar tendencias bioclimáticas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Cómo varía el índice de aridez de norte a sur en el país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Y la potencialidad vegetativa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Y el diagrama de meses desfavora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Cómo se pueden explicar los parecidos fisionómicos en el paisaje de Chile Central, California y España, en consecuencia que las especies vegetales están tan alejadas filogenéticamente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Por qué los índices y gráficos se basan en pares climátic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Hay alguna relación entre los valores de I y la veget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357120" y="673560"/>
            <a:ext cx="850104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1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MATER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Papel milimetrado (al menos 2 hoja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Lápiz grafito, goma, reg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alculado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000080" y="227880"/>
            <a:ext cx="7000920" cy="64022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O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mm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4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mm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8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,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,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,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357120" y="804600"/>
            <a:ext cx="85010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1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DESARRO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on los datos climatológicos que se entregan, confeccion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1.1. Hiterógraf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1.2. Diagrama ombrotérm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57120" y="951840"/>
            <a:ext cx="814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7f7f7f"/>
                </a:solidFill>
                <a:latin typeface="Comic Sans MS"/>
                <a:ea typeface="Times New Roman"/>
              </a:rPr>
              <a:t> 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El paso práctico se realizará en</a:t>
            </a:r>
            <a:r>
              <a:rPr b="1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grupos de </a:t>
            </a:r>
            <a:r>
              <a:rPr b="1" lang="es-ES_tradnl" sz="3600" spc="-1" strike="noStrike" u="sng">
                <a:solidFill>
                  <a:srgbClr val="646464"/>
                </a:solidFill>
                <a:uFillTx/>
                <a:latin typeface="Comic Sans MS"/>
                <a:ea typeface="Times New Roman"/>
              </a:rPr>
              <a:t>5 estudiantes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CL" sz="3600" spc="-1" strike="noStrike">
                <a:solidFill>
                  <a:srgbClr val="646464"/>
                </a:solidFill>
                <a:latin typeface="Comic Sans MS"/>
              </a:rPr>
              <a:t>   </a:t>
            </a:r>
            <a:r>
              <a:rPr b="0" lang="es-CL" sz="3600" spc="-1" strike="noStrike" u="sng">
                <a:solidFill>
                  <a:srgbClr val="646464"/>
                </a:solidFill>
                <a:uFillTx/>
                <a:latin typeface="Comic Sans MS"/>
              </a:rPr>
              <a:t>Primero</a:t>
            </a:r>
            <a:r>
              <a:rPr b="0" lang="es-CL" sz="3600" spc="-1" strike="noStrike">
                <a:solidFill>
                  <a:srgbClr val="646464"/>
                </a:solidFill>
                <a:latin typeface="Comic Sans MS"/>
              </a:rPr>
              <a:t> se deben realizar los objetivos B1 y B2 (guía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Una vez cumplidos estos objetivos y basándose en los resultados se abordará el objetivo B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Rectángulo"/>
          <p:cNvSpPr/>
          <p:nvPr/>
        </p:nvSpPr>
        <p:spPr>
          <a:xfrm>
            <a:off x="2786040" y="1643040"/>
            <a:ext cx="914400" cy="914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1260360" y="357120"/>
          <a:ext cx="6561360" cy="5857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0360" y="357120"/>
                    <a:ext cx="65613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3"/>
          <p:cNvGrpSpPr/>
          <p:nvPr/>
        </p:nvGrpSpPr>
        <p:grpSpPr>
          <a:xfrm>
            <a:off x="714240" y="1428840"/>
            <a:ext cx="7543800" cy="4632120"/>
            <a:chOff x="714240" y="1428840"/>
            <a:chExt cx="7543800" cy="4632120"/>
          </a:xfrm>
        </p:grpSpPr>
        <p:pic>
          <p:nvPicPr>
            <p:cNvPr id="211" name="Picture 4" descr=""/>
            <p:cNvPicPr/>
            <p:nvPr/>
          </p:nvPicPr>
          <p:blipFill>
            <a:blip r:embed="rId2"/>
            <a:stretch/>
          </p:blipFill>
          <p:spPr>
            <a:xfrm>
              <a:off x="714240" y="1611720"/>
              <a:ext cx="7543800" cy="44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5"/>
            <p:cNvSpPr/>
            <p:nvPr/>
          </p:nvSpPr>
          <p:spPr>
            <a:xfrm>
              <a:off x="7023600" y="1428840"/>
              <a:ext cx="54864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p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1080000" y="1520280"/>
              <a:ext cx="45720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T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Object 7"/>
          <p:cNvGraphicFramePr/>
          <p:nvPr/>
        </p:nvGraphicFramePr>
        <p:xfrm>
          <a:off x="2643120" y="928800"/>
          <a:ext cx="5613480" cy="26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928800"/>
                    <a:ext cx="561348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 CuadroTexto"/>
          <p:cNvSpPr/>
          <p:nvPr/>
        </p:nvSpPr>
        <p:spPr>
          <a:xfrm>
            <a:off x="642960" y="150012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46464"/>
                </a:solidFill>
                <a:latin typeface="Comic Sans MS"/>
              </a:rPr>
              <a:t>Índice de Aridez de De Marton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1214280" y="2793240"/>
            <a:ext cx="6572520" cy="173988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938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  <a:tab algn="l" pos="16002000"/>
              </a:tabLst>
            </a:pP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 =      P         x   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938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  <a:tab algn="l" pos="16002000"/>
              </a:tabLst>
            </a:pP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     </a:t>
            </a: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 +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4 Conector recto"/>
          <p:cNvSpPr/>
          <p:nvPr/>
        </p:nvSpPr>
        <p:spPr>
          <a:xfrm>
            <a:off x="2643120" y="3571920"/>
            <a:ext cx="21430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5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226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67"/>
          <p:cNvSpPr/>
          <p:nvPr/>
        </p:nvSpPr>
        <p:spPr>
          <a:xfrm>
            <a:off x="357120" y="407196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  <a:ea typeface="Calibri"/>
              </a:rPr>
              <a:t>Diagrama de aride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negro            I &lt; 10                  Mes 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achurado      10 &lt; I &lt; 20          Mes semi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blanco           I &gt; 20                  Mes h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ú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m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3"/>
          <p:cNvSpPr/>
          <p:nvPr/>
        </p:nvSpPr>
        <p:spPr>
          <a:xfrm>
            <a:off x="500040" y="1928880"/>
            <a:ext cx="5500800" cy="5000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8:00:18Z</dcterms:created>
  <dc:creator>uchile</dc:creator>
  <dc:description/>
  <dc:language>en-US</dc:language>
  <cp:lastModifiedBy>familia</cp:lastModifiedBy>
  <dcterms:modified xsi:type="dcterms:W3CDTF">2009-09-02T20:09:54Z</dcterms:modified>
  <cp:revision>35</cp:revision>
  <dc:subject/>
  <dc:title>Sin título de diapositiva</dc:title>
</cp:coreProperties>
</file>