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11E1-B5AF-4386-A2C9-F832E77E4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FA8B-3D52-472F-B5B2-FA73845FE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4748-1738-44A4-8632-0988F3997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50D1-1D00-4408-899E-9CA0B059D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368A-8DC6-4849-9D0C-ACA30CDFB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587C-D06B-4624-B9F2-9047EC4B6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2BF0-0181-4877-9AAE-CA602874A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32A1-5B49-4CD4-AD41-6ABAC1E09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20F4-2727-4E38-B29B-60365D4FE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CE1D-B594-405E-AF3B-A4F0F289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55AB-C8B3-4540-9AB2-94272C38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4243-548C-434A-B1D9-D0EBB170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CC098-AB36-41E7-9436-F84A649FD1A9}" type="slidenum"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ESTUDIOS EPIDEMIOLOGICOS.</a:t>
            </a:r>
            <a:br>
              <a:rPr sz="36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nsayos clínicos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. Santiago Urcelay V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versidad de C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948360" y="4941720"/>
            <a:ext cx="183060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VARIABLES DE RESPUESTA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 refieren al resulta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 deben establecer con antelación al inicio del estudio, ejemplo: la variable temperatura la mediremos con un termómetro clínico o el cambio en la acidez  la mediremos con un medidor de p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be ser posible determinar la(s) variable (s) de respuesta en todos los individuos, como así también medirla en todos ellos de la misma maner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 debe realizar en forma no sesgada, para lo cual se emplea el enmascaramien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POBLACION EN ESTUDIO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 debe describir la poblaci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ón general, desde la cual la población en estudio fue selecciona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Establecer como se localizarán los individuos y como se seleccionarán, para participar en el estud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Establecer si se elegirán de varios hospitales o de un solo centro de referencia, o si se seleccionarán de un solo predio o la población será representativa de un área más grand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En los ensayos clínicos se da mayor importancia a la comparabilidad entre los grupos que a la representatividad de los mism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CRITERIOS DE INCLUSION Y EXCLUSION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ular los criterios en forma explícit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 lo posible los individuos se deben beneficiar con el estudio y no sufrir efectos detrimentales (Comité de Bioética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y que establecer si todos los animales son elegibles para el estudio, independientes de su edad, raza o tipo y también que los exámenes que se realicen para elegirlos deben ser iguales para tod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CRITERIOS DE INCLUSION Y EXCLUS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colectar los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atos basal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de los individuos, para establecer la estratificación y determinar la comparabilidad de los grup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y que tener claros y dejar escritos los criterios diagnósticos que se aplicarán, de tal manera que estemos seguros que los animales que tienen o no la enfermedad serán los que se desea tratar o preveni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y que señalar los animales que se excluirán del estudio, en forma específica y porqu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TAMAÑO DE LA MUESTR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 debe calcular ANTES de empezar el estudio, porqu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liga a especificar los hallazg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 deben establecer las metas de reclutamient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entiva el desarrollo de cronogramas y presupuest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ncentiva la realización de ensayos pequeños, que no llegan a términ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ff00"/>
                </a:solidFill>
                <a:uFillTx/>
                <a:latin typeface="Times New Roman"/>
              </a:rPr>
              <a:t>TAMAÑO DE LA MUESTR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xisten fórmulas estándares y programas computacionales para establecer el tamaño muestral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e deben especificar las probabilidades del error Tipo I y II, nivel de significación y poder, los promedios esperados en los grupos tratado y control y la variabilidad de los datos para datos cuantitativ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INCORPORACION DE LOS INDIVIDUOS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greso simultane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cuando la enfermedad es prevalente o en los ensayos preventivos, es posible incorporar al estudio a todos los individuos, al mismo tiemp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greso secuencia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en los ensayos terapéuticos es a menudo necesario incorporar a los individuos en el transcurso de un período de tiempo, a medida que se diagnostica la enfermedad de interé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INTERVENCIONES</a:t>
            </a:r>
            <a:br>
              <a:rPr sz="2800"/>
            </a:b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Formación de los grupos Tratados y controle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 creación de un grupo control o de comparación es fundamental en los ensayos clínic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método preferido para asignar el tratamiento o no es en forma aleatoria, en el cual existe una probabilidad conocida para la asign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 razón para asignar los animales en forma aleatoria, en un ensayo clínico, es la obtención de grupos comparables, es decir eliminar las variables de confusión y los sesgos de selec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METODOS PARA EL CONTROL DE SESGOS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leatorización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standarización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reparación de un protocolo escrito de objetivos y métodos, como también el entrenamiento del personal, que participará en la ejecución del estudi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ff00"/>
                </a:solidFill>
                <a:uFillTx/>
                <a:latin typeface="Times New Roman"/>
              </a:rPr>
              <a:t>METODOS PARA EL CONTROL DE SESGO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Enmascaramiento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extremadamente importante en este tipo de estudios epidemiológicos. Su propósito es evitar los sesgos en la recolección y el análisis de los datos. Para ello se emplean los estudios ciego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Simpl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 el propietario no sabe si es tratado o contro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obl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 el propietario y el clínico desconocen si es tratado o contro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Tripl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 el propietario, el clínico y el evaluador (analista) desconocen si es tratado o contro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ANTECEDENTES GENERALES DE LOS ENSAYOS CLINICOS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chas de las drogas y tratamientos utilizados en medicina veterinaria no han sido probados en forma adecuada, sino que muchas veces han sido “evaluados” en base a impresiones clínic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lamente en los últimos 40 años se comenzaron a desarrollar metodologías para ensayos clínicos, permitiendo una evaluacion mas científica de las nuevas drogas y tratamiento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RECOLECCION DE DATOS Y CONTROL DE CALIDA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 calidad de los datos es directamente proporcional al tiempo y el esfuerzo que el investigador pone en el ensay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 estandarización de las definiciones y procedimientos es muy importan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s datos deben ser controlados en forma regular y los valores extremos deben ser evaluados en forma rápid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ff00"/>
                </a:solidFill>
                <a:uFillTx/>
                <a:latin typeface="Times New Roman"/>
              </a:rPr>
              <a:t>RECOLECCION DE DATOS Y CONTROL DE CALIDA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cantidad de datos perdidos puede ser considerada como un indicador de la calidad de ellos y por lo tanto del ensayo mism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) Seguimiento: exámenes a intervalos específic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b) Complacencia: monitorear los propietarios para asegurar su conformidad con el tratamiento u otras condiciones del ensay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ANALISIS DE LOS DATO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 análisis de los datos de un estudio epidemiológico experimental como el ensayo clínico, es a menudo sencillo, debido a la comparabilidad de los grupos, lo cual se logró por la asignación aleatoria de los individuos en los grupo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s datos deben analizarse para verificar la comparabilidad de los mism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s-CL" sz="9600" spc="-1" strike="noStrike">
                <a:solidFill>
                  <a:srgbClr val="ffffff"/>
                </a:solidFill>
                <a:latin typeface="Times New Roman"/>
              </a:rPr>
              <a:t>FIN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DEFINICION DE ENSAYOS CLINICOS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Un ensayo clínico es un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perimento planificado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ise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ñado para determinar la eficacia de un tratamiento en animal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rebaños, a través de la comparación del resultado observado en un grupo sometido a un tratamiento de prueba y el observado en un grupo</a:t>
            </a: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CL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mparable</a:t>
            </a: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de animales/rebaños, que han recibido un tratamiento control.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REQUERIMIENTOS ESENCIALES DE UN ENSAYO CLINICO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 experimento es planificado, es decir, el investigador produce el experimento, este no ocurre en forma natural y el investigador no se limita a observar el fenómen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 experimento involucra la comparación de un tratamiento de prueba (nuevo tratamiento, nuevo procedimiento de manejo, etc) y un tratamiento control (terapia estándar, procedimiento de manejo estándar, etc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REQUERIMIENTOS ESENCIALES DE UN ENSAYO CLINICO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os grupos de estudio son comparables (no necesariamente representativos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os individuos son sometidos a un seguimiento, a fin de identificar un</a:t>
            </a: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 resultado definitiv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ANTECEDENTES PREVIOS Y JUSTIFICACION BIOLOGICA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 primer paso indispensable es recopilar la mayor cantidad posible de antecedentes sobre el tema. Ello incluye una minuciosa revisión de la literatura (antes de comenzar y no al terminar el estudio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scar opiniones de expertos, a través de conversaciones con clínicos, propietarios de ganado, extensionistas y en general con los que están involucrados en el proble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ff00"/>
                </a:solidFill>
                <a:uFillTx/>
                <a:latin typeface="Times New Roman"/>
              </a:rPr>
              <a:t>ANTECEDENTES PREVIOS Y JUSTIFICACION BIOLOGICA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Una vez que se ha adquirido el conocimiento sobre la materia, las decisiones que antes parecían difíciles, ahora se hacen fáci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s hipótesis deben tener sentido biológico y deben estar formuladas en base al conocimiento existente en forma prev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ESTABLECIMIENTO DE LOS OBJETIVOS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 la parte más difícil de todo diseño de estudio clínico, debido a que obliga a especificar en forma exacta que es lo que se quiere lograr y como se quiere logr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establecimiento de los objetivos tanto primarios como secundarios, debe ser lo más explícito posible, por ejemplo: “en una población X, la droga A en dosis diarias de Y cantidad, es más eficaz en reducir los síntomas A y B, en un período de tiempo W, comparada con la droga M en una dosis diaria de Z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ff00"/>
                </a:solidFill>
                <a:uFillTx/>
                <a:latin typeface="Times New Roman"/>
              </a:rPr>
              <a:t>ESTABLECIMIENTO DE LOS OBJETIVOS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odo ensayo clínico debe tener un objetivo general y algunos objetivos específicos (se recomienda no tener más de tres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l objetivo general a menudo involucran aspectos relativos a la</a:t>
            </a: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 eficacia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del producto terapéutico o preventiv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os objetivos específicos casi siempre se refieren a la inocuidad del producto.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8T16:32:33Z</dcterms:created>
  <dc:creator>SANTIAGO PATRICIO URCELAY VIC</dc:creator>
  <dc:description/>
  <dc:language>en-US</dc:language>
  <cp:lastModifiedBy>DIRPRE</cp:lastModifiedBy>
  <dcterms:modified xsi:type="dcterms:W3CDTF">2007-12-20T23:24:51Z</dcterms:modified>
  <cp:revision>8</cp:revision>
  <dc:subject/>
  <dc:title>ESTUDIOS EPIDEMIOLOGICOS. Ensayos clínicos.</dc:title>
</cp:coreProperties>
</file>