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43A-8482-42AB-8645-10736B2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E5D-2C0E-48AD-956D-78813A8C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153-946C-4641-8360-70E13321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7C2-CD31-4FC8-808A-C32814CA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1AD-436F-49FF-9E5A-7C82160E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A0A-08B7-4F92-90CD-6BBBFE9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43A-EE8E-472F-85FE-24667B45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F36-27D4-41AF-A668-F9661C6A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C4F-9AE5-42EB-A1E4-3C7A592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89B-3233-4311-B0FC-1BE8666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5BF-4816-4914-A0C6-B9ED496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86A-3D62-4D6A-B759-780646D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5B6-E1CE-4281-8957-0BF0202D82F3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TUDIOS EPIDEMIOLOGICOS.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sayos clínic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Santiago Urcelay 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VARIABLES DE RESPUESTA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fieren al resul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deben establecer con antelación al inicio del estudio, ejemplo: la variable temperatura la mediremos con un termómetro clínico o el cambio en la acidez  la mediremos con un medidor de 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e ser posible determinar la(s) variable (s) de respuesta en todos los individuos, como así también medirla en todos ellos de la misma man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debe realizar en forma no sesgada, para lo cual se emplea el enmascar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BLACION EN ESTUDI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describir la poblaci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ón general, desde la cual la población en estudio fue seleccio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tablecer como se localizarán los individuos y como se seleccionarán, para participar en el est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tablecer si se elegirán de varios hospitales o de un solo centro de referencia, o si se seleccionarán de un solo predio o la población será representativa de un área más gra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 los ensayos clínicos se da mayor importancia a la comparabilidad entre los grupos que a la representatividad de los mis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RITERIOS DE INCLUSION Y EXCLUS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ular los criterios en forma explíc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lo posible los individuos se deben beneficiar con el estudio y no sufrir efectos detrimentales (Comité de Bioétic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que establecer si todos los animales son elegibles para el estudio, independientes de su edad, raza o tipo y también que los exámenes que se realicen para elegirlos deben ser iguales para 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RITERIOS DE INCLUSION Y EXCLU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lectar los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tos bas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individuos, para establecer la estratificación y determinar la comparabilidad de los grup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y que tener claros y dejar escritos los criterios diagnósticos que se aplicarán, de tal manera que estemos seguros que los animales que tienen o no la enfermedad serán los que se desea tratar o preven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y que señalar los animales que se excluirán del estudio, en forma específica y porq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MAÑO DE LA MUEST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be calcular ANTES de empezar el estudio, por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liga a especificar los hallazg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ben establecer las metas de reclut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entiva el desarrollo de cronogramas y presupues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ncentiva la realización de ensayos pequeños, que no llegan a tér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MAÑO DE LA MUEST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 fórmulas estándares y programas computacionales para establecer el tamaño muest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especificar las probabilidades del error Tipo I y II, nivel de significación y poder, los promedios esperados en los grupos tratado y control y la variabilidad de los datos para datos cuantita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ORPORACION DE LOS INDIVIDU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greso simultane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uando la enfermedad es prevalente o en los ensayos preventivos, es posible incorporar al estudio a todos los individuos, al mismo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greso secuenc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n los ensayos terapéuticos es a menudo necesario incorporar a los individuos en el transcurso de un período de tiempo, a medida que se diagnostica la enfermedad de interé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ERVENCIONES</a:t>
            </a:r>
            <a:br>
              <a:rPr sz="28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Formación de los grupos Tratados y control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reación de un grupo control o de comparación es fundamental en los ensayos clín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étodo preferido para asignar el tratamiento o no es en forma aleatoria, en el cual existe una probabilidad conocida para la asign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razón para asignar los animales en forma aleatoria, en un ensayo clínico, es la obtención de grupos comparables, es decir eliminar las variables de confusión y los sesgos de s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TODOS PARA EL CONTROL DE SESGO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eatorizació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tandarizació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eparación de un protocolo escrito de objetivos y métodos, como también el entrenamiento del personal, que participará en la ejecución del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TODOS PARA EL CONTROL DE SESG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nmascaramient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extremadamente importante en este tipo de estudios epidemiológicos. Su propósito es evitar los sesgos en la recolección y el análisis de los datos. Para ello se emplean los estudios cieg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 no sabe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 y el clínico desconocen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ip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, el clínico y el evaluador (analista) desconocen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GENERALES DE LOS ENSAYOS CLINIC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as de las drogas y tratamientos utilizados en medicina veterinaria no han sido probados en forma adecuada, sino que muchas veces han sido “evaluados” en base a impresiones clín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amente en los últimos 40 años se comenzaron a desarrollar metodologías para ensayos clínicos, permitiendo una evaluacion mas científica de las nuevas drogas y tratami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LECCION DE DATOS Y CONTROL DE C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alidad de los datos es directamente proporcional al tiempo y el esfuerzo que el investigador pone en el ensay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standarización de las definiciones y procedimientos es muy impor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datos deben ser controlados en forma regular y los valores extremos deben ser evaluados en forma ráp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LECCION DE DATOS Y CONTROL DE C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antidad de datos perdidos puede ser considerada como un indicador de la calidad de ellos y por lo tanto del ensayo m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) Seguimiento: exámenes a intervalos específ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) Complacencia: monitorear los propietarios para asegurar su conformidad con el tratamiento u otras condiciones del ensay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ALISIS DE LOS DA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análisis de los datos de un estudio epidemiológico experimental como el ensayo clínico, es a menudo sencillo, debido a la comparabilidad de los grupos, lo cual se logró por la asignación aleatoria de los individuos en los grup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datos deben analizarse para verificar la comparabilidad de los mis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CL" sz="96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FINICION DE ENSAYOS CLINIC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ensayo clínico es un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o planificad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ñado para determinar la eficacia de un tratamiento en anima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baños, a través de la comparación del resultado observado en un grupo sometido a un tratamiento de prueba y el observado en un grupo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arabl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 animales/rebaños, que han recibido un tratamiento control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QUERIMIENTOS ESENCIALES DE UN ENSAYO CLINIC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xperimento es planificado, es decir, el investigador produce el experimento, este no ocurre en forma natural y el investigador no se limita a observar el fenóm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xperimento involucra la comparación de un tratamiento de prueba (nuevo tratamiento, nuevo procedimiento de manejo, etc) y un tratamiento control (terapia estándar, procedimiento de manejo estándar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QUERIMIENTOS ESENCIALES DE UN ENSAYO CLINIC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grupos de estudio son comparables (no necesariamente representativ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individuos son sometidos a un seguimiento, a fin de identificar un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resultado defini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PREVIOS Y JUSTIFICACION BIOLOGIC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primer paso indispensable es recopilar la mayor cantidad posible de antecedentes sobre el tema. Ello incluye una minuciosa revisión de la literatura (antes de comenzar y no al terminar el estud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car opiniones de expertos, a través de conversaciones con clínicos, propietarios de ganado, extensionistas y en general con los que están involucrados en el probl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PREVIOS Y JUSTIFICACION BIOLOGIC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a vez que se ha adquirido el conocimiento sobre la materia, las decisiones que antes parecían difíciles, ahora se hacen fác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hipótesis deben tener sentido biológico y deben estar formuladas en base al conocimiento existente en forma prev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STABLECIMIENTO DE LOS OBJETIV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la parte más difícil de todo diseño de estudio clínico, debido a que obliga a especificar en forma exacta que es lo que se quiere lograr y como se quiere logr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stablecimiento de los objetivos tanto primarios como secundarios, debe ser lo más explícito posible, por ejemplo: “en una población X, la droga A en dosis diarias de Y cantidad, es más eficaz en reducir los síntomas A y B, en un período de tiempo W, comparada con la droga M en una dosis diaria de Z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ESTABLECIMIENTO DE LOS OBJETIV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odo ensayo clínico debe tener un objetivo general y algunos objetivos específicos (se recomienda no tener más de t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objetivo general a menudo involucran aspectos relativos a la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efica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l producto terapéutico o preven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objetivos específicos casi siempre se refieren a la inocuidad del producto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6:32:33Z</dcterms:created>
  <dc:creator>SANTIAGO PATRICIO URCELAY VIC</dc:creator>
  <dc:description/>
  <dc:language>en-US</dc:language>
  <cp:lastModifiedBy>DIRPRE</cp:lastModifiedBy>
  <dcterms:modified xsi:type="dcterms:W3CDTF">2007-12-20T23:24:51Z</dcterms:modified>
  <cp:revision>8</cp:revision>
  <dc:subject/>
  <dc:title>ESTUDIOS EPIDEMIOLOGICOS. Ensayos clínicos.</dc:title>
</cp:coreProperties>
</file>