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CEE-A7CA-4520-8460-FABF6D7C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71F-8FBE-4EE9-B9B0-12C7039C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904-616A-4CBD-B689-5D963E37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89F-2B8B-4686-BCA5-6A849CA0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583B-395B-48C4-9D4D-A0BA3595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9666-C4B1-4B81-BD6B-652408FD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4AC8-BCD6-4801-B4C9-146E0F6A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7F7E-D804-40F4-A051-00124C9F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B53-422D-4A89-AFF2-95440058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ADD7-1FDF-4460-A805-ADA5A23E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614A-11E9-44EF-ACC6-9D3F2562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F1E-EBC5-4361-A15B-5B1918EC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28D4-7C37-44F5-A40C-BC9136D2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9F1E-037B-40F8-95C1-DB408A45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627A-79EC-495D-AE77-EA89355C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EA2C-3922-470F-B755-D46B9A55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E047-AF59-4388-8409-F94C616C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ECE-5FAA-4A6F-AF6A-5592B62A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E8B-7AD8-4A31-97C1-90626E5F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D4C-7AC8-416A-A957-8970CF8D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8C6-9B9B-43F1-85EC-95D6FEFD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C52-3617-4221-893D-CBC9C33A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827-CFF1-423E-820F-B15327FE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639-5612-4985-8BD6-ED52867C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57DA-D600-4AFA-B496-FD08A9ED9D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E5D5-845A-4561-BB6A-93AADFE2A9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9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" Target="slide5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UEBAS DIAGNOST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14520" y="4738680"/>
          <a:ext cx="1747800" cy="16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738680"/>
                    <a:ext cx="174780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Especificidad (Es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68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babilidad de una prueba identifique correctamente a aquellos animales NO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- = VN + F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332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lor predictivo positivo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(VP+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97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positivos a la prueba y realmente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+ = VP + F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187280" cy="89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lor predictivo negativo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(VP-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negativos a la prueba y realmente NO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- = VN + F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1872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fecto de la prevalencia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n el valor predic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55640" y="1989000"/>
          <a:ext cx="7843680" cy="34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368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723600" y="5365800"/>
            <a:ext cx="188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Se y Esp = 95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93492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fecto de la prevalencia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n el valor predic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979640" y="1700280"/>
          <a:ext cx="6480000" cy="43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00280"/>
                    <a:ext cx="64800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578400" y="6127920"/>
            <a:ext cx="1772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Prevalencia 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4480" y="3689280"/>
            <a:ext cx="1298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Predi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43040" y="3003480"/>
            <a:ext cx="73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VP 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21520" y="3003480"/>
            <a:ext cx="67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VP 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93492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lación entre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P+ y Especific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362320" y="2695680"/>
          <a:ext cx="4626000" cy="31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95680"/>
                    <a:ext cx="462600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041280" y="6081840"/>
            <a:ext cx="230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Especificidad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82520" y="3643200"/>
            <a:ext cx="83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VP 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1509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lación entre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P- y Sens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835280" y="1844640"/>
          <a:ext cx="6408720" cy="40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40872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192840" y="6081840"/>
            <a:ext cx="215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ensibilidad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54160" y="3643200"/>
            <a:ext cx="76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VP 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2240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elección de pruebas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iagnóst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Usar una prueba con alta Se y alto VP- cuando se qui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700"/>
              </a:spcBef>
              <a:spcAft>
                <a:spcPts val="1225"/>
              </a:spcAft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ducir el número de falsos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700"/>
              </a:spcBef>
              <a:spcAft>
                <a:spcPts val="1225"/>
              </a:spcAft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vitar la introducción de una enferme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575160" y="5221440"/>
          <a:ext cx="2063520" cy="11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5160" y="5221440"/>
                    <a:ext cx="20635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elección de pruebas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iagnóst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Use una prueba con alta Esp y alto VP+ cuando se qui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onfirmar un diagnóst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vitar el sacrificio innecesario de anima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87440" indent="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505320" y="5195880"/>
          <a:ext cx="175248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5195880"/>
                    <a:ext cx="17524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11988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uebas en ser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os resultados de todas las pruebas deben ser posi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Sólo se aplicará otra prueba si el resultado previo es posi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Se desea aumentar la Especificidad (Esp) y el Valor Predictivo Positivo (VP+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1127160" cy="8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studios de preval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eterminar la frecuencia y distribución de un agente infeccio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Frecuentemente por medición de anticuerp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blema: falsos positivos y nega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93672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uebas en parale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41672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os resultados de todas las pruebas deben ser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Sólo se aplicará otra prueba si el resultado previo es neg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Se desea aumentar la Sensibilidad (Se) y el Valor Predictivo Negativo (VP-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12716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Batería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plicar todas las pruebas posi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 mayor número de pruebas, mayor posibilidad de un falso posit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811680" y="5208480"/>
          <a:ext cx="1293840" cy="12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5208480"/>
                    <a:ext cx="12938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11271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ntes de interpretar un resultad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2064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nocer las características de la prueb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2064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nocer la situación epidemiológica general a la que se enfren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2064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ceptar que no existen pruebas 100% confiabl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130464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Pruebas de tamiza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Conocidas como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scree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Utilizadas para distinguir animales aparentemente sanos de animales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Generalmente se requiere de una prueba de confi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328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piedades de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Sensibilidad (S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specificidad (Es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07928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49520" y="2266920"/>
            <a:ext cx="6095880" cy="3505320"/>
          </a:xfrm>
          <a:prstGeom prst="rect">
            <a:avLst/>
          </a:prstGeom>
          <a:solidFill>
            <a:srgbClr val="33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ificación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 resulta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03280" y="2343240"/>
          <a:ext cx="8415360" cy="42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2343240"/>
                    <a:ext cx="8415360" cy="42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29672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alencia verdade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realmente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7667640" y="566100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alencia apar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probados positivos a la pru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7740720" y="5877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3431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xactitu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6758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correctamente identificados por la pru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P + V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826920" y="4508640"/>
          <a:ext cx="1729080" cy="16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508640"/>
                    <a:ext cx="1729080" cy="16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3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118728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ensibilidad (S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68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babilidad de que una prueba identifique correctamente a los animales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P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+ = VP + F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223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1T15:27:04Z</dcterms:created>
  <dc:creator/>
  <dc:description/>
  <cp:keywords/>
  <dc:language>en-US</dc:language>
  <cp:lastModifiedBy>DIRPRE</cp:lastModifiedBy>
  <dcterms:modified xsi:type="dcterms:W3CDTF">2008-05-15T21:02:31Z</dcterms:modified>
  <cp:revision>26</cp:revision>
  <dc:subject/>
  <dc:title>PROPIEDADES DE LAS PRUEBAS DIAGNOSTICAS</dc:title>
</cp:coreProperties>
</file>