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153-58F2-4E31-AFD6-01E4D9F2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7E7-9D3F-4015-9056-7A1808B4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86B-D5F1-4718-A9F3-E34310C5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BEC-D6E5-4CE5-8AFB-78BB5F5F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AD6D-DB44-4E92-98AE-C65B45AB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5B55-C1E6-45BC-8959-B1C886BC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8096-2174-4004-AB94-06EB1036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53AA-487C-4617-B07E-A5F343CB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56F7-01CF-434F-84B0-4949CA9D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B566-64BF-4614-BE1B-B7F5F26E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A194-0BA1-4E05-8379-279B1496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A90-6980-4DC8-817B-6254756E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32A7-7F4B-4DF8-B5EE-22E04CAD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B20E-27D8-40FA-8F44-EECA7A8E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4F45-AA83-4B97-B7FA-66979871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B2DA-0E05-49FA-AF3E-95719F0C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A457-ED7C-423A-AB41-DB6B8074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A99-0EF4-4403-9941-4BA63D86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8F6-0682-4097-A947-F75F532D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15D-C4FF-4312-B123-DBF9CA64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A62-B413-4714-87A4-CFA4DDFB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9D3-36DB-4FC2-B997-EABDFC07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F08-E36F-4042-9F5B-61128FEF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6FA-3D0A-4ACE-9F1B-A46D41ED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9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B3B1-57B2-48B4-A392-457621E81D6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2476-59B3-47EE-83F8-17D3C608B3D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9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" Target="slide5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UEBAS DIAGNOST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14520" y="4738680"/>
          <a:ext cx="1747800" cy="16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738680"/>
                    <a:ext cx="174780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659640" y="476280"/>
            <a:ext cx="1738080" cy="18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Tahoma"/>
              </a:rPr>
              <a:t>Especificidad (Es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68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babilidad de una prueba identifique correctamente a aquellos animales NO in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V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- = VN + F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7812000" y="5805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24005" y="10800"/>
                </a:lnTo>
                <a:lnTo>
                  <a:pt x="9993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13320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alor predictivo positivo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(VP+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6973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porción de animales positivos a la prueba y realmente in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V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+ = VP + F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7812000" y="5805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24005" y="10800"/>
                </a:lnTo>
                <a:lnTo>
                  <a:pt x="9993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187280" cy="89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alor predictivo negativo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(VP-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porción de animales negativos a la prueba y realmente NO in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V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- = VN + F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812000" y="5805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24005" y="10800"/>
                </a:lnTo>
                <a:lnTo>
                  <a:pt x="9993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18728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fecto de la prevalencia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n el valor predic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55640" y="1989000"/>
          <a:ext cx="7843680" cy="34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368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723600" y="5365800"/>
            <a:ext cx="188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imes New Roman"/>
              </a:rPr>
              <a:t>Se y Esp = 95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93492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fecto de la prevalencia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n el valor predic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979640" y="1700280"/>
          <a:ext cx="6480000" cy="43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00280"/>
                    <a:ext cx="64800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3578400" y="6127920"/>
            <a:ext cx="1772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Prevalencia 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4480" y="3689280"/>
            <a:ext cx="1298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Valo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Predictiv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43040" y="3003480"/>
            <a:ext cx="73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VP +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21520" y="3003480"/>
            <a:ext cx="670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VP 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93492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Relación entre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P+ y Especific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362320" y="2695680"/>
          <a:ext cx="4626000" cy="31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95680"/>
                    <a:ext cx="462600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3041280" y="6081840"/>
            <a:ext cx="230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Especificidad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82520" y="3643200"/>
            <a:ext cx="83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VP 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115092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Relación entre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P- y Sensi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835280" y="1844640"/>
          <a:ext cx="6408720" cy="402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844640"/>
                    <a:ext cx="640872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3192840" y="6081840"/>
            <a:ext cx="215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Sensibilidad 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54160" y="3643200"/>
            <a:ext cx="76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VP 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122400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Selección de pruebas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diagnóst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Usar una prueba con alta Se y alto VP- cuando se quie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700"/>
              </a:spcBef>
              <a:spcAft>
                <a:spcPts val="1225"/>
              </a:spcAft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educir el número de falsos nega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700"/>
              </a:spcBef>
              <a:spcAft>
                <a:spcPts val="1225"/>
              </a:spcAft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vitar la introducción de una enferme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575160" y="5221440"/>
          <a:ext cx="2063520" cy="11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5160" y="5221440"/>
                    <a:ext cx="206352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107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Selección de pruebas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diagnóst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Use una prueba con alta Esp y alto VP+ cuando se quie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Confirmar un diagnóstic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Evitar el sacrificio innecesario de anima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87440" indent="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505320" y="5195880"/>
          <a:ext cx="1752480" cy="12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5195880"/>
                    <a:ext cx="175248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11988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uebas en seri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Los resultados de todas las pruebas deben ser posi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Sólo se aplicará otra prueba si el resultado previo es positiv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Se desea aumentar la Especificidad (Esp) y el Valor Predictivo Positivo (VP+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1127160" cy="8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studios de preval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eterminar la frecuencia y distribución de un agente infeccio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Frecuentemente por medición de anticuerp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blema: falsos positivos y nega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93672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uebas en parale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41672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os resultados de todas las pruebas deben ser nega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Sólo se aplicará otra prueba si el resultado previo es negativ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Se desea aumentar la Sensibilidad (Se) y el Valor Predictivo Negativo (VP-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12716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Baterías de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spcAft>
                <a:spcPts val="2999"/>
              </a:spcAft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plicar todas las pruebas posib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 mayor número de pruebas, mayor posibilidad de un falso positiv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811680" y="5208480"/>
          <a:ext cx="1293840" cy="12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1680" y="5208480"/>
                    <a:ext cx="129384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611280" y="260280"/>
            <a:ext cx="112716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ntes de interpretar un resultad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2064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onocer las características de la prueb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2064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onocer la situación epidemiológica general a la que se enfren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2064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ceptar que no existen pruebas 100% confiabl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130464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Tahoma"/>
              </a:rPr>
              <a:t>Pruebas de tamiza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Conocidas como </a:t>
            </a: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screen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Utilizadas para distinguir animales aparentemente sanos de animales in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Generalmente se requiere de una prueba de confi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328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piedades de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las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Sensibilidad (S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specificidad (Esp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07928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49520" y="2266920"/>
            <a:ext cx="6095880" cy="3505320"/>
          </a:xfrm>
          <a:prstGeom prst="rect">
            <a:avLst/>
          </a:prstGeom>
          <a:solidFill>
            <a:srgbClr val="33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lasificación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de resulta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03280" y="2343240"/>
          <a:ext cx="8415360" cy="428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2343240"/>
                    <a:ext cx="8415360" cy="42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8028000" y="6021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7493"/>
                </a:moveTo>
                <a:lnTo>
                  <a:pt x="11964" y="7493"/>
                </a:lnTo>
                <a:lnTo>
                  <a:pt x="11964" y="12828"/>
                </a:lnTo>
                <a:cubicBezTo>
                  <a:pt x="11964" y="13751"/>
                  <a:pt x="12765" y="14482"/>
                  <a:pt x="13800" y="14482"/>
                </a:cubicBezTo>
                <a:lnTo>
                  <a:pt x="15463" y="14482"/>
                </a:lnTo>
                <a:cubicBezTo>
                  <a:pt x="16498" y="14482"/>
                  <a:pt x="17299" y="13751"/>
                  <a:pt x="17299" y="12828"/>
                </a:cubicBezTo>
                <a:lnTo>
                  <a:pt x="17299" y="7493"/>
                </a:lnTo>
                <a:lnTo>
                  <a:pt x="15463" y="7493"/>
                </a:lnTo>
                <a:lnTo>
                  <a:pt x="18970" y="3985"/>
                </a:lnTo>
                <a:lnTo>
                  <a:pt x="22643" y="7493"/>
                </a:lnTo>
                <a:lnTo>
                  <a:pt x="20807" y="7493"/>
                </a:lnTo>
                <a:lnTo>
                  <a:pt x="20807" y="12828"/>
                </a:lnTo>
                <a:cubicBezTo>
                  <a:pt x="20807" y="15596"/>
                  <a:pt x="18231" y="18155"/>
                  <a:pt x="15463" y="18155"/>
                </a:cubicBezTo>
                <a:lnTo>
                  <a:pt x="13800" y="18155"/>
                </a:lnTo>
                <a:cubicBezTo>
                  <a:pt x="11033" y="18155"/>
                  <a:pt x="8456" y="15596"/>
                  <a:pt x="8456" y="12828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129672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alencia verdade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porción de animales realmente in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7667640" y="566100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alencia apar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porción de animales probados positivos a la pru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7740720" y="5877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34316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xactitu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6758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porción de animales correctamente identificados por la pru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VP + V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826920" y="4508640"/>
          <a:ext cx="1729080" cy="16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508640"/>
                    <a:ext cx="1729080" cy="16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3" action="ppaction://hlinksldjump"/>
          </p:cNvPr>
          <p:cNvSpPr/>
          <p:nvPr/>
        </p:nvSpPr>
        <p:spPr>
          <a:xfrm>
            <a:off x="7812000" y="5805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24005" y="10800"/>
                </a:lnTo>
                <a:lnTo>
                  <a:pt x="9993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118728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Sensibilidad (Se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68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babilidad de que una prueba identifique correctamente a los animales in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VP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+ = VP + F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7812000" y="5805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24005" y="10800"/>
                </a:lnTo>
                <a:lnTo>
                  <a:pt x="9993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2236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21T15:27:04Z</dcterms:created>
  <dc:creator/>
  <dc:description/>
  <cp:keywords/>
  <dc:language>en-US</dc:language>
  <cp:lastModifiedBy>DIRPRE</cp:lastModifiedBy>
  <dcterms:modified xsi:type="dcterms:W3CDTF">2008-05-15T21:02:31Z</dcterms:modified>
  <cp:revision>26</cp:revision>
  <dc:subject/>
  <dc:title>PROPIEDADES DE LAS PRUEBAS DIAGNOSTICAS</dc:title>
</cp:coreProperties>
</file>