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291-C7C0-471A-9127-FB51E99A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CC4-AB30-43CD-9F82-7FE7042F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49F-5B07-4A8A-8C79-A7046508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EA2-D6F4-46B2-A091-7E53E838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E7E0-CED4-4B90-B56A-2327D364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7E32-DA96-4265-A12D-E7879029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A5EC-F260-4B9F-9A7C-6647BF88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275B-1EDA-4E61-9C85-9958B078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E0A0-97B7-480C-A82F-CCCBBD10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F3D0-D26F-4F2E-85E5-9CF32314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4ABD-6ABC-4392-AF50-C24FF7A8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FBD-8644-4993-9BED-C3BB6137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DD1B-1832-43E2-B5A8-79985797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BE2D-95DB-439F-B302-76F45EF2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99B4-02F8-40BB-B328-332DB454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559A-2EB3-44F9-9E12-89E9D86A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3512-FB36-4595-A555-C3EFDF77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FB5-5C0E-4E13-8C7D-EA3048B2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C73-BCCE-4783-91B6-1E699D04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DDB-EF07-42E7-BC14-3FBBF985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AA8-3850-4395-863A-C154FCEC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870-CA8D-4025-AB50-FE1E9FFD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4EB-5F8E-4926-8083-09D20C42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A3D-E7F4-48E7-8AAE-6A8193A1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31A3-9EA6-402C-BC17-90B1A84AD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9347-657D-4629-B2BD-4A9261C377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EPIDEMIOLOGIA Y SUS RELACIONES CON OTRAS ARE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Santiago Urcelay Vicent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Facultad de Ciencias Veterinarias y Pecuaria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Tahoma"/>
              </a:rPr>
              <a:t>EPIDEMIOLOGIA Y SECTORES PÚBLICO Y PRIVADO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Globalización está orientando nuevas vertientes de acción para la Epidemiología, tanto en lo público como privado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Acercamiento de trabajo entre sector público y privado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El Estado está disminuyendo su acción “policial” y esta trabajando en mayor “colaboración” con el sector privado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Vinculación internacional mayor de los mercados ha desarrollado los Análisis de Riesgo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Crecen en importancia los litigios legales por asuntos de comercio agropecuario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Consumidores son más activos en defensa de sus derechos a comer productos sanos y de calidad por lo que pagan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EPIDEMIOLOGIA Y SU FUTURO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La Epidemiología seguirá sirviendo a la sociedad si es capaz de adaptarse a los cambios, incorporar nuevas estrategias y resolver los problemas que se le demande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Los epidemiólogos no deben perder el encanto por lo que hacen y hacerselo sentir a las generaciones futuras de Médicos Veterinario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La Epidemiología es “la más apasionante de las especialidades.... y la más pedante, porque su misión es explicarlo todo, preverlo todo, prevenirlo todo... bueno saberlo todo”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EPIDEMIOLOGIA EN SALUD ANI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Forma de pensar holístic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Mantener patrones de salu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Prevenir, controlar y erradicar patrones de enfermeda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Poblaciones anima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ff"/>
                </a:solidFill>
                <a:latin typeface="Tahoma"/>
              </a:rPr>
              <a:t>HISTORIA DE SALUD Y</a:t>
            </a:r>
            <a:r>
              <a:rPr b="0" lang="es-ES_tradnl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ccffff"/>
                </a:solidFill>
                <a:latin typeface="Tahoma"/>
              </a:rPr>
              <a:t>ENFERMEDAD EN ANIMAL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Vinculada a la historia del hombr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Los patrones de explicación se encuentran todos actualmente en distintas sociedade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Explicación sobrenatural (Dioses castigadore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Factores ambientales naturales o antrópico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Agentes infecciosos específicos (Relación agente-huésped)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Enfoque holístico con incorporación de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Lo socio económico cultura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Lo tempora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Lo espacia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Las políticas sanitaria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Tahoma"/>
              </a:rPr>
              <a:t>El comercio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Tahoma"/>
              </a:rPr>
              <a:t>¿ PORQUE SALUD ANIMAL?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¿Porque se desea tener a la población en estado de salud y porque trabajamos  para mantenerla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Para tener beneficios económico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Para tener beneficios social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Para tener intercambios comercial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Para mantener el bienestar anima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Para mantener equilibrio ecológico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Para mantener diversidad genétic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ff"/>
                </a:solidFill>
                <a:latin typeface="Tahoma"/>
              </a:rPr>
              <a:t>EPIDEMIOLOGO Y SALUD ANIMA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El Epidemiólogo esta al servicio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De la producción animal (productiva, afectiva o   recreacional)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De  las formas de producción y sus cambio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De las necesidades del hombre y sus mecanismos de intercambio (mercado)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Tahoma"/>
              </a:rPr>
              <a:t>EPIDEMIOLOGIA Y POBLACIO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La salud y enfermedad se mira en las poblaciones y eso la hace diferente al enfoque clínico y patológico</a:t>
            </a: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Incorpora elementos demográficos y espaciales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conocer distribució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conocer movimientos: migraciones, extraccion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parámetros de natalidad, mortalidad, morbilidad,      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conocer distribución espacial por cartografía y   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Sistemas de Información Geográfico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Tahoma"/>
              </a:rPr>
              <a:t>EPIDEMIOLOGÍA Y ESTADISTIC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Incorpora el manejo computacional, para manejar grandes cantidades de dato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Incorpora metodologías aplicadas en otras áreas,  a la Epidemiología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Desarrolla la creación de Bases de Dato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Apoya el desarrollo de programas computacionales específicos, para uso Epidemiológico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Tahoma"/>
              </a:rPr>
              <a:t>EPIDEMIOLOGIA Y ECONOMI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Exigencias del sistema bancario, para prestar dinero al sector público y privado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Exigencias a las asesorías técnicas de los profesionales del sector pecuario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Desarrollo de metodologías adaptadas para el secto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Necesidad de trabajar con especialistas del área económica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Tahoma"/>
              </a:rPr>
              <a:t>EPIDEMIOLOGIA Y TRANSFORMACIONES PRODUCTIVA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Producción y su medición económica, son formas de medir las condiciones de Salud de poblaciones animal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Aparece el concepto de Sistema Productivo Enferm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Se incorporan elementos de genética, selección, nutrición, alimentación, reproducción y manejo, para mejorar la expresión productiva potencial de los animal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Se agrega valor a la producción  (agroindustrialización), se diversifica la producción y amplían mercado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01:10:43Z</dcterms:created>
  <dc:creator>Santiago Urcelay</dc:creator>
  <dc:description/>
  <dc:language>en-US</dc:language>
  <cp:lastModifiedBy>Facultad de Veterinaria</cp:lastModifiedBy>
  <dcterms:modified xsi:type="dcterms:W3CDTF">2009-03-12T11:41:36Z</dcterms:modified>
  <cp:revision>12</cp:revision>
  <dc:subject/>
  <dc:title>EPIDEMIOLOGIA EN SALUD ANIMAL</dc:title>
</cp:coreProperties>
</file>