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922-5917-4806-95D4-24AABC54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BA4-B1B5-49AC-860D-9201E619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A01-3B00-4517-965D-17C9D04D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6CA-D85C-49E5-9056-818B1FDA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FF7-6122-4B7C-83DB-56FB6A9A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960-7706-4B47-A08A-F0F5861E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CC5-A222-4D9D-A44A-2A838C22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314-E4CE-4B24-9C8D-E32134A3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A78-26EF-4121-98AE-ED4A97D1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936-BD9F-42D5-AE58-9A801B9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E7B-777A-45DD-9169-5C171B5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5F0-2D85-4AD5-B5CE-50DF1EC3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F7BE-ACC7-45B3-976C-894E59F88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943600" cy="1447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cesidades humanas (Max-Neef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605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Necesidad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Subsis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Satisfactor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li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enes económicos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eche. arr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Necesidades Hum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5829480" cy="6629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necesidades humanas son 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finita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, pocas y clasif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s necesidades humanas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 son iguale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en todas las culturas y períodos histó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o que cambia es la manera de satisfacer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"/>
              </a:rPr>
              <a:t>Matriz de necesidades </a:t>
            </a: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(Max Ne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2759040"/>
          <a:ext cx="6172200" cy="50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59040"/>
                    <a:ext cx="61722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67640" cy="1523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cc"/>
                </a:solidFill>
                <a:latin typeface="Arial"/>
              </a:rPr>
              <a:t>Índice de Pobreza Humana</a:t>
            </a:r>
            <a:r>
              <a:rPr b="1" lang="es-ES_tradn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(PNUD, 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133360"/>
            <a:ext cx="58291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Longe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que no sobrevivirá hasta los 40 a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Conocim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adultos analfabe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Nivel de V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sin acceso a agua po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sin acceso a servicios de sal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niños &lt; 5 años con peso insuficiente (malnutri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breza en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5829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étodo de la “Línea de Pobrez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indi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breza e indi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904760"/>
            <a:ext cx="5886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Indigente: Ingreso “per capita” es inferior al valor de una canasta básica de ali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Pobre: Ingreso “per capita” es inferior a dos veces el valor de una canasta básica de alimentos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Zona urb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92280" y="2124000"/>
          <a:ext cx="57610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124000"/>
                    <a:ext cx="5761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24480" y="668196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te: CASEN 2003,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9728" t="30319" r="10872" b="17512"/>
          <a:stretch/>
        </p:blipFill>
        <p:spPr>
          <a:xfrm>
            <a:off x="0" y="250920"/>
            <a:ext cx="6769080" cy="381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78880" y="880740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uente: Mideplan, Casen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18262" t="18492" r="17513" b="20466"/>
          <a:stretch/>
        </p:blipFill>
        <p:spPr>
          <a:xfrm>
            <a:off x="333360" y="4356000"/>
            <a:ext cx="6264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OBREZA: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Tema por gru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858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1.-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Analice las ventajas y desventajas de los indicadores de pobreza prese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2.-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Aplicando la matriz de necesidades de Max Neef, Discuta las necesidades que son satisfechas por los siguientes bienes: Arroz, Programa de Mag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3.-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¿Por que razón la pobreza no es Susten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sarrollo Sustentable</a:t>
            </a:r>
            <a:br>
              <a:rPr sz="40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ey de bases generales del medio ambiente, Chile,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360" y="2987280"/>
            <a:ext cx="5829120" cy="525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proceso de mejoramiento sostenido y 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equitativo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a calidad de vida de las personas, fundado en medidas apropiadas de conservación y protección del medio ambiente, de manera de no comprometer las expectativas de las generaciones futu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Sustentable: “Ambito”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3276720"/>
            <a:ext cx="5829120" cy="4851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......Indicadores del ámbito social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1676520"/>
          <a:ext cx="5691240" cy="45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5691240" cy="4593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10200" y="525780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inti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9440" y="6745320"/>
            <a:ext cx="4283280" cy="1922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80 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43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20 % más 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57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5360" y="45720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58672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stribución del Ingres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instrument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5639040" cy="5257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ncepto de Deciles  y Quint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a Curva de Loren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eficiente de 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“Índice 20/20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360" y="468000"/>
            <a:ext cx="5867280" cy="1439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003</a:t>
            </a:r>
            <a:br>
              <a:rPr sz="32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% por decil de ingreso autónomo per cápita por ho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2209680"/>
          <a:ext cx="29988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29988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STRIBUCION DEL INGRESO DE LOS HOGARES CHIL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04640" y="2411280"/>
          <a:ext cx="6193080" cy="5510520"/>
        </p:xfrm>
        <a:graphic>
          <a:graphicData uri="http://schemas.openxmlformats.org/drawingml/2006/table">
            <a:tbl>
              <a:tblPr/>
              <a:tblGrid>
                <a:gridCol w="1194120"/>
                <a:gridCol w="750600"/>
                <a:gridCol w="676440"/>
                <a:gridCol w="714240"/>
                <a:gridCol w="714600"/>
                <a:gridCol w="714240"/>
                <a:gridCol w="714240"/>
                <a:gridCol w="714600"/>
              </a:tblGrid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10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068640" y="8317080"/>
            <a:ext cx="280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: Encuesta CASE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2641680"/>
            <a:ext cx="4895640" cy="474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1040" y="3241800"/>
            <a:ext cx="49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6640" y="743256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981000">
            <a:off x="1221120" y="464760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ta de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2057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596000">
            <a:off x="2884320" y="57448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rvas de Lo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0115600">
            <a:off x="4952520" y="441972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4200" y="8101080"/>
            <a:ext cx="28004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41720" y="70930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suficiencias de la 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3962520"/>
            <a:ext cx="58291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splazamiento no 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ficultad de cuantificar variaciones pequeñ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360" y="323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eficiente de Gi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0640" y="1908000"/>
          <a:ext cx="5622840" cy="47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08000"/>
                    <a:ext cx="56228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628640" y="2411280"/>
            <a:ext cx="237672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"/>
              </a:rPr>
              <a:t>G = A / (A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29000" y="7093080"/>
            <a:ext cx="384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alore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0 =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 = 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57200" y="2674800"/>
          <a:ext cx="6058080" cy="414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74800"/>
                    <a:ext cx="6058080" cy="414684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19120" y="531720"/>
            <a:ext cx="605412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nking de países, ordenados por Coeficiente de G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uestra de 92 paí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8720" y="16812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Paí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4920" y="833112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Fte: Informe BM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04920" y="1905120"/>
          <a:ext cx="6060960" cy="60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6060960" cy="60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os 10 Países con la peor Distribución de Ingreso del Mu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95280" y="2514600"/>
          <a:ext cx="4708800" cy="4626000"/>
        </p:xfrm>
        <a:graphic>
          <a:graphicData uri="http://schemas.openxmlformats.org/drawingml/2006/table">
            <a:tbl>
              <a:tblPr/>
              <a:tblGrid>
                <a:gridCol w="2179800"/>
                <a:gridCol w="25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sw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rra Le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. Centro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á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7924680"/>
            <a:ext cx="4991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uente: Elaboración a partir de datos del Informe sobre Desarrollo Humano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finiciones de Pobr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8867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Necesidad: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Carencia de bienes y servic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absolu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Estándar de vida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: Comparación con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rel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PN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91520" y="533520"/>
            <a:ext cx="4831920" cy="1556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dicador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aso Chi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20640" y="2916360"/>
          <a:ext cx="5792760" cy="5195880"/>
        </p:xfrm>
        <a:graphic>
          <a:graphicData uri="http://schemas.openxmlformats.org/drawingml/2006/table">
            <a:tbl>
              <a:tblPr/>
              <a:tblGrid>
                <a:gridCol w="936720"/>
                <a:gridCol w="1509840"/>
                <a:gridCol w="1116000"/>
                <a:gridCol w="1114200"/>
                <a:gridCol w="1116000"/>
              </a:tblGrid>
              <a:tr h="64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9728" t="17512" r="18997" b="9637"/>
          <a:stretch/>
        </p:blipFill>
        <p:spPr>
          <a:xfrm>
            <a:off x="476280" y="826920"/>
            <a:ext cx="5111640" cy="455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25634" t="12586" r="28598" b="15539"/>
          <a:stretch/>
        </p:blipFill>
        <p:spPr>
          <a:xfrm>
            <a:off x="3429000" y="5076720"/>
            <a:ext cx="3179880" cy="374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92280" y="2509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ef Gini por comunas en la RM de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9360" y="838836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16977" t="23960" r="13622" b="18295"/>
          <a:stretch/>
        </p:blipFill>
        <p:spPr>
          <a:xfrm>
            <a:off x="404640" y="2700360"/>
            <a:ext cx="6143760" cy="468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36800" y="4881600"/>
            <a:ext cx="552744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9640" y="2982960"/>
            <a:ext cx="2637000" cy="457200"/>
          </a:xfrm>
          <a:prstGeom prst="wedgeRoundRectCallout">
            <a:avLst>
              <a:gd name="adj1" fmla="val -69143"/>
              <a:gd name="adj2" fmla="val 35555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. Gini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6280" y="6716880"/>
            <a:ext cx="2516400" cy="392040"/>
          </a:xfrm>
          <a:prstGeom prst="wedgeRoundRectCallout">
            <a:avLst>
              <a:gd name="adj1" fmla="val -45393"/>
              <a:gd name="adj2" fmla="val -30911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 Gini Com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9040" y="755640"/>
            <a:ext cx="61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aración entre Gini Nacional y Gini Comu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7000" y="810108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os en la 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3657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eora con mucha fac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jora con mucha dificu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y Redistribución del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5105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resultado del sistema económico, sin intervención del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íticas desarrolladas por el Estado para </a:t>
            </a: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compensar y cambiar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la distribución del 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3123720"/>
            <a:ext cx="5829120" cy="2590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 Porque no varia la Distribución del Ingreso en Chil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0880" y="6477120"/>
            <a:ext cx="629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ntecedente: En los últimos 15 añ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el gasto en educación, medido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% del PIB se ha dupli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obreza: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mbre Mundial sobre Desarrollo Social, Copenhague,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La pobreza tienen diversas manifestaciones: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falta de ingres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de recursos productivos suficientes para garantizar medios de vida sostenibles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hambre y malnutrición, mala salud, falta de acceso o acceso limitado a la educ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a otros servicios básicos, aumento de la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morbilidad y mortalidad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a causa de enfermedades 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carencia de vivienda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o vivienda inadecuada, medios que no ofrecen condiciones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seguridad, discriminación y exclusión social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. También se caracteriza por falta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particip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en la adopción de  decisiones en la vida civil, social y cultur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920" y="304920"/>
            <a:ext cx="67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Es necesario que los planes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sean amplios, mucho más que unos po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royectos “orientados” a los pobres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9000" y="0"/>
            <a:ext cx="6669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6858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Organizados sectorialmente, la mayor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 los programas de lucha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tienen vínculos débiles con otras polític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sarrollo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sarrollo a Escala Humana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° de las neces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(Max-Neef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Desarrollo se refiere a las personas y no a los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mejor proceso de desarrollo es aquel que permite elevar más l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alidad de vid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la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calidad de vida es una función de la capacidad de satisfacer adecuadamente las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necesidades humana bás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visión integrado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…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el resultado de la compleja interacción entre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factores objetivos y subjetivo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; los primeros constituyen las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condiciones externas: económicas, sociopolíticas, cuturales, personales y ambientale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que facilitan o entorpecen el pleno desarrollo del hombre… Los segundos están determinados por la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valoración que el sujeto hace de su propia vida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Cabrera García et al, 1998, en 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Verdana"/>
              </a:rPr>
              <a:t>La calidad de vida es un complejo proceso de elaboración subjetiva, que parte de la realidad objetiva, donde la determinación histórico-cultural está presente y tienen manifestaciones individuales y culturales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9:20Z</dcterms:created>
  <dc:creator>jgarces</dc:creator>
  <dc:description/>
  <dc:language>en-US</dc:language>
  <cp:lastModifiedBy>JGarces</cp:lastModifiedBy>
  <dcterms:modified xsi:type="dcterms:W3CDTF">2008-12-05T12:37:02Z</dcterms:modified>
  <cp:revision>40</cp:revision>
  <dc:subject/>
  <dc:title>Presentación de PowerPoint</dc:title>
</cp:coreProperties>
</file>