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5FB-83B2-4B20-85DD-7A010306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41F-28AC-42AA-BA75-B9C8B084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BF4-2871-41F9-B5B2-26ABE08C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29A-60B9-4700-9E15-51E2FF1E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602-C069-4F0C-BFC9-8AB1E5E2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6731-C9C7-45A3-87E9-CA9EA8BF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DA3-E011-446B-91AE-A8730CCE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456-A97C-49CC-817F-9AC0284D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813-FD79-4E65-82A2-312F58AA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A63-9800-44CF-9972-491DE9E5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DB1-454B-493D-8C2E-88096E95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A346-6123-454B-A9B7-34E07CA7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7826-91E5-4A5C-B50B-A6A35FA56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943600" cy="1447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cesidades humanas (Max-Neef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605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Necesidad</a:t>
            </a:r>
            <a:r>
              <a:rPr b="0" lang="es-ES_tradnl" sz="3600" spc="-1" strike="noStrike">
                <a:solidFill>
                  <a:srgbClr val="3333cc"/>
                </a:solidFill>
                <a:latin typeface="Verdana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Subsis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Satisfactor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Alim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enes económicos</a:t>
            </a:r>
            <a:r>
              <a:rPr b="0" lang="es-ES_tradnl" sz="3600" spc="-1" strike="noStrike">
                <a:solidFill>
                  <a:srgbClr val="3333cc"/>
                </a:solidFill>
                <a:latin typeface="Verdana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Leche. arro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Verdana"/>
              </a:rPr>
              <a:t>Necesidades Hum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5829480" cy="6629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necesidades humanas son </a:t>
            </a:r>
            <a:r>
              <a:rPr b="1" lang="es-ES_tradnl" sz="3200" spc="-1" strike="noStrike">
                <a:solidFill>
                  <a:srgbClr val="ff0000"/>
                </a:solidFill>
                <a:latin typeface="Verdana"/>
              </a:rPr>
              <a:t>finitas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, pocas y clasific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s necesidades humanas</a:t>
            </a:r>
            <a:r>
              <a:rPr b="1" lang="es-ES_tradnl" sz="3200" spc="-1" strike="noStrike">
                <a:solidFill>
                  <a:srgbClr val="ff0000"/>
                </a:solidFill>
                <a:latin typeface="Verdana"/>
              </a:rPr>
              <a:t> son iguales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en todas las culturas y períodos histó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o que cambia es la manera de satisfacer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"/>
              </a:rPr>
              <a:t>Matriz de necesidades </a:t>
            </a: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(Max Ne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2759040"/>
          <a:ext cx="6172200" cy="508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59040"/>
                    <a:ext cx="617220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5867640" cy="15238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cc"/>
                </a:solidFill>
                <a:latin typeface="Arial"/>
              </a:rPr>
              <a:t>Índice de Pobreza Humana</a:t>
            </a:r>
            <a:r>
              <a:rPr b="1" lang="es-ES_tradn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33cc"/>
                </a:solidFill>
                <a:latin typeface="Times New Roman"/>
              </a:rPr>
              <a:t>(PNUD, 199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133360"/>
            <a:ext cx="58291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Longe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personas que no sobrevivirá hasta los 40 añ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Conocimi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adultos analfabe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Nivel de V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personas sin acceso a agua pot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sin acceso a servicios de salu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niños &lt; 5 años con peso insuficiente (malnutrició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breza en 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5829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étodo de la “Línea de Pobrez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nea de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nea de indi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breza e indi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904760"/>
            <a:ext cx="58863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gar Indigente: Ingreso “per capita” es inferior al valor de una canasta básica de ali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gar Pobre: Ingreso “per capita” es inferior a dos veces el valor de una canasta básica de alimentos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Zona urb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92280" y="2124000"/>
          <a:ext cx="576108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124000"/>
                    <a:ext cx="57610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24480" y="668196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te: CASEN 2003,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9728" t="30319" r="10872" b="17512"/>
          <a:stretch/>
        </p:blipFill>
        <p:spPr>
          <a:xfrm>
            <a:off x="0" y="250920"/>
            <a:ext cx="6769080" cy="3816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78880" y="8807400"/>
            <a:ext cx="26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Fuente: Mideplan, Casen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18262" t="18492" r="17513" b="20466"/>
          <a:stretch/>
        </p:blipFill>
        <p:spPr>
          <a:xfrm>
            <a:off x="333360" y="4356000"/>
            <a:ext cx="62643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OBREZA: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Tema por gru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6858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1.-</a:t>
            </a: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Analice las ventajas y desventajas de los indicadores de pobreza presen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2.-</a:t>
            </a: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Aplicando la matriz de necesidades de Max Neef, Discuta las necesidades que son satisfechas por los siguientes bienes: Arroz, Programa de Mag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3.-</a:t>
            </a: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¿Por que razón la pobreza no es Sustent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sarrollo Sustentable</a:t>
            </a:r>
            <a:br>
              <a:rPr sz="40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ey de bases generales del medio ambiente, Chile, 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360" y="2987280"/>
            <a:ext cx="5829120" cy="525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proceso de mejoramiento sostenido y 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equitativo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 la calidad de vida de las personas, fundado en medidas apropiadas de conservación y protección del medio ambiente, de manera de no comprometer las expectativas de las generaciones futu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arrollo Sustentable: “Ambito”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440" y="3276720"/>
            <a:ext cx="5829120" cy="4851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......Indicadores del ámbito social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3520" y="1676520"/>
          <a:ext cx="5691240" cy="45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5691240" cy="4593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10200" y="525780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inti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79440" y="6745320"/>
            <a:ext cx="4283280" cy="19227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80 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tiene el 43 %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20 % más 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tiene el 57 %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5360" y="457200"/>
            <a:ext cx="54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586728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stribución del Ingres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instrument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5639040" cy="5257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concepto de Deciles  y Quint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a Curva de Loren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Coeficiente de Gi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“Índice 20/20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360" y="468000"/>
            <a:ext cx="5867280" cy="1439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003</a:t>
            </a:r>
            <a:br>
              <a:rPr sz="32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% por decil de ingreso autónomo per cápita por ho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7400" y="2209680"/>
          <a:ext cx="29988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29988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ISTRIBUCION DEL INGRESO DE LOS HOGARES CHIL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04640" y="2411280"/>
          <a:ext cx="6193080" cy="5510520"/>
        </p:xfrm>
        <a:graphic>
          <a:graphicData uri="http://schemas.openxmlformats.org/drawingml/2006/table">
            <a:tbl>
              <a:tblPr/>
              <a:tblGrid>
                <a:gridCol w="1194120"/>
                <a:gridCol w="750600"/>
                <a:gridCol w="676440"/>
                <a:gridCol w="714240"/>
                <a:gridCol w="714600"/>
                <a:gridCol w="714240"/>
                <a:gridCol w="714240"/>
                <a:gridCol w="714600"/>
              </a:tblGrid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e 20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e 10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068640" y="8317080"/>
            <a:ext cx="280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: Encuesta CASEN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de Loren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2641680"/>
            <a:ext cx="4895640" cy="4748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71040" y="3241800"/>
            <a:ext cx="49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36640" y="743256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8981000">
            <a:off x="1221120" y="4647600"/>
            <a:ext cx="36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cta de 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666880"/>
            <a:ext cx="2057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9596000">
            <a:off x="2884320" y="574488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rvas de Lor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0115600">
            <a:off x="4952520" y="4419720"/>
            <a:ext cx="228600" cy="761760"/>
          </a:xfrm>
          <a:prstGeom prst="upArrow">
            <a:avLst>
              <a:gd name="adj1" fmla="val 50000"/>
              <a:gd name="adj2" fmla="val 833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24200" y="8101080"/>
            <a:ext cx="28004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s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41720" y="70930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suficiencias de la curva de Loren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3962520"/>
            <a:ext cx="58291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esplazamiento no paral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ficultad de cuantificar variaciones pequeñ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360" y="3236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eficiente de Gin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0640" y="1908000"/>
          <a:ext cx="5622840" cy="475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908000"/>
                    <a:ext cx="562284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628640" y="2411280"/>
            <a:ext cx="237672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"/>
              </a:rPr>
              <a:t>G = A / (A+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29000" y="7093080"/>
            <a:ext cx="384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alore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0 = 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 = Des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57200" y="2674800"/>
          <a:ext cx="6058080" cy="414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74800"/>
                    <a:ext cx="6058080" cy="414684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19120" y="531720"/>
            <a:ext cx="605412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nking de países, ordenados por Coeficiente de G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muestra de 92 paí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8720" y="168120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Paí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4920" y="833112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Fte: Informe BM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04920" y="1905120"/>
          <a:ext cx="6060960" cy="60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6060960" cy="60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os 10 Países con la peor Distribución de Ingreso del Mu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95280" y="2514600"/>
          <a:ext cx="4708800" cy="4626000"/>
        </p:xfrm>
        <a:graphic>
          <a:graphicData uri="http://schemas.openxmlformats.org/drawingml/2006/table">
            <a:tbl>
              <a:tblPr/>
              <a:tblGrid>
                <a:gridCol w="2179800"/>
                <a:gridCol w="2529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eficiente de Gi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sw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rra Le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. Centro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dá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7924680"/>
            <a:ext cx="4991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uente: Elaboración a partir de datos del Informe sobre Desarrollo Humano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efiniciones de Pobr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58867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Necesidad: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Carencia de bienes y servic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Enfoque absolu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Estándar de vida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: Comparación con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Enfoque rel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PNU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91520" y="533520"/>
            <a:ext cx="4831920" cy="1556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dicador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caso Chil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20640" y="2916360"/>
          <a:ext cx="5792760" cy="5195880"/>
        </p:xfrm>
        <a:graphic>
          <a:graphicData uri="http://schemas.openxmlformats.org/drawingml/2006/table">
            <a:tbl>
              <a:tblPr/>
              <a:tblGrid>
                <a:gridCol w="936720"/>
                <a:gridCol w="1509840"/>
                <a:gridCol w="1116000"/>
                <a:gridCol w="1114200"/>
                <a:gridCol w="1116000"/>
              </a:tblGrid>
              <a:tr h="64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oeficiente de Gi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Indice 20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19728" t="17512" r="18997" b="9637"/>
          <a:stretch/>
        </p:blipFill>
        <p:spPr>
          <a:xfrm>
            <a:off x="476280" y="826920"/>
            <a:ext cx="5111640" cy="455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25634" t="12586" r="28598" b="15539"/>
          <a:stretch/>
        </p:blipFill>
        <p:spPr>
          <a:xfrm>
            <a:off x="3429000" y="5076720"/>
            <a:ext cx="3179880" cy="3745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92280" y="2509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ef Gini por comunas en la RM de 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9360" y="8388360"/>
            <a:ext cx="275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Agostini y  Brown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16977" t="23960" r="13622" b="18295"/>
          <a:stretch/>
        </p:blipFill>
        <p:spPr>
          <a:xfrm>
            <a:off x="404640" y="2700360"/>
            <a:ext cx="6143760" cy="468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36800" y="4881600"/>
            <a:ext cx="552744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79640" y="2982960"/>
            <a:ext cx="2637000" cy="457200"/>
          </a:xfrm>
          <a:prstGeom prst="wedgeRoundRectCallout">
            <a:avLst>
              <a:gd name="adj1" fmla="val -69143"/>
              <a:gd name="adj2" fmla="val 355555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ef. Gini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16280" y="6716880"/>
            <a:ext cx="2516400" cy="392040"/>
          </a:xfrm>
          <a:prstGeom prst="wedgeRoundRectCallout">
            <a:avLst>
              <a:gd name="adj1" fmla="val -45393"/>
              <a:gd name="adj2" fmla="val -30911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ef Gini Comu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9040" y="755640"/>
            <a:ext cx="61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aración entre Gini Nacional y Gini Comu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7000" y="8101080"/>
            <a:ext cx="275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Agostini y  Brown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os en la Distribución de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3657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eora con mucha fac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jora con mucha dificu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y Redistribución del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5105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resultado del sistema económico, sin intervención del 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íticas desarrolladas por el Estado para </a:t>
            </a:r>
            <a:r>
              <a:rPr b="1" lang="es-MX" sz="3600" spc="-1" strike="noStrike">
                <a:solidFill>
                  <a:srgbClr val="ff0000"/>
                </a:solidFill>
                <a:latin typeface="Arial"/>
              </a:rPr>
              <a:t>compensar y cambiar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la distribución del 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del ingreso en 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3123720"/>
            <a:ext cx="5829120" cy="25909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 Porque no varia la Distribución del Ingreso en Chil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0880" y="6477120"/>
            <a:ext cx="629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Antecedente: En los últimos 15 añ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el gasto en educación, medido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% del PIB se ha dupli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obreza: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umbre Mundial sobre Desarrollo Social, Copenhague, 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La pobreza tienen diversas manifestaciones: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falta de ingresos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y de recursos productivos suficientes para garantizar medios de vida sostenibles,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hambre y malnutrición, mala salud, falta de acceso o acceso limitado a la educ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y a otros servicios básicos, aumento de la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morbilidad y mortalidad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a causa de enfermedades ,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carencia de vivienda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o vivienda inadecuada, medios que no ofrecen condiciones de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seguridad, discriminación y exclusión social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. También se caracteriza por falta de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particip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en la adopción de  decisiones en la vida civil, social y cultur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920" y="304920"/>
            <a:ext cx="679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Es necesario que los planes contra l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sean amplios, mucho más que unos po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royectos “orientados” a los pobres. PNU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9000" y="0"/>
            <a:ext cx="6669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6858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Organizados sectorialmente, la mayor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e los programas de lucha contra l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tienen vínculos débiles con otras polític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esarrollo. PNU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sarrollo a Escala Humana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° de las neces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(Max-Neef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Desarrollo se refiere a las personas y no a los ob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mejor proceso de desarrollo es aquel que permite elevar más la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alidad de vid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la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calidad de vida es una función de la capacidad de satisfacer adecuadamente las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necesidades humana bás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(visión integrado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…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 el resultado de la compleja interacción entre </a:t>
            </a: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factores objetivos y subjetivos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; los primeros constituyen las </a:t>
            </a:r>
            <a:r>
              <a:rPr b="0" lang="es-ES_tradnl" sz="2400" spc="-1" strike="noStrike">
                <a:solidFill>
                  <a:srgbClr val="008000"/>
                </a:solidFill>
                <a:latin typeface="Verdana"/>
              </a:rPr>
              <a:t>condiciones externas: económicas, sociopolíticas, cuturales, personales y ambientales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que facilitan o entorpecen el pleno desarrollo del hombre… Los segundos están determinados por la </a:t>
            </a:r>
            <a:r>
              <a:rPr b="0" lang="es-ES_tradnl" sz="2400" spc="-1" strike="noStrike">
                <a:solidFill>
                  <a:srgbClr val="008000"/>
                </a:solidFill>
                <a:latin typeface="Verdana"/>
              </a:rPr>
              <a:t>valoración que el sujeto hace de su propia vida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(Cabrera García et al, 1998, en García-Viniegras 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Verdana"/>
              </a:rPr>
              <a:t>La calidad de vida es un complejo proceso de elaboración subjetiva, que parte de la realidad objetiva, donde la determinación histórico-cultural está presente y tienen manifestaciones individuales y culturales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(García-Viniegras 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4:29:20Z</dcterms:created>
  <dc:creator>jgarces</dc:creator>
  <dc:description/>
  <dc:language>en-US</dc:language>
  <cp:lastModifiedBy>JGarces</cp:lastModifiedBy>
  <dcterms:modified xsi:type="dcterms:W3CDTF">2008-12-05T12:37:02Z</dcterms:modified>
  <cp:revision>40</cp:revision>
  <dc:subject/>
  <dc:title>Presentación de PowerPoint</dc:title>
</cp:coreProperties>
</file>