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28A9-EC26-4A8B-BDB1-B6436B765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4A9D-1793-4B62-AD1F-5C5DDB44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D3F3-11CF-4D84-9E7A-78FFF0D7E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512D-B45E-4643-B92E-A96491504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1563-A733-43B5-854F-33747030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5038-16D6-4656-8BEC-4C16980D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4305-32F6-4007-AB8F-3DC897A3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EF29-0C87-44FE-9D3A-12E840CE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A717-179D-431F-9305-FADA966A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88C7-5D85-4AB6-A027-9A3FD5E5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A16C-ADC3-459C-BA91-A1A04868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30C4-B572-43AA-90D5-A7446F5F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F01F-D27E-4F1E-BEBB-8312E352F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5943600" cy="1447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Necesidades humanas (Max-Neef</a:t>
            </a: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2666520"/>
            <a:ext cx="6057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Necesidad</a:t>
            </a:r>
            <a:r>
              <a:rPr b="0" lang="es-ES_tradnl" sz="3600" spc="-1" strike="noStrike">
                <a:solidFill>
                  <a:srgbClr val="3333cc"/>
                </a:solidFill>
                <a:latin typeface="Verdana"/>
              </a:rPr>
              <a:t>: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Subsist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Satisfactor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Alimen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enes económicos</a:t>
            </a:r>
            <a:r>
              <a:rPr b="0" lang="es-ES_tradnl" sz="3600" spc="-1" strike="noStrike">
                <a:solidFill>
                  <a:srgbClr val="3333cc"/>
                </a:solidFill>
                <a:latin typeface="Verdana"/>
              </a:rPr>
              <a:t>: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Leche. arro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Verdana"/>
              </a:rPr>
              <a:t>Necesidades Huma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5829480" cy="66294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La necesidades humanas son </a:t>
            </a:r>
            <a:r>
              <a:rPr b="1" lang="es-ES_tradnl" sz="3200" spc="-1" strike="noStrike">
                <a:solidFill>
                  <a:srgbClr val="ff0000"/>
                </a:solidFill>
                <a:latin typeface="Verdana"/>
              </a:rPr>
              <a:t>finitas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, pocas y clasific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Las necesidades humanas</a:t>
            </a:r>
            <a:r>
              <a:rPr b="1" lang="es-ES_tradnl" sz="3200" spc="-1" strike="noStrike">
                <a:solidFill>
                  <a:srgbClr val="ff0000"/>
                </a:solidFill>
                <a:latin typeface="Verdana"/>
              </a:rPr>
              <a:t> son iguales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en todas las culturas y períodos histór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Lo que cambia es la manera de satisfacer las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Arial"/>
              </a:rPr>
              <a:t>Matriz de necesidades </a:t>
            </a:r>
            <a:r>
              <a:rPr b="0" lang="es-MX" sz="2800" spc="-1" strike="noStrike">
                <a:solidFill>
                  <a:srgbClr val="3333cc"/>
                </a:solidFill>
                <a:latin typeface="Arial"/>
              </a:rPr>
              <a:t>(Max Nee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04920" y="2759040"/>
          <a:ext cx="6172200" cy="508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759040"/>
                    <a:ext cx="6172200" cy="50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5867640" cy="15238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cc"/>
                </a:solidFill>
                <a:latin typeface="Arial"/>
              </a:rPr>
              <a:t>Índice de Pobreza Humana</a:t>
            </a:r>
            <a:r>
              <a:rPr b="1" lang="es-ES_tradnl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33cc"/>
                </a:solidFill>
                <a:latin typeface="Times New Roman"/>
              </a:rPr>
              <a:t>(PNUD, 199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440" y="2133360"/>
            <a:ext cx="582912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cc"/>
                </a:solidFill>
                <a:latin typeface="Arial Narrow"/>
              </a:rPr>
              <a:t>Longev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 Narrow"/>
              </a:rPr>
              <a:t>% de personas que no sobrevivirá hasta los 40 añ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cc"/>
                </a:solidFill>
                <a:latin typeface="Arial Narrow"/>
              </a:rPr>
              <a:t>Conocimien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 Narrow"/>
              </a:rPr>
              <a:t>% de adultos analfabe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33cc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cc"/>
                </a:solidFill>
                <a:latin typeface="Arial Narrow"/>
              </a:rPr>
              <a:t>Nivel de Vi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 Narrow"/>
              </a:rPr>
              <a:t>% de personas sin acceso a agua pot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 Narrow"/>
              </a:rPr>
              <a:t>% sin acceso a servicios de salu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 Narrow"/>
              </a:rPr>
              <a:t>% de niños &lt; 5 años con peso insuficiente (malnutrició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obreza en Ch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58294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étodo de la “Línea de Pobrez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ínea de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ínea de indi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82912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breza e indig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080" y="1904760"/>
            <a:ext cx="588636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Hogar Indigente: Ingreso “per capita” es inferior al valor de una canasta básica de alimen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Hogar Pobre: Ingreso “per capita” es inferior a dos veces el valor de una canasta básica de alimentos.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Zona urb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92280" y="2124000"/>
          <a:ext cx="5761080" cy="431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2124000"/>
                    <a:ext cx="57610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3624480" y="668196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Fte: CASEN 2003,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19728" t="30319" r="10872" b="17512"/>
          <a:stretch/>
        </p:blipFill>
        <p:spPr>
          <a:xfrm>
            <a:off x="0" y="250920"/>
            <a:ext cx="6769080" cy="3816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178880" y="8807400"/>
            <a:ext cx="267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Fuente: Mideplan, Casen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rcRect l="18262" t="18492" r="17513" b="20466"/>
          <a:stretch/>
        </p:blipFill>
        <p:spPr>
          <a:xfrm>
            <a:off x="333360" y="4356000"/>
            <a:ext cx="626436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POBREZA: 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Tema por gru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6858000" cy="73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Verdana"/>
              </a:rPr>
              <a:t>1.-</a:t>
            </a:r>
            <a:r>
              <a:rPr b="1" lang="es-ES_tradnl" sz="32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003366"/>
                </a:solidFill>
                <a:latin typeface="Verdana"/>
              </a:rPr>
              <a:t>Analice las ventajas y desventajas de los indicadores de pobreza present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2.-</a:t>
            </a:r>
            <a:r>
              <a:rPr b="1" lang="es-ES_tradnl" sz="3200" spc="-1" strike="noStrike">
                <a:solidFill>
                  <a:srgbClr val="006600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006600"/>
                </a:solidFill>
                <a:latin typeface="Verdana"/>
              </a:rPr>
              <a:t>Aplicando la matriz de necesidades de Max Neef, Discuta las necesidades que son satisfechas por los siguientes bienes: Arroz, Programa de Magi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Verdana"/>
              </a:rPr>
              <a:t>3.-</a:t>
            </a:r>
            <a:r>
              <a:rPr b="1" lang="es-ES_tradnl" sz="32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0000ff"/>
                </a:solidFill>
                <a:latin typeface="Verdana"/>
              </a:rPr>
              <a:t>¿Por que razón la pobreza no es Sustenta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esarrollo Sustentable</a:t>
            </a:r>
            <a:br>
              <a:rPr sz="4000"/>
            </a:b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ey de bases generales del medio ambiente, Chile, 199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360" y="2987280"/>
            <a:ext cx="5829120" cy="5256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 proceso de mejoramiento sostenido y </a:t>
            </a:r>
            <a:r>
              <a:rPr b="0" lang="es-MX" sz="3200" spc="-1" strike="noStrike">
                <a:solidFill>
                  <a:srgbClr val="ff0000"/>
                </a:solidFill>
                <a:latin typeface="Arial"/>
              </a:rPr>
              <a:t>equitativo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de la calidad de vida de las personas, fundado en medidas apropiadas de conservación y protección del medio ambiente, de manera de no comprometer las expectativas de las generaciones futu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esarrollo Sustentable: “Ambito” So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14440" y="3276720"/>
            <a:ext cx="5829120" cy="48513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obrez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istribución del Ingre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Arial"/>
              </a:rPr>
              <a:t>......Indicadores del ámbito social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533520" y="1676520"/>
          <a:ext cx="5691240" cy="459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5691240" cy="45939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610200" y="5257800"/>
            <a:ext cx="16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Quintil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79440" y="6745320"/>
            <a:ext cx="4283280" cy="19227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l 80 % de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Obtiene el 43 % del P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l 20 % más 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Obtiene el 57 % del P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5360" y="457200"/>
            <a:ext cx="54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Distribución del Ingr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5867280" cy="144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istribución del Ingreso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(instrumento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2895120"/>
            <a:ext cx="5639040" cy="52578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El concepto de Deciles  y Quinti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La Curva de Loren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El Coeficiente de Gi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El “Índice 20/20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360" y="468000"/>
            <a:ext cx="5867280" cy="1439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istribución del Ingreso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2003</a:t>
            </a:r>
            <a:br>
              <a:rPr sz="32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% por decil de ingreso autónomo per cápita por hog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057400" y="2209680"/>
          <a:ext cx="2998800" cy="647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209680"/>
                    <a:ext cx="299880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ISTRIBUCION DEL INGRESO DE LOS HOGARES CHILE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04640" y="2411280"/>
          <a:ext cx="6193080" cy="5510520"/>
        </p:xfrm>
        <a:graphic>
          <a:graphicData uri="http://schemas.openxmlformats.org/drawingml/2006/table">
            <a:tbl>
              <a:tblPr/>
              <a:tblGrid>
                <a:gridCol w="1194120"/>
                <a:gridCol w="750600"/>
                <a:gridCol w="676440"/>
                <a:gridCol w="714240"/>
                <a:gridCol w="714600"/>
                <a:gridCol w="714240"/>
                <a:gridCol w="714240"/>
                <a:gridCol w="714600"/>
              </a:tblGrid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e 20/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e 10/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3068640" y="8317080"/>
            <a:ext cx="280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te: Encuesta CASEN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urva de Loren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47920" y="2641680"/>
            <a:ext cx="4895640" cy="4748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71040" y="3241800"/>
            <a:ext cx="494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36640" y="7432560"/>
            <a:ext cx="25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% de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8981000">
            <a:off x="1221120" y="4647600"/>
            <a:ext cx="369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cta de igualdad absol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2666880"/>
            <a:ext cx="2057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9596000">
            <a:off x="2884320" y="5744880"/>
            <a:ext cx="27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urvas de Lore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20115600">
            <a:off x="4952520" y="4419720"/>
            <a:ext cx="228600" cy="761760"/>
          </a:xfrm>
          <a:prstGeom prst="upArrow">
            <a:avLst>
              <a:gd name="adj1" fmla="val 50000"/>
              <a:gd name="adj2" fmla="val 8330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33526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24200" y="8101080"/>
            <a:ext cx="28004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sigualdad absol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41720" y="7093080"/>
            <a:ext cx="216000" cy="1008000"/>
          </a:xfrm>
          <a:prstGeom prst="upArrow">
            <a:avLst>
              <a:gd name="adj1" fmla="val 50000"/>
              <a:gd name="adj2" fmla="val 1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Insuficiencias de la curva de Loren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3962520"/>
            <a:ext cx="58291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Desplazamiento no parale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Dificultad de cuantificar variaciones pequeñ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49360" y="32364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eficiente de Gin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20640" y="1908000"/>
          <a:ext cx="5622840" cy="475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1908000"/>
                    <a:ext cx="5622840" cy="47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628640" y="2411280"/>
            <a:ext cx="2376720" cy="45972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"/>
              </a:rPr>
              <a:t>G = A / (A+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29000" y="7093080"/>
            <a:ext cx="384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Valores extrem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0 = Igualdad absol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1 = Desigualdad absol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457200" y="2674800"/>
          <a:ext cx="6058080" cy="414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74800"/>
                    <a:ext cx="6058080" cy="4146840"/>
                  </a:xfrm>
                  <a:prstGeom prst="rect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19120" y="531720"/>
            <a:ext cx="6054120" cy="64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anking de países, ordenados por Coeficiente de G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muestra de 92 país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88720" y="1681200"/>
            <a:ext cx="52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osición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Paí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efi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04920" y="8331120"/>
            <a:ext cx="17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Fte: Informe BM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304920" y="1905120"/>
          <a:ext cx="6060960" cy="600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05120"/>
                    <a:ext cx="6060960" cy="60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Los 10 Países con la peor Distribución de Ingreso del Mu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295280" y="2514600"/>
          <a:ext cx="4708800" cy="4626000"/>
        </p:xfrm>
        <a:graphic>
          <a:graphicData uri="http://schemas.openxmlformats.org/drawingml/2006/table">
            <a:tbl>
              <a:tblPr/>
              <a:tblGrid>
                <a:gridCol w="2179800"/>
                <a:gridCol w="2529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eficiente de Gi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ib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oth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sw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rra Le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. Centroaf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aziland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dáf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s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mb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520" y="7924680"/>
            <a:ext cx="499140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Fuente: Elaboración a partir de datos del Informe sobre Desarrollo Humano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82912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Definiciones de Pobre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58867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 Narrow"/>
              </a:rPr>
              <a:t>Necesidad: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 Carencia de bienes y servici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(Enfoque absolu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 Narrow"/>
              </a:rPr>
              <a:t>Estándar de vida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: Comparación con ot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(Enfoque rela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 Narrow"/>
              </a:rPr>
              <a:t>PNU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91520" y="533520"/>
            <a:ext cx="4831920" cy="15562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ndicadores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istribución del Ingreso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 caso Chil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20640" y="2916360"/>
          <a:ext cx="5792760" cy="5195880"/>
        </p:xfrm>
        <a:graphic>
          <a:graphicData uri="http://schemas.openxmlformats.org/drawingml/2006/table">
            <a:tbl>
              <a:tblPr/>
              <a:tblGrid>
                <a:gridCol w="936720"/>
                <a:gridCol w="1509840"/>
                <a:gridCol w="1116000"/>
                <a:gridCol w="1114200"/>
                <a:gridCol w="1116000"/>
              </a:tblGrid>
              <a:tr h="64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Coeficiente de Gi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,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,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,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,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,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2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Indice 20/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4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4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3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19728" t="17512" r="18997" b="9637"/>
          <a:stretch/>
        </p:blipFill>
        <p:spPr>
          <a:xfrm>
            <a:off x="476280" y="826920"/>
            <a:ext cx="5111640" cy="4557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rcRect l="25634" t="12586" r="28598" b="15539"/>
          <a:stretch/>
        </p:blipFill>
        <p:spPr>
          <a:xfrm>
            <a:off x="3429000" y="5076720"/>
            <a:ext cx="3179880" cy="3745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92280" y="25092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ef Gini por comunas en la RM de Santi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9360" y="8388360"/>
            <a:ext cx="275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Agostini y  Brown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rcRect l="16977" t="23960" r="13622" b="18295"/>
          <a:stretch/>
        </p:blipFill>
        <p:spPr>
          <a:xfrm>
            <a:off x="404640" y="2700360"/>
            <a:ext cx="6143760" cy="4680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036800" y="4881600"/>
            <a:ext cx="552744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79640" y="2982960"/>
            <a:ext cx="2637000" cy="457200"/>
          </a:xfrm>
          <a:prstGeom prst="wedgeRoundRectCallout">
            <a:avLst>
              <a:gd name="adj1" fmla="val -69143"/>
              <a:gd name="adj2" fmla="val 355555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ef. Gini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16280" y="6716880"/>
            <a:ext cx="2516400" cy="392040"/>
          </a:xfrm>
          <a:prstGeom prst="wedgeRoundRectCallout">
            <a:avLst>
              <a:gd name="adj1" fmla="val -45393"/>
              <a:gd name="adj2" fmla="val -309111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ef Gini Comu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9040" y="755640"/>
            <a:ext cx="61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omparación entre Gini Nacional y Gini Comu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67000" y="8101080"/>
            <a:ext cx="275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Agostini y  Brown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ambios en la Distribución del Ingre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4440" y="3124080"/>
            <a:ext cx="5829120" cy="3657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mpeora con mucha fac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Mejora con mucha dificult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istribución y Redistribución del 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14440" y="3124080"/>
            <a:ext cx="5829120" cy="51055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Distrib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l resultado del sistema económico, sin intervención del 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Redistrib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líticas desarrolladas por el Estado para </a:t>
            </a:r>
            <a:r>
              <a:rPr b="1" lang="es-MX" sz="3600" spc="-1" strike="noStrike">
                <a:solidFill>
                  <a:srgbClr val="ff0000"/>
                </a:solidFill>
                <a:latin typeface="Arial"/>
              </a:rPr>
              <a:t>compensar y cambiar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la distribución del 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istribución del ingreso en Ch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4440" y="3123720"/>
            <a:ext cx="5829120" cy="25909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¿ Porque no varia la Distribución del Ingreso en Chile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0880" y="6477120"/>
            <a:ext cx="629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Antecedente: En los últimos 15 añ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el gasto en educación, medido c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% del PIB se ha dupli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582948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Pobreza: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umbre Mundial sobre Desarrollo Social, Copenhague, 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172200" cy="70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La pobreza tienen diversas manifestaciones: </a:t>
            </a:r>
            <a:r>
              <a:rPr b="1" lang="es-ES_tradnl" sz="2900" spc="-1" strike="noStrike">
                <a:solidFill>
                  <a:srgbClr val="ff3300"/>
                </a:solidFill>
                <a:latin typeface="Arial Narrow"/>
              </a:rPr>
              <a:t>falta de ingresos</a:t>
            </a: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 y de recursos productivos suficientes para garantizar medios de vida sostenibles, </a:t>
            </a:r>
            <a:r>
              <a:rPr b="1" lang="es-ES_tradnl" sz="2900" spc="-1" strike="noStrike">
                <a:solidFill>
                  <a:srgbClr val="ff3300"/>
                </a:solidFill>
                <a:latin typeface="Arial Narrow"/>
              </a:rPr>
              <a:t>hambre y malnutrición, mala salud, falta de acceso o acceso limitado a la educación</a:t>
            </a: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 y a otros servicios básicos, aumento de la </a:t>
            </a:r>
            <a:r>
              <a:rPr b="1" lang="es-ES_tradnl" sz="2900" spc="-1" strike="noStrike">
                <a:solidFill>
                  <a:srgbClr val="ff3300"/>
                </a:solidFill>
                <a:latin typeface="Arial Narrow"/>
              </a:rPr>
              <a:t>morbilidad y mortalidad</a:t>
            </a: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 a causa de enfermedades , </a:t>
            </a:r>
            <a:r>
              <a:rPr b="1" lang="es-ES_tradnl" sz="2900" spc="-1" strike="noStrike">
                <a:solidFill>
                  <a:srgbClr val="ff3300"/>
                </a:solidFill>
                <a:latin typeface="Arial Narrow"/>
              </a:rPr>
              <a:t>carencia de vivienda</a:t>
            </a: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 o vivienda inadecuada, medios que no ofrecen condiciones de </a:t>
            </a:r>
            <a:r>
              <a:rPr b="1" lang="es-ES_tradnl" sz="2900" spc="-1" strike="noStrike">
                <a:solidFill>
                  <a:srgbClr val="ff3300"/>
                </a:solidFill>
                <a:latin typeface="Arial Narrow"/>
              </a:rPr>
              <a:t>seguridad, discriminación y exclusión social</a:t>
            </a: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. También se caracteriza por falta de </a:t>
            </a:r>
            <a:r>
              <a:rPr b="1" lang="es-ES_tradnl" sz="2900" spc="-1" strike="noStrike">
                <a:solidFill>
                  <a:srgbClr val="ff3300"/>
                </a:solidFill>
                <a:latin typeface="Arial Narrow"/>
              </a:rPr>
              <a:t>participación</a:t>
            </a: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 en la adopción de  decisiones en la vida civil, social y cultura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1920" y="304920"/>
            <a:ext cx="6796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Es necesario que los planes contra la pobr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sean amplios, mucho más que unos po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proyectos “orientados” a los pobres. PNUD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9000" y="0"/>
            <a:ext cx="6669000" cy="9144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68580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Organizados sectorialmente, la mayorí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de los programas de lucha contra la pobr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tienen vínculos débiles con otras política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Desarrollo. PNUD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019920" cy="1981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sarrollo a Escala Humana</a:t>
            </a: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T° de las necesidades 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(Max-Neef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5829120" cy="6172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Desarrollo se refiere a las personas y no a los obje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mejor proceso de desarrollo es aquel que permite elevar más la </a:t>
            </a: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calidad de vid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de la perso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calidad de vida es una función de la capacidad de satisfacer adecuadamente las </a:t>
            </a:r>
            <a:r>
              <a:rPr b="1" lang="es-ES_tradnl" sz="2800" spc="-1" strike="noStrike">
                <a:solidFill>
                  <a:srgbClr val="ff0000"/>
                </a:solidFill>
                <a:latin typeface="Verdana"/>
              </a:rPr>
              <a:t>necesidades humana bás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019920" cy="1981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alidad de vida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(visión integrado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5829120" cy="6172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…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Es el resultado de la compleja interacción entre </a:t>
            </a:r>
            <a:r>
              <a:rPr b="1" i="1" lang="es-ES_tradnl" sz="2400" spc="-1" strike="noStrike">
                <a:solidFill>
                  <a:srgbClr val="3333cc"/>
                </a:solidFill>
                <a:latin typeface="Verdana"/>
              </a:rPr>
              <a:t>factores objetivos y subjetivos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; los primeros constituyen las </a:t>
            </a:r>
            <a:r>
              <a:rPr b="0" lang="es-ES_tradnl" sz="2400" spc="-1" strike="noStrike">
                <a:solidFill>
                  <a:srgbClr val="008000"/>
                </a:solidFill>
                <a:latin typeface="Verdana"/>
              </a:rPr>
              <a:t>condiciones externas: económicas, sociopolíticas, cuturales, personales y ambientales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que facilitan o entorpecen el pleno desarrollo del hombre… Los segundos están determinados por la </a:t>
            </a:r>
            <a:r>
              <a:rPr b="0" lang="es-ES_tradnl" sz="2400" spc="-1" strike="noStrike">
                <a:solidFill>
                  <a:srgbClr val="008000"/>
                </a:solidFill>
                <a:latin typeface="Verdana"/>
              </a:rPr>
              <a:t>valoración que el sujeto hace de su propia vida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Verdana"/>
              </a:rPr>
              <a:t>(Cabrera García et al, 1998, en García-Viniegras 200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019920" cy="1981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alidad de vi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5829120" cy="6172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Verdana"/>
              </a:rPr>
              <a:t>La calidad de vida es un complejo proceso de elaboración subjetiva, que parte de la realidad objetiva, donde la determinación histórico-cultural está presente y tienen manifestaciones individuales y culturales</a:t>
            </a: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Verdana"/>
              </a:rPr>
              <a:t>(García-Viniegras 200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4:29:20Z</dcterms:created>
  <dc:creator>jgarces</dc:creator>
  <dc:description/>
  <dc:language>en-US</dc:language>
  <cp:lastModifiedBy>JGarces</cp:lastModifiedBy>
  <dcterms:modified xsi:type="dcterms:W3CDTF">2008-12-05T12:37:02Z</dcterms:modified>
  <cp:revision>40</cp:revision>
  <dc:subject/>
  <dc:title>Presentación de PowerPoint</dc:title>
</cp:coreProperties>
</file>