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9ED-8437-4A48-AA4F-A73751D2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45A-BC3A-496D-942A-FD5B47F0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71D5-24BD-4604-B35E-9F1CE592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8B6-9775-4129-ADC8-8FDF5640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AA8-0ACE-4C88-81F8-FF098B2E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0B6-0E70-4036-A72E-EB705999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D5B-E254-4112-B595-6EBC3A12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62B-FC47-4974-9BD9-61012222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703-E223-46B8-AD4B-29F71291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083-6845-4BA1-847D-354730C9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6BB-38A4-4B6B-86AC-9524FD8C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A4F-D459-4EC4-A1E2-5A10A2E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7AA3-EAB8-4448-854B-68462773B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94360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cesidades humanas (Max-Neef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605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Necesidad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Subsis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Satisfactor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li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enes económicos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eche. arr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Necesidades Hum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5829480" cy="6629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necesidades humanas son 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finita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, pocas y clas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s necesidades humanas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 son iguale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en todas las culturas y períodos histó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o que cambia es la manera de satisfacer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"/>
              </a:rPr>
              <a:t>Matriz de necesidades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(Max Ne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2759040"/>
          <a:ext cx="61722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59040"/>
                    <a:ext cx="61722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6764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Arial"/>
              </a:rPr>
              <a:t>Índice de Pobreza Humana</a:t>
            </a:r>
            <a:r>
              <a:rPr b="1" lang="es-ES_tradn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(PNUD, 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Longe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que no sobrevivirá hasta los 40 a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Conoc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adultos analfab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Nivel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sin acceso a agua po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sin acceso a servicios de sal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niños &lt; 5 años con peso insuficiente (malnutri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breza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5829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étodo de la “Línea de Pobrez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ind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breza e indi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904760"/>
            <a:ext cx="5886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Indigente: Ingreso “per capita” es inferior al valor de una canasta básica de al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Pobre: Ingreso “per capita” es inferior a dos veces el valor de una canasta básica de alimentos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Zona urb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2124000"/>
          <a:ext cx="5761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4000"/>
                    <a:ext cx="576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24480" y="6681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te: CASEN 2003,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728" t="30319" r="10872" b="17512"/>
          <a:stretch/>
        </p:blipFill>
        <p:spPr>
          <a:xfrm>
            <a:off x="0" y="250920"/>
            <a:ext cx="6769080" cy="38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78880" y="880740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: Mideplan, Casen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18262" t="18492" r="17513" b="20466"/>
          <a:stretch/>
        </p:blipFill>
        <p:spPr>
          <a:xfrm>
            <a:off x="333360" y="435600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OBREZA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Tema por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1.-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Analice las ventajas y desventajas de los indicadores de pobreza 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-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Aplicando la matriz de necesidades de Max Neef, Discuta las necesidades que son satisfechas por los siguientes bienes: Arroz, Programa de Mag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3.-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¿Por que razón la pobreza no es Susten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br>
              <a:rPr sz="40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y de bases generales del medio ambiente, Chile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360" y="2987280"/>
            <a:ext cx="5829120" cy="525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proceso de mejoramiento sostenido y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equitativ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a calidad de vida de las personas, fundado en medidas apropiadas de conservación y protección del medio ambiente, de manera de no comprometer las expectativas de las generaciones fu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Sustentable: “Ambito”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3276720"/>
            <a:ext cx="5829120" cy="485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......Indicadores del ámbito social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1676520"/>
          <a:ext cx="569124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5691240" cy="4593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10200" y="52578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inti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9440" y="6745320"/>
            <a:ext cx="4283280" cy="1922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80 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43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20 % más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57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5360" y="45720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867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instrument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5639040" cy="5257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ncepto de Deciles  y Qui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urva de Loren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eficiente de 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“Índice 20/2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468000"/>
            <a:ext cx="5867280" cy="1439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03</a:t>
            </a:r>
            <a:br>
              <a:rPr sz="32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% por decil de ingreso autónomo per cápita por ho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2209680"/>
          <a:ext cx="29988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2998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TRIBUCION DEL INGRESO DE LOS HOGARES CHI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4640" y="2411280"/>
          <a:ext cx="6193080" cy="5510520"/>
        </p:xfrm>
        <a:graphic>
          <a:graphicData uri="http://schemas.openxmlformats.org/drawingml/2006/table">
            <a:tbl>
              <a:tblPr/>
              <a:tblGrid>
                <a:gridCol w="1194120"/>
                <a:gridCol w="750600"/>
                <a:gridCol w="676440"/>
                <a:gridCol w="714240"/>
                <a:gridCol w="714600"/>
                <a:gridCol w="714240"/>
                <a:gridCol w="714240"/>
                <a:gridCol w="714600"/>
              </a:tblGrid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10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068640" y="8317080"/>
            <a:ext cx="280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: Encuesta CASE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641680"/>
            <a:ext cx="4895640" cy="47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1040" y="3241800"/>
            <a:ext cx="49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743256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981000">
            <a:off x="1221120" y="464760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ta de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2057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596000">
            <a:off x="2884320" y="5744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rvas de 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115600">
            <a:off x="4952520" y="44197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4200" y="8101080"/>
            <a:ext cx="2800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41720" y="70930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uficiencias de la 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962520"/>
            <a:ext cx="5829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plazamiento no 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ficultad de cuantificar variaciones pequeñ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eficiente de Gi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0640" y="1908000"/>
          <a:ext cx="5622840" cy="47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08000"/>
                    <a:ext cx="56228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628640" y="2411280"/>
            <a:ext cx="237672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G = A / (A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29000" y="7093080"/>
            <a:ext cx="384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alore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0 =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 = 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2674800"/>
          <a:ext cx="6058080" cy="41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4800"/>
                    <a:ext cx="6058080" cy="414684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19120" y="531720"/>
            <a:ext cx="605412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nking de países, ordenados por Coeficiente de 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uestra de 92 paí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8720" y="1681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Paí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4920" y="833112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te: Informe BM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1905120"/>
          <a:ext cx="6060960" cy="60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060960" cy="60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os 10 Países con la peor Distribución de Ingreso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2514600"/>
          <a:ext cx="4708800" cy="4626000"/>
        </p:xfrm>
        <a:graphic>
          <a:graphicData uri="http://schemas.openxmlformats.org/drawingml/2006/table">
            <a:tbl>
              <a:tblPr/>
              <a:tblGrid>
                <a:gridCol w="2179800"/>
                <a:gridCol w="25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rra Le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. Centro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á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7924680"/>
            <a:ext cx="4991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ente: Elaboración a partir de datos del Informe sobre Desarrollo Humano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finiciones de Pob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8867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Necesidad: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Carencia de bienes y servic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absol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stándar de vida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: Comparación con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PN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1520" y="533520"/>
            <a:ext cx="4831920" cy="1556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icador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so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916360"/>
          <a:ext cx="5792760" cy="5195880"/>
        </p:xfrm>
        <a:graphic>
          <a:graphicData uri="http://schemas.openxmlformats.org/drawingml/2006/table">
            <a:tbl>
              <a:tblPr/>
              <a:tblGrid>
                <a:gridCol w="936720"/>
                <a:gridCol w="1509840"/>
                <a:gridCol w="1116000"/>
                <a:gridCol w="1114200"/>
                <a:gridCol w="1116000"/>
              </a:tblGrid>
              <a:tr h="64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9728" t="17512" r="18997" b="9637"/>
          <a:stretch/>
        </p:blipFill>
        <p:spPr>
          <a:xfrm>
            <a:off x="476280" y="826920"/>
            <a:ext cx="5111640" cy="455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5634" t="12586" r="28598" b="15539"/>
          <a:stretch/>
        </p:blipFill>
        <p:spPr>
          <a:xfrm>
            <a:off x="3429000" y="5076720"/>
            <a:ext cx="31798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2280" y="2509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ef Gini por comunas en la RM de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9360" y="838836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16977" t="23960" r="13622" b="18295"/>
          <a:stretch/>
        </p:blipFill>
        <p:spPr>
          <a:xfrm>
            <a:off x="404640" y="2700360"/>
            <a:ext cx="6143760" cy="468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36800" y="4881600"/>
            <a:ext cx="55274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2982960"/>
            <a:ext cx="2637000" cy="457200"/>
          </a:xfrm>
          <a:prstGeom prst="wedgeRoundRectCallout">
            <a:avLst>
              <a:gd name="adj1" fmla="val -69143"/>
              <a:gd name="adj2" fmla="val 35555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. Gini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6280" y="6716880"/>
            <a:ext cx="2516400" cy="392040"/>
          </a:xfrm>
          <a:prstGeom prst="wedgeRoundRectCallout">
            <a:avLst>
              <a:gd name="adj1" fmla="val -45393"/>
              <a:gd name="adj2" fmla="val -30911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 Gini Com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040" y="755640"/>
            <a:ext cx="61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aración entre Gini Nacional y Gini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7000" y="810108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os en la 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3657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eora con mucha fac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jora con mucha dificu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y Redistribución del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5105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resultado del sistema económico, sin intervención d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íticas desarrolladas por el Estado para </a:t>
            </a: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compensar y cambia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la distribución del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3123720"/>
            <a:ext cx="5829120" cy="2590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 Porque no varia la Distribución del Ingreso en Chil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880" y="6477120"/>
            <a:ext cx="62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: En los últimos 15 añ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el gasto en educación, medido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% del PIB se ha dupli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obreza: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mbre Mundial sobre Desarrollo Social, Copenhague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La pobreza tienen diversas manifestaciones: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falta de ingres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de recursos productivos suficientes para garantizar medios de vida sostenibles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hambre y malnutrición, mala salud, falta de acceso o acceso limitado a la educ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a otros servicios básicos, aumento de la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morbilidad y mortalidad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a causa de enfermedades 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carencia de vivienda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o vivienda inadecuada, medios que no ofrecen condiciones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seguridad, discriminación y exclusión social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. También se caracteriza por falta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particip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en la adopción de  decisiones en la vida civil, social y cultur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20" y="304920"/>
            <a:ext cx="67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Es necesario que los planes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sean amplios, mucho más que unos po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royectos “orientados” a los pobres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6858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Organizados sectorialmente, la mayor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 los programas de lucha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ienen vínculos débiles con otras polític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sarrollo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arrollo a Escala Humana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° de las neces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Max-Neef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Desarrollo se refiere a las personas y no a los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mejor proceso de desarrollo es aquel que permite elevar más l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alidad de vid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la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alidad de vida es una función de la capacidad de satisfacer adecuadamente la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necesidades humana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visión integrado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…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el resultado de la compleja interacción entre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factores objetivos y subjetivo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; los primeros constituyen las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condiciones externas: económicas, sociopolíticas, cuturales, personales y ambientale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que facilitan o entorpecen el pleno desarrollo del hombre… Los segundos están determinados por la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valoración que el sujeto hace de su propia vida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Cabrera García et al, 1998, en 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Verdana"/>
              </a:rPr>
              <a:t>La calidad de vida es un complejo proceso de elaboración subjetiva, que parte de la realidad objetiva, donde la determinación histórico-cultural está presente y tienen manifestaciones individuales y culturales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9:20Z</dcterms:created>
  <dc:creator>jgarces</dc:creator>
  <dc:description/>
  <dc:language>en-US</dc:language>
  <cp:lastModifiedBy>JGarces</cp:lastModifiedBy>
  <dcterms:modified xsi:type="dcterms:W3CDTF">2008-12-05T12:37:02Z</dcterms:modified>
  <cp:revision>40</cp:revision>
  <dc:subject/>
  <dc:title>Presentación de PowerPoint</dc:title>
</cp:coreProperties>
</file>