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3AA2-5091-4254-9C97-62483A71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9420-0E6F-4EA5-B91B-827113C1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7A5B-FB43-47CF-84D4-9F9C4A33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6368-DAAD-4537-A99F-23C51221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5E94-EDAD-4047-A648-8AA1DA4C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904E-F3CB-4750-A5D4-7A6F5170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6C2D-39AC-4D7A-B2EB-9472D9CD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B8F9-0311-488C-987E-FBFB2FD3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4D2A-0C30-46DD-ABC4-9D643928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348A-0FB5-44C4-8883-B1CC2173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A237-01A9-476D-BFDB-8E4CB0FA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442E-AED2-4141-B03E-FE64BC59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1FC3-ED2B-4BAA-A9F6-4802F9AE6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943600" cy="1447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ecesidades humanas (Max-Neef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6057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Necesidad</a:t>
            </a:r>
            <a:r>
              <a:rPr b="0" lang="es-ES_tradnl" sz="3600" spc="-1" strike="noStrike">
                <a:solidFill>
                  <a:srgbClr val="3333cc"/>
                </a:solidFill>
                <a:latin typeface="Verdana"/>
              </a:rPr>
              <a:t>: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Subsist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Satisfactor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Alim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enes económicos</a:t>
            </a:r>
            <a:r>
              <a:rPr b="0" lang="es-ES_tradnl" sz="3600" spc="-1" strike="noStrike">
                <a:solidFill>
                  <a:srgbClr val="3333cc"/>
                </a:solidFill>
                <a:latin typeface="Verdana"/>
              </a:rPr>
              <a:t>: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Leche. arro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Verdana"/>
              </a:rPr>
              <a:t>Necesidades Hum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5829480" cy="66294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 necesidades humanas son </a:t>
            </a:r>
            <a:r>
              <a:rPr b="1" lang="es-ES_tradnl" sz="3200" spc="-1" strike="noStrike">
                <a:solidFill>
                  <a:srgbClr val="ff0000"/>
                </a:solidFill>
                <a:latin typeface="Verdana"/>
              </a:rPr>
              <a:t>finitas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, pocas y clasific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s necesidades humanas</a:t>
            </a:r>
            <a:r>
              <a:rPr b="1" lang="es-ES_tradnl" sz="3200" spc="-1" strike="noStrike">
                <a:solidFill>
                  <a:srgbClr val="ff0000"/>
                </a:solidFill>
                <a:latin typeface="Verdana"/>
              </a:rPr>
              <a:t> son iguales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en todas las culturas y períodos histó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o que cambia es la manera de satisfacer la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Arial"/>
              </a:rPr>
              <a:t>Matriz de necesidades </a:t>
            </a:r>
            <a:r>
              <a:rPr b="0" lang="es-MX" sz="2800" spc="-1" strike="noStrike">
                <a:solidFill>
                  <a:srgbClr val="3333cc"/>
                </a:solidFill>
                <a:latin typeface="Arial"/>
              </a:rPr>
              <a:t>(Max Nee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04920" y="2759040"/>
          <a:ext cx="6172200" cy="508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59040"/>
                    <a:ext cx="6172200" cy="50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5867640" cy="15238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cc"/>
                </a:solidFill>
                <a:latin typeface="Arial"/>
              </a:rPr>
              <a:t>Índice de Pobreza Humana</a:t>
            </a:r>
            <a:r>
              <a:rPr b="1" lang="es-ES_tradn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33cc"/>
                </a:solidFill>
                <a:latin typeface="Times New Roman"/>
              </a:rPr>
              <a:t>(PNUD, 199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133360"/>
            <a:ext cx="582912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cc"/>
                </a:solidFill>
                <a:latin typeface="Arial Narrow"/>
              </a:rPr>
              <a:t>Longe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de personas que no sobrevivirá hasta los 40 añ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cc"/>
                </a:solidFill>
                <a:latin typeface="Arial Narrow"/>
              </a:rPr>
              <a:t>Conocimien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de adultos analfabe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cc"/>
                </a:solidFill>
                <a:latin typeface="Arial Narrow"/>
              </a:rPr>
              <a:t>Nivel de Vi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de personas sin acceso a agua pot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sin acceso a servicios de salu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de niños &lt; 5 años con peso insuficiente (malnutrició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obreza en C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5829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étodo de la “Línea de Pobrez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ínea de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ínea de indi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breza e indig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080" y="1904760"/>
            <a:ext cx="58863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ogar Indigente: Ingreso “per capita” es inferior al valor de una canasta básica de alime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ogar Pobre: Ingreso “per capita” es inferior a dos veces el valor de una canasta básica de alimentos.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Zona urb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92280" y="2124000"/>
          <a:ext cx="576108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2124000"/>
                    <a:ext cx="57610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624480" y="668196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te: CASEN 2003,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19728" t="30319" r="10872" b="17512"/>
          <a:stretch/>
        </p:blipFill>
        <p:spPr>
          <a:xfrm>
            <a:off x="0" y="250920"/>
            <a:ext cx="6769080" cy="3816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178880" y="8807400"/>
            <a:ext cx="26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Fuente: Mideplan, Casen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rcRect l="18262" t="18492" r="17513" b="20466"/>
          <a:stretch/>
        </p:blipFill>
        <p:spPr>
          <a:xfrm>
            <a:off x="333360" y="4356000"/>
            <a:ext cx="626436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POBREZA: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Tema por gru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685800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Verdana"/>
              </a:rPr>
              <a:t>1.-</a:t>
            </a:r>
            <a:r>
              <a:rPr b="1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003366"/>
                </a:solidFill>
                <a:latin typeface="Verdana"/>
              </a:rPr>
              <a:t>Analice las ventajas y desventajas de los indicadores de pobreza present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2.-</a:t>
            </a:r>
            <a:r>
              <a:rPr b="1" lang="es-ES_tradnl" sz="32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006600"/>
                </a:solidFill>
                <a:latin typeface="Verdana"/>
              </a:rPr>
              <a:t>Aplicando la matriz de necesidades de Max Neef, Discuta las necesidades que son satisfechas por los siguientes bienes: Arroz, Programa de Magi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Verdana"/>
              </a:rPr>
              <a:t>3.-</a:t>
            </a:r>
            <a:r>
              <a:rPr b="1" lang="es-ES_tradnl" sz="32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0000ff"/>
                </a:solidFill>
                <a:latin typeface="Verdana"/>
              </a:rPr>
              <a:t>¿Por que razón la pobreza no es Sustenta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esarrollo Sustentable</a:t>
            </a:r>
            <a:br>
              <a:rPr sz="40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ey de bases generales del medio ambiente, Chile, 19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360" y="2987280"/>
            <a:ext cx="5829120" cy="525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proceso de mejoramiento sostenido y </a:t>
            </a:r>
            <a:r>
              <a:rPr b="0" lang="es-MX" sz="3200" spc="-1" strike="noStrike">
                <a:solidFill>
                  <a:srgbClr val="ff0000"/>
                </a:solidFill>
                <a:latin typeface="Arial"/>
              </a:rPr>
              <a:t>equitativo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de la calidad de vida de las personas, fundado en medidas apropiadas de conservación y protección del medio ambiente, de manera de no comprometer las expectativas de las generaciones futu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sarrollo Sustentable: “Ambito” So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4440" y="3276720"/>
            <a:ext cx="5829120" cy="48513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obre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stribución del Ingr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Arial"/>
              </a:rPr>
              <a:t>......Indicadores del ámbito social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33520" y="1676520"/>
          <a:ext cx="5691240" cy="459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5691240" cy="45939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610200" y="5257800"/>
            <a:ext cx="16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Quintil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79440" y="6745320"/>
            <a:ext cx="4283280" cy="19227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80 % de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btiene el 43 % del P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20 % más 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btiene el 57 % del P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5360" y="457200"/>
            <a:ext cx="54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Distribución del Ingr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586728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istribución del Ingres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(instrumento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5639040" cy="5257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l concepto de Deciles  y Quint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La Curva de Loren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l Coeficiente de Gi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l “Índice 20/20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360" y="468000"/>
            <a:ext cx="5867280" cy="1439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istribución del Ingreso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003</a:t>
            </a:r>
            <a:br>
              <a:rPr sz="32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% por decil de ingreso autónomo per cápita por ho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057400" y="2209680"/>
          <a:ext cx="2998800" cy="647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09680"/>
                    <a:ext cx="29988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ISTRIBUCION DEL INGRESO DE LOS HOGARES CHILE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04640" y="2411280"/>
          <a:ext cx="6193080" cy="5510520"/>
        </p:xfrm>
        <a:graphic>
          <a:graphicData uri="http://schemas.openxmlformats.org/drawingml/2006/table">
            <a:tbl>
              <a:tblPr/>
              <a:tblGrid>
                <a:gridCol w="1194120"/>
                <a:gridCol w="750600"/>
                <a:gridCol w="676440"/>
                <a:gridCol w="714240"/>
                <a:gridCol w="714600"/>
                <a:gridCol w="714240"/>
                <a:gridCol w="714240"/>
                <a:gridCol w="714600"/>
              </a:tblGrid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e 20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e 10/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3068640" y="8317080"/>
            <a:ext cx="280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te: Encuesta CASEN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urva de Loren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47920" y="2641680"/>
            <a:ext cx="4895640" cy="4748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71040" y="3241800"/>
            <a:ext cx="49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36640" y="743256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% de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8981000">
            <a:off x="1221120" y="4647600"/>
            <a:ext cx="369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cta de igualda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2666880"/>
            <a:ext cx="2057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9596000">
            <a:off x="2884320" y="574488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urvas de Lore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20115600">
            <a:off x="4952520" y="4419720"/>
            <a:ext cx="228600" cy="761760"/>
          </a:xfrm>
          <a:prstGeom prst="upArrow">
            <a:avLst>
              <a:gd name="adj1" fmla="val 50000"/>
              <a:gd name="adj2" fmla="val 833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3352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24200" y="8101080"/>
            <a:ext cx="28004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sigualda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41720" y="7093080"/>
            <a:ext cx="216000" cy="1008000"/>
          </a:xfrm>
          <a:prstGeom prst="upArrow">
            <a:avLst>
              <a:gd name="adj1" fmla="val 50000"/>
              <a:gd name="adj2" fmla="val 1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Insuficiencias de la curva de Loren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3962520"/>
            <a:ext cx="58291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esplazamiento no parale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ificultad de cuantificar variaciones pequeñ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9360" y="3236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eficiente de Gin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20640" y="1908000"/>
          <a:ext cx="5622840" cy="475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1908000"/>
                    <a:ext cx="562284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628640" y="2411280"/>
            <a:ext cx="237672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"/>
              </a:rPr>
              <a:t>G = A / (A+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29000" y="7093080"/>
            <a:ext cx="384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Valores extre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0 = Igualda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1 = Desigualda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457200" y="2674800"/>
          <a:ext cx="6058080" cy="414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74800"/>
                    <a:ext cx="6058080" cy="4146840"/>
                  </a:xfrm>
                  <a:prstGeom prst="rect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19120" y="531720"/>
            <a:ext cx="605412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nking de países, ordenados por Coeficiente de G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muestra de 92 paí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88720" y="1681200"/>
            <a:ext cx="52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osició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Paí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4920" y="833112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Fte: Informe BM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304920" y="1905120"/>
          <a:ext cx="6060960" cy="60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05120"/>
                    <a:ext cx="6060960" cy="60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Los 10 Países con la peor Distribución de Ingreso del Mu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295280" y="2514600"/>
          <a:ext cx="4708800" cy="4626000"/>
        </p:xfrm>
        <a:graphic>
          <a:graphicData uri="http://schemas.openxmlformats.org/drawingml/2006/table">
            <a:tbl>
              <a:tblPr/>
              <a:tblGrid>
                <a:gridCol w="2179800"/>
                <a:gridCol w="2529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eficiente de Gi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ib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ot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sw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rra Le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. Centroaf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zilan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dáf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s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mb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7924680"/>
            <a:ext cx="49914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uente: Elaboración a partir de datos del Informe sobre Desarrollo Humano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82912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Definiciones de Pobr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58867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Necesidad: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Carencia de bienes y servici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(Enfoque absolu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Estándar de vida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: Comparación con o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(Enfoque rela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PNU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91520" y="533520"/>
            <a:ext cx="4831920" cy="1556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dicadores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istribución del Ingreso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caso Chil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20640" y="2916360"/>
          <a:ext cx="5792760" cy="5195880"/>
        </p:xfrm>
        <a:graphic>
          <a:graphicData uri="http://schemas.openxmlformats.org/drawingml/2006/table">
            <a:tbl>
              <a:tblPr/>
              <a:tblGrid>
                <a:gridCol w="936720"/>
                <a:gridCol w="1509840"/>
                <a:gridCol w="1116000"/>
                <a:gridCol w="1114200"/>
                <a:gridCol w="1116000"/>
              </a:tblGrid>
              <a:tr h="64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oeficiente de Gi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Indice 20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19728" t="17512" r="18997" b="9637"/>
          <a:stretch/>
        </p:blipFill>
        <p:spPr>
          <a:xfrm>
            <a:off x="476280" y="826920"/>
            <a:ext cx="5111640" cy="4557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25634" t="12586" r="28598" b="15539"/>
          <a:stretch/>
        </p:blipFill>
        <p:spPr>
          <a:xfrm>
            <a:off x="3429000" y="5076720"/>
            <a:ext cx="3179880" cy="3745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92280" y="25092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ef Gini por comunas en la RM de Santi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9360" y="8388360"/>
            <a:ext cx="275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Agostini y  Brown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16977" t="23960" r="13622" b="18295"/>
          <a:stretch/>
        </p:blipFill>
        <p:spPr>
          <a:xfrm>
            <a:off x="404640" y="2700360"/>
            <a:ext cx="6143760" cy="4680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36800" y="4881600"/>
            <a:ext cx="552744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79640" y="2982960"/>
            <a:ext cx="2637000" cy="457200"/>
          </a:xfrm>
          <a:prstGeom prst="wedgeRoundRectCallout">
            <a:avLst>
              <a:gd name="adj1" fmla="val -69143"/>
              <a:gd name="adj2" fmla="val 355555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ef. Gini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16280" y="6716880"/>
            <a:ext cx="2516400" cy="392040"/>
          </a:xfrm>
          <a:prstGeom prst="wedgeRoundRectCallout">
            <a:avLst>
              <a:gd name="adj1" fmla="val -45393"/>
              <a:gd name="adj2" fmla="val -309111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ef Gini Comu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9040" y="755640"/>
            <a:ext cx="61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mparación entre Gini Nacional y Gini Comu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67000" y="8101080"/>
            <a:ext cx="275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Agostini y  Brown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ambios en la Distribución del Ingr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440" y="3124080"/>
            <a:ext cx="5829120" cy="3657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mpeora con mucha fac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ejora con mucha dificult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stribución y Redistribución del 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440" y="3124080"/>
            <a:ext cx="5829120" cy="51055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resultado del sistema económico, sin intervención del 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Re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líticas desarrolladas por el Estado para </a:t>
            </a:r>
            <a:r>
              <a:rPr b="1" lang="es-MX" sz="3600" spc="-1" strike="noStrike">
                <a:solidFill>
                  <a:srgbClr val="ff0000"/>
                </a:solidFill>
                <a:latin typeface="Arial"/>
              </a:rPr>
              <a:t>compensar y cambiar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la distribución del 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stribución del ingreso en Ch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440" y="3123720"/>
            <a:ext cx="5829120" cy="25909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¿ Porque no varia la Distribución del Ingreso en Chile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0880" y="6477120"/>
            <a:ext cx="629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Antecedente: En los últimos 15 añ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el gasto en educación, medido c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% del PIB se ha dupli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582948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obreza: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umbre Mundial sobre Desarrollo Social, Copenhague, 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La pobreza tienen diversas manifestaciones: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falta de ingresos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y de recursos productivos suficientes para garantizar medios de vida sostenibles,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hambre y malnutrición, mala salud, falta de acceso o acceso limitado a la educación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y a otros servicios básicos, aumento de la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morbilidad y mortalidad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a causa de enfermedades ,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carencia de vivienda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o vivienda inadecuada, medios que no ofrecen condiciones de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seguridad, discriminación y exclusión social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. También se caracteriza por falta de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participación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en la adopción de  decisiones en la vida civil, social y cultura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920" y="304920"/>
            <a:ext cx="6796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Es necesario que los planes contra la pobr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sean amplios, mucho más que unos po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proyectos “orientados” a los pobres. PNUD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9000" y="0"/>
            <a:ext cx="6669000" cy="9144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6858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Organizados sectorialmente, la mayorí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de los programas de lucha contra la pobr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tienen vínculos débiles con otras política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Desarrollo. PNUD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019920" cy="1981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sarrollo a Escala Humana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° de las necesidades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(Max-Neef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5829120" cy="6172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Desarrollo se refiere a las personas y no a los obje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mejor proceso de desarrollo es aquel que permite elevar más la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calidad de vid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la pers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calidad de vida es una función de la capacidad de satisfacer adecuadamente las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necesidades humana bás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019920" cy="1981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alidad de vida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(visión integrado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5829120" cy="6172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…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Es el resultado de la compleja interacción entre </a:t>
            </a:r>
            <a:r>
              <a:rPr b="1" i="1" lang="es-ES_tradnl" sz="2400" spc="-1" strike="noStrike">
                <a:solidFill>
                  <a:srgbClr val="3333cc"/>
                </a:solidFill>
                <a:latin typeface="Verdana"/>
              </a:rPr>
              <a:t>factores objetivos y subjetivos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; los primeros constituyen las </a:t>
            </a:r>
            <a:r>
              <a:rPr b="0" lang="es-ES_tradnl" sz="2400" spc="-1" strike="noStrike">
                <a:solidFill>
                  <a:srgbClr val="008000"/>
                </a:solidFill>
                <a:latin typeface="Verdana"/>
              </a:rPr>
              <a:t>condiciones externas: económicas, sociopolíticas, cuturales, personales y ambientales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que facilitan o entorpecen el pleno desarrollo del hombre… Los segundos están determinados por la </a:t>
            </a:r>
            <a:r>
              <a:rPr b="0" lang="es-ES_tradnl" sz="2400" spc="-1" strike="noStrike">
                <a:solidFill>
                  <a:srgbClr val="008000"/>
                </a:solidFill>
                <a:latin typeface="Verdana"/>
              </a:rPr>
              <a:t>valoración que el sujeto hace de su propia vida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Verdana"/>
              </a:rPr>
              <a:t>(Cabrera García et al, 1998, en García-Viniegras 200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019920" cy="1981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alidad de v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5829120" cy="6172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Verdana"/>
              </a:rPr>
              <a:t>La calidad de vida es un complejo proceso de elaboración subjetiva, que parte de la realidad objetiva, donde la determinación histórico-cultural está presente y tienen manifestaciones individuales y culturales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Verdana"/>
              </a:rPr>
              <a:t>(García-Viniegras 200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4:29:20Z</dcterms:created>
  <dc:creator>jgarces</dc:creator>
  <dc:description/>
  <dc:language>en-US</dc:language>
  <cp:lastModifiedBy>JGarces</cp:lastModifiedBy>
  <dcterms:modified xsi:type="dcterms:W3CDTF">2008-12-05T12:37:02Z</dcterms:modified>
  <cp:revision>40</cp:revision>
  <dc:subject/>
  <dc:title>Presentación de PowerPoint</dc:title>
</cp:coreProperties>
</file>