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10.wmf" ContentType="image/x-wmf"/>
  <Override PartName="/ppt/media/image3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2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30.jpeg" ContentType="image/jpeg"/>
  <Override PartName="/ppt/media/image32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6858000" cy="9144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inachile.cl/node/20823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924520" cy="830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7913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AS PRINCIPALES DEL DETERIORO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5829480" cy="5486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MAÑO DE LA POBL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NIVELES TOTALES Y MEDIO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EZA DE TECN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erencias entre los países desarrollados y los subdesarrol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14440" y="609480"/>
            <a:ext cx="5829120" cy="15242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Times New Roman"/>
              </a:rPr>
              <a:t>Indicadores Físicos: necesidades de 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560" y="2742840"/>
            <a:ext cx="6172200" cy="603396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servas y Stock de Capital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lujos de fuentes de recursos y sumideros de resid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 Diversidad Biológica, la integridad de los ecosistemas, la capacidad de carga y resiliencia de los ecosistemas v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s variaciones de los sistemas ambientales glob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7" name=""/>
          <p:cNvGraphicFramePr/>
          <p:nvPr/>
        </p:nvGraphicFramePr>
        <p:xfrm>
          <a:off x="620640" y="3348000"/>
          <a:ext cx="554508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3348000"/>
                    <a:ext cx="554508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33000" y="755280"/>
            <a:ext cx="5829480" cy="136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br>
              <a:rPr sz="44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sión – Estado - Res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73000" y="3634920"/>
            <a:ext cx="2879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00280" y="6732720"/>
            <a:ext cx="30240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700280" y="5219640"/>
            <a:ext cx="28796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068640" y="4427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68640" y="5867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25000" y="70930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1125360" y="406692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25360" y="4067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688000" cy="914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Indicadores de Pre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5616720" cy="504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Deben entregar información respecto a las fuentes de degradación y deterioro a que se encuentra el RR 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ducción de ma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9640" y="30492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elo Presión – Estado -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533520" y="5029200"/>
          <a:ext cx="60404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29200"/>
                    <a:ext cx="60404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5688000" cy="151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dicadores de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91920" y="3058920"/>
            <a:ext cx="5616360" cy="56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Deben entregar información respecto a las fuentes de degradación y deterioro a que se encuentra el RR NN analizad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años en bos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uperficie plan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en cuerpos d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xigeno disuelto en cuerpos d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20" y="60948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elo Presión – Estado -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5688000" cy="151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dicadores de Res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91920" y="3058920"/>
            <a:ext cx="5616360" cy="56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ae00"/>
                </a:solidFill>
                <a:latin typeface="Times New Roman"/>
              </a:rPr>
              <a:t>Medidas que la sociedad está adoptando para resolver el problema plante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eforestación en 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uperficie en áreas silvestres proteg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8240" y="68580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elo Presión – Estado -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0640" y="684360"/>
            <a:ext cx="5688000" cy="168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odelo Presión – Estado – Respuesta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nforme País</a:t>
            </a:r>
            <a:br>
              <a:rPr sz="2000"/>
            </a:br>
            <a:r>
              <a:rPr b="1" lang="es-MX" sz="2400" spc="-1" strike="noStrike">
                <a:solidFill>
                  <a:srgbClr val="00ae00"/>
                </a:solidFill>
                <a:latin typeface="Times New Roman"/>
              </a:rPr>
              <a:t>Estado del Medio Ambiente en Chil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91920" y="2700360"/>
            <a:ext cx="5616360" cy="590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ae00"/>
                </a:solidFill>
                <a:latin typeface="Times New Roman"/>
              </a:rPr>
              <a:t>Indicadores de pres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actor social (Pobre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ae00"/>
                </a:solidFill>
                <a:latin typeface="Times New Roman"/>
              </a:rPr>
              <a:t>Indicadores de esta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ire, Aguas continentales, Bosques nativos, Diversidad biológica, Suelos, Ecosistemas marinos, minerales e hidrocarburos, asentamientos humanos,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ae00"/>
                </a:solidFill>
                <a:latin typeface="Times New Roman"/>
              </a:rPr>
              <a:t>Indicadores de respues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estión ambiental (GA), Instrumentos de la Ley de Bases, GA sectorial, GA sector privado, Gasto en medio ambiente, marco internacion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0640" y="684360"/>
            <a:ext cx="5688000" cy="168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odelo Presión – Estado – Respuesta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nforme País</a:t>
            </a:r>
            <a:br>
              <a:rPr sz="2000"/>
            </a:br>
            <a:r>
              <a:rPr b="1" lang="es-MX" sz="2400" spc="-1" strike="noStrike">
                <a:solidFill>
                  <a:srgbClr val="00ae00"/>
                </a:solidFill>
                <a:latin typeface="Times New Roman"/>
              </a:rPr>
              <a:t>Estado del Medio Ambiente en Chil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691920" y="2700360"/>
            <a:ext cx="5616360" cy="590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ae00"/>
                </a:solidFill>
                <a:latin typeface="Times New Roman"/>
              </a:rPr>
              <a:t>Indicadores de presión: Economí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presión por generar más productos exportables tiene como consecuencia notorias repercusiones en el medio ambiente chileno. En la modalidad de desarrollo actual, el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terioro es marcadamente significativo,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en especial en los RR NN renov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0640" y="684360"/>
            <a:ext cx="5688000" cy="168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odelo Presión – Estado – Respuesta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nforme País</a:t>
            </a:r>
            <a:br>
              <a:rPr sz="2000"/>
            </a:br>
            <a:r>
              <a:rPr b="1" lang="es-MX" sz="2400" spc="-1" strike="noStrike">
                <a:solidFill>
                  <a:srgbClr val="00ae00"/>
                </a:solidFill>
                <a:latin typeface="Times New Roman"/>
              </a:rPr>
              <a:t>Estado del Medio Ambiente en Chil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91920" y="2700360"/>
            <a:ext cx="5616360" cy="590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ae00"/>
                </a:solidFill>
                <a:latin typeface="Times New Roman"/>
              </a:rPr>
              <a:t>Indicadores de estado: Bosque Nativ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Times New Roman"/>
              </a:rPr>
              <a:t>Lo bosque nativos</a:t>
            </a:r>
            <a:r>
              <a:rPr b="0" lang="es-MX" sz="3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continúan siendo destruidos y eliminados</a:t>
            </a:r>
            <a:r>
              <a:rPr b="0" lang="es-MX" sz="3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Times New Roman"/>
              </a:rPr>
              <a:t>principalmente por incendios (en su mayoría de origen antrópico), sustitución por plantaciones forestales y la conversión a praderas y cultivos de frut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20640" y="684360"/>
            <a:ext cx="5688000" cy="168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odelo Presión – Estado – Respuesta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Informe País</a:t>
            </a:r>
            <a:br>
              <a:rPr sz="2000"/>
            </a:br>
            <a:r>
              <a:rPr b="1" lang="es-MX" sz="2400" spc="-1" strike="noStrike">
                <a:solidFill>
                  <a:srgbClr val="00ae00"/>
                </a:solidFill>
                <a:latin typeface="Times New Roman"/>
              </a:rPr>
              <a:t>Estado del Medio Ambiente en Chil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691920" y="2700360"/>
            <a:ext cx="5616360" cy="590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ae00"/>
                </a:solidFill>
                <a:latin typeface="Times New Roman"/>
              </a:rPr>
              <a:t>Indicadores de respuesta: política ambiental chilen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La política ambiental chilena tiene como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base conceptual el desarrollo sustentable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, en cuyo eje se busca conciliar la protección del medio ambiente con el desarrollo económico en un marco de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equidad social y transparencia públ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33000" y="755640"/>
            <a:ext cx="5829480" cy="151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Huella Ec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620640" y="2843280"/>
            <a:ext cx="5616720" cy="5402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el área de territorio ecológicamente productivo (cultivos, pastos, bosques o ecosistema acuático) necesaria par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roducir los recurs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utilizados y par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asimilar los residu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producidos por una población definida con un nivel de vida específico indefinid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360" y="3276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000099"/>
                </a:solidFill>
                <a:latin typeface="Times New Roman"/>
              </a:rPr>
              <a:t>Evolución de la población hu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6280" y="826920"/>
            <a:ext cx="582912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iudad al interior de una burbu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90840" y="7524720"/>
            <a:ext cx="521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Cuan grande debe ser la burbu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soportar la vida de la ciu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04640" y="3132000"/>
            <a:ext cx="5899320" cy="403236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1341360" y="442764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pacidad de 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60280" y="2195640"/>
            <a:ext cx="3168720" cy="597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blación máxima de una especie que puede sostenerse indefinidamente en un hábitat específico, sin afectar en forma permanente la productividad de ese hábi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3497400" y="6037200"/>
            <a:ext cx="2841480" cy="205128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3573360" y="219564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pacidad de carga: población máx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404640" y="277164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49360" y="755640"/>
            <a:ext cx="5829120" cy="19605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uella ecológica y Capacidad de car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294160" y="7172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32400" y="717228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770280" y="7172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08160" y="7172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46400" y="717228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84280" y="7172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294160" y="665496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32400" y="665496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770280" y="665496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008160" y="665496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46400" y="665496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484280" y="665496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94160" y="6137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32400" y="613728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70280" y="6137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08160" y="6137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637000" y="514836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84280" y="6137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294160" y="5619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532400" y="561960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770280" y="5619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008160" y="5619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565360" y="500364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773360" y="558000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94160" y="5102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32400" y="510228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70280" y="5102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84280" y="5102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300640" y="464328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32400" y="458460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70280" y="4584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008160" y="4584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46400" y="458460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84280" y="458460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94160" y="4067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32400" y="406728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70280" y="4067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08160" y="4067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46400" y="406728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84280" y="406728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484280" y="4067280"/>
            <a:ext cx="4572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484280" y="4584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484280" y="51022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484280" y="5619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84280" y="61372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84280" y="665496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84280" y="71722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84280" y="7689960"/>
            <a:ext cx="4572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484280" y="4067280"/>
            <a:ext cx="0" cy="3622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76640" y="40672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08160" y="40672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70280" y="40672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32400" y="40672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294160" y="40672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56280" y="4067280"/>
            <a:ext cx="0" cy="3622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84280" y="558000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1628640" y="5866920"/>
            <a:ext cx="863640" cy="50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421000" y="5796000"/>
            <a:ext cx="287280" cy="7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07920" y="774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22720" y="7740720"/>
            <a:ext cx="41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1960    1970     1980    1990     2000    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09720" y="4356000"/>
            <a:ext cx="497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00280" y="637236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708280" y="5435280"/>
            <a:ext cx="216000" cy="36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924280" y="5435640"/>
            <a:ext cx="431640" cy="7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357720" y="5292720"/>
            <a:ext cx="43164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789360" y="5291280"/>
            <a:ext cx="21600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005360" y="5076720"/>
            <a:ext cx="57600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03120" y="5769000"/>
            <a:ext cx="32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Capacidad de carga de la Ti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2920" y="4643280"/>
            <a:ext cx="34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ae00"/>
                </a:solidFill>
                <a:latin typeface="Arial"/>
              </a:rPr>
              <a:t>Huella ecológica de la huma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33360" y="899640"/>
            <a:ext cx="5965920" cy="31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os autores del instrumento: los economistas ecológicos Mathis Wackernagel y Willian Rees</a:t>
            </a: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, año 19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" descr="Nuestra Huella Ecológica"/>
          <p:cNvPicPr/>
          <p:nvPr/>
        </p:nvPicPr>
        <p:blipFill>
          <a:blip r:embed="rId1"/>
          <a:stretch/>
        </p:blipFill>
        <p:spPr>
          <a:xfrm>
            <a:off x="2057400" y="4191120"/>
            <a:ext cx="33066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5981400" cy="222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tegorías de Consumo para evaluar la hu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914400" y="3429000"/>
          <a:ext cx="4648320" cy="46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46483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210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Huella de la humanidad supera la capacidad ec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07920" y="762012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ttp://www.earthday.net/footprint/index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601992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626760" y="838080"/>
            <a:ext cx="5507280" cy="10688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Valores de huella ec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y déficit por paí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723960" y="2362320"/>
          <a:ext cx="537516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362320"/>
                    <a:ext cx="53751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sminución de la huella ec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47600" y="3025440"/>
            <a:ext cx="4897440" cy="510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minución de la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mbio en pauta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mbio en patrones de producción (tecnologías efic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9160" indent="-361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genda XXI (2 y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9160" indent="-361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eadows, Randers y Meadows (1,2 y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5759640" cy="347976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1581120" y="6858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831960"/>
            <a:ext cx="5790960" cy="97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BLACIÓN MUNDI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2653920"/>
            <a:ext cx="5778720" cy="577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ÑO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ill/Hab     %c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5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545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75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728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906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5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.17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.608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95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.50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6.0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25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7.824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te.: O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76720"/>
            <a:ext cx="577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33360" y="899640"/>
            <a:ext cx="5965920" cy="31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Cuantas hectáreas es su huella ecológi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Nuestra Huella Ecológica"/>
          <p:cNvPicPr/>
          <p:nvPr/>
        </p:nvPicPr>
        <p:blipFill>
          <a:blip r:embed="rId1"/>
          <a:stretch/>
        </p:blipFill>
        <p:spPr>
          <a:xfrm>
            <a:off x="2133720" y="4651200"/>
            <a:ext cx="2365200" cy="30434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458640" y="7620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ttp://www.earthday.net/footprint/index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Valores que entrega la pagina web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(Ejemplo de cálcul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04280" y="33480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ECTÁR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LOBAL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ID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VILIDA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5  VIVIEND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0.7  BIENES/SERVICI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U HUELLA TOTAL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914400" y="6324480"/>
            <a:ext cx="5029200" cy="19814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14400" y="2666880"/>
            <a:ext cx="5029200" cy="2133720"/>
          </a:xfrm>
          <a:prstGeom prst="rect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76440" y="979560"/>
            <a:ext cx="55051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ces de Biene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582912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Indice de Desarrollo Hum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eranza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 per capita ajustado al poder adquisitiv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Indice de bienestar económico susten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eficiente de G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fensivos o compensat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76440" y="979560"/>
            <a:ext cx="55051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ces de Biene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49360" y="1834920"/>
            <a:ext cx="5829120" cy="64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Índice de Desarrollo Hum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ae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ae00"/>
                </a:solidFill>
                <a:latin typeface="Times New Roman"/>
              </a:rPr>
              <a:t>Vida larga y Salu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ranza de vida al n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ae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ae00"/>
                </a:solidFill>
                <a:latin typeface="Times New Roman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fabetización adu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combinada matriculación primaria, secundaria y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ae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ae00"/>
                </a:solidFill>
                <a:latin typeface="Times New Roman"/>
              </a:rPr>
              <a:t>Nivel de vida dig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B per cá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Índice de Desarrollo Human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D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404640" y="3543480"/>
          <a:ext cx="6120000" cy="275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543480"/>
                    <a:ext cx="612000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aíses con desarrollo Humano Al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PNUD, 200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907920" y="2484360"/>
          <a:ext cx="5173560" cy="6119280"/>
        </p:xfrm>
        <a:graphic>
          <a:graphicData uri="http://schemas.openxmlformats.org/drawingml/2006/table">
            <a:tbl>
              <a:tblPr/>
              <a:tblGrid>
                <a:gridCol w="1368360"/>
                <a:gridCol w="2364840"/>
                <a:gridCol w="1440360"/>
              </a:tblGrid>
              <a:tr h="81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IDH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ru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E U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u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aíses con desarrollo Humano Medi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PNUD, 200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907920" y="2627280"/>
          <a:ext cx="5330880" cy="5832360"/>
        </p:xfrm>
        <a:graphic>
          <a:graphicData uri="http://schemas.openxmlformats.org/drawingml/2006/table">
            <a:tbl>
              <a:tblPr/>
              <a:tblGrid>
                <a:gridCol w="1272600"/>
                <a:gridCol w="2621160"/>
                <a:gridCol w="1437120"/>
              </a:tblGrid>
              <a:tr h="89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IDH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gip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aíses con desarrollo Humano Baj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PNUD, 200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1047600" y="3549600"/>
          <a:ext cx="5033880" cy="4185720"/>
        </p:xfrm>
        <a:graphic>
          <a:graphicData uri="http://schemas.openxmlformats.org/drawingml/2006/table">
            <a:tbl>
              <a:tblPr/>
              <a:tblGrid>
                <a:gridCol w="1218240"/>
                <a:gridCol w="2532960"/>
                <a:gridCol w="1282680"/>
              </a:tblGrid>
              <a:tr h="89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IDH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dagas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t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erra Le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33000" y="684000"/>
            <a:ext cx="6264360" cy="19429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DH en Chile, valores máximos, medios y mí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30080" y="3417840"/>
          <a:ext cx="5554800" cy="43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3417840"/>
                    <a:ext cx="55548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33000" y="755640"/>
            <a:ext cx="5829480" cy="196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800" spc="-1" strike="noStrike">
                <a:solidFill>
                  <a:srgbClr val="00ae00"/>
                </a:solidFill>
                <a:latin typeface="Times New Roman"/>
              </a:rPr>
              <a:t>Contabi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91920" y="3058920"/>
            <a:ext cx="5616360" cy="554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Herramienta estadística que intenta vincular información del medio ambiente con el sistema de cuentas na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Ajuste a las cuent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Cuentas de recurs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Cuentas saté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8080" y="2590920"/>
          <a:ext cx="518184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5181840" cy="5052960"/>
                  </a:xfrm>
                  <a:prstGeom prst="rect">
                    <a:avLst/>
                  </a:prstGeom>
                  <a:ln w="9360">
                    <a:solidFill>
                      <a:srgbClr val="99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90720" y="609480"/>
            <a:ext cx="4419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umo Mun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úblico y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4400" y="20224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ones de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3400" y="811836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: PNUD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0960" y="20574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5688000" cy="151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abi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91920" y="3058920"/>
            <a:ext cx="5616360" cy="56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Modificaciones al sistema de cuentas nacionales: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Desarrollo de sistema de cuentas ambientales independientes de las econó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907920" y="2195640"/>
            <a:ext cx="4876920" cy="389232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49360" y="755640"/>
            <a:ext cx="5688000" cy="1440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tas Nac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765000" y="6156000"/>
            <a:ext cx="5616720" cy="187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ae00"/>
                </a:solidFill>
                <a:latin typeface="Times New Roman"/>
              </a:rPr>
              <a:t>La medición de la actividad económica a través del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98320" y="1022400"/>
            <a:ext cx="55087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B: Bienestar y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5829480" cy="61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 que  PIB incl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C + I + X -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stos Defensivos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o médico  por efectos de la 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os para mejorar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os para mitigar impactos ambientales (doble vent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AS ¿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sto en indust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981000" y="4572000"/>
            <a:ext cx="5256360" cy="35701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762120" y="755640"/>
            <a:ext cx="5400720" cy="129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justes al P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691920" y="2484000"/>
            <a:ext cx="5616360" cy="561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Depreciación K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Gastos Defen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gradación de la Calidad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65000" y="611280"/>
            <a:ext cx="5400720" cy="1296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tas de recurs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691920" y="2050560"/>
            <a:ext cx="5616360" cy="604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bjetivo: Suministrar información cuantitativa y cualitativa sobre el estado del medio ambiente, recursos y evolución: Variaciones de st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Intenta med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lujos físico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monetarios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l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hombre-natural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peran c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nidades fí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ppalmente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3525840" y="3851280"/>
            <a:ext cx="280656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7913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los últimos 10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5829480" cy="5486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 población se multiplicó por 3,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l consumo se multiplicó por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1252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Verdana"/>
              </a:rPr>
              <a:t>Consumo de energía por lo hu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Consumo endosomático de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 2.000 y 3.000 kilocalorías diarias: determin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Uso exosomátic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 5.000 kcal día a 100.000 kcal día: determinación económica  y cul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85800" y="685800"/>
            <a:ext cx="5864400" cy="2590560"/>
            <a:chOff x="685800" y="685800"/>
            <a:chExt cx="5864400" cy="2590560"/>
          </a:xfrm>
        </p:grpSpPr>
        <p:sp>
          <p:nvSpPr>
            <p:cNvPr id="129" name=""/>
            <p:cNvSpPr/>
            <p:nvPr/>
          </p:nvSpPr>
          <p:spPr>
            <a:xfrm>
              <a:off x="729720" y="685800"/>
              <a:ext cx="528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O DE ENERGIA PER CAPITA POR P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7640" y="913680"/>
              <a:ext cx="211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kilos equivalentes en petróle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440" y="12013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9600" y="120132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E.U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7960" y="120132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11120" y="1201320"/>
              <a:ext cx="45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3880" y="120132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7920" y="1201320"/>
              <a:ext cx="48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8320" y="123516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2320" y="12013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0040" y="12013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080" y="1564200"/>
              <a:ext cx="98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ns Energ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5400" y="1564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0440" y="1564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31360" y="1564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840" y="1564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20880" y="1564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0600" y="1564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000" y="1564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62200" y="1564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1080" y="1739160"/>
              <a:ext cx="108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er capita (kg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200" y="2106360"/>
              <a:ext cx="99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ís/USA*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8920" y="2106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78200" y="210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7320" y="210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4600" y="210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04040" y="210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2106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92120" y="210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0320" y="210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8200" y="2475000"/>
              <a:ext cx="99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A/País*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91040" y="247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37160" y="247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6280" y="247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3560" y="247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62640" y="247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,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19200" y="2475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2960" y="2475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21160" y="2475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2160" y="279360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b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23280" y="27936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6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7160" y="2793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97320" y="2793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70000" y="2793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11720" y="2793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66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19200" y="2793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82960" y="27936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04320" y="2793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5680" y="1184760"/>
              <a:ext cx="73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5680" y="1184760"/>
              <a:ext cx="7347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76560" y="1184760"/>
              <a:ext cx="52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76560" y="1184760"/>
              <a:ext cx="520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2960" y="1184760"/>
              <a:ext cx="65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2960" y="1184760"/>
              <a:ext cx="6508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4520" y="1184760"/>
              <a:ext cx="1440" cy="35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84520" y="1184760"/>
              <a:ext cx="11160" cy="35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21080" y="1195200"/>
              <a:ext cx="1440" cy="34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1080" y="1195200"/>
              <a:ext cx="9360" cy="34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67200" y="1184760"/>
              <a:ext cx="1440" cy="35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67200" y="1184760"/>
              <a:ext cx="9360" cy="35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6320" y="1195200"/>
              <a:ext cx="1440" cy="34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6320" y="1195200"/>
              <a:ext cx="11160" cy="34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43600" y="1184760"/>
              <a:ext cx="1440" cy="35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3600" y="1184760"/>
              <a:ext cx="9360" cy="35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92680" y="1195200"/>
              <a:ext cx="1800" cy="34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92680" y="1195200"/>
              <a:ext cx="11160" cy="34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2400" y="1184760"/>
              <a:ext cx="1800" cy="35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32400" y="1184760"/>
              <a:ext cx="11160" cy="35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96160" y="1195200"/>
              <a:ext cx="1440" cy="34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96160" y="1195200"/>
              <a:ext cx="11160" cy="34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452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84520" y="1561320"/>
              <a:ext cx="111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2108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21080" y="1561320"/>
              <a:ext cx="93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6720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7200" y="1561320"/>
              <a:ext cx="93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632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6320" y="1561320"/>
              <a:ext cx="111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360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43600" y="1561320"/>
              <a:ext cx="93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92680" y="1561320"/>
              <a:ext cx="180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92680" y="1561320"/>
              <a:ext cx="111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2400" y="1561320"/>
              <a:ext cx="180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32400" y="1561320"/>
              <a:ext cx="111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96160" y="1561320"/>
              <a:ext cx="1440" cy="34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96160" y="1561320"/>
              <a:ext cx="11160" cy="34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800" y="1541880"/>
              <a:ext cx="20880" cy="38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452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4520" y="19224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2108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1080" y="19224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6720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67200" y="19224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8632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6320" y="19224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360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3600" y="19224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92680" y="1922400"/>
              <a:ext cx="180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92680" y="19224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2400" y="1922400"/>
              <a:ext cx="180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32400" y="19224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6160" y="19224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96160" y="19224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29320" y="1561320"/>
              <a:ext cx="20880" cy="36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8452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4520" y="210636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2108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21080" y="210636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720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67200" y="210636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8632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6320" y="210636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360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3600" y="210636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92680" y="2106360"/>
              <a:ext cx="180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2680" y="210636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2400" y="2106360"/>
              <a:ext cx="180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32400" y="210636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96160" y="210636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96160" y="210636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2086920"/>
              <a:ext cx="20880" cy="20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452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4520" y="2291760"/>
              <a:ext cx="111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2108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1080" y="2291760"/>
              <a:ext cx="93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720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7200" y="2291760"/>
              <a:ext cx="93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632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6320" y="2291760"/>
              <a:ext cx="111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4360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43600" y="2291760"/>
              <a:ext cx="93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2680" y="2291760"/>
              <a:ext cx="180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92680" y="2291760"/>
              <a:ext cx="111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400" y="2291760"/>
              <a:ext cx="180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2400" y="2291760"/>
              <a:ext cx="111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96160" y="2291760"/>
              <a:ext cx="1440" cy="16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96160" y="2291760"/>
              <a:ext cx="11160" cy="16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9320" y="2106360"/>
              <a:ext cx="20880" cy="18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2455920"/>
              <a:ext cx="20880" cy="20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452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4520" y="247500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2108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21080" y="247500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6720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7200" y="247500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632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6320" y="247500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360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43600" y="2475000"/>
              <a:ext cx="93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92680" y="2475000"/>
              <a:ext cx="180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2680" y="247500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2400" y="2475000"/>
              <a:ext cx="180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32400" y="247500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96160" y="2475000"/>
              <a:ext cx="1440" cy="16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96160" y="2475000"/>
              <a:ext cx="11160" cy="16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9320" y="2475000"/>
              <a:ext cx="20880" cy="18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452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4520" y="27936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2108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21080" y="27936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6720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67200" y="27936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86320" y="27936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4360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43600" y="2793600"/>
              <a:ext cx="93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92680" y="2793600"/>
              <a:ext cx="180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2680" y="27936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32400" y="2793600"/>
              <a:ext cx="180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32400" y="27936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6160" y="2793600"/>
              <a:ext cx="1440" cy="16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96160" y="2793600"/>
              <a:ext cx="11160" cy="16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95680" y="3266280"/>
              <a:ext cx="73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5680" y="3266280"/>
              <a:ext cx="7347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6560" y="3266280"/>
              <a:ext cx="52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76560" y="3266280"/>
              <a:ext cx="520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2960" y="3266280"/>
              <a:ext cx="65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52960" y="3266280"/>
              <a:ext cx="6508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452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84520" y="3144960"/>
              <a:ext cx="111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2108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21080" y="3144960"/>
              <a:ext cx="93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6720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67200" y="3144960"/>
              <a:ext cx="93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632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6320" y="3144960"/>
              <a:ext cx="111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360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3600" y="3144960"/>
              <a:ext cx="93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92680" y="314496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92680" y="3144960"/>
              <a:ext cx="111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32400" y="314496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32400" y="3144960"/>
              <a:ext cx="111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96160" y="314496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96160" y="3144960"/>
              <a:ext cx="11160" cy="13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774520"/>
              <a:ext cx="20880" cy="20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29320" y="2793600"/>
              <a:ext cx="20880" cy="18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43560" y="1184760"/>
              <a:ext cx="56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43560" y="1184760"/>
              <a:ext cx="5637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6680" y="1541880"/>
              <a:ext cx="5843520" cy="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6680" y="1903320"/>
              <a:ext cx="5843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09480" y="2666880"/>
            <a:ext cx="58438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16480" y="3673440"/>
            <a:ext cx="56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16480" y="3673440"/>
            <a:ext cx="5637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9440" y="3481560"/>
            <a:ext cx="5690880" cy="5043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87440" y="4373640"/>
            <a:ext cx="4309920" cy="3093840"/>
            <a:chOff x="1387440" y="4373640"/>
            <a:chExt cx="4309920" cy="3093840"/>
          </a:xfrm>
        </p:grpSpPr>
        <p:sp>
          <p:nvSpPr>
            <p:cNvPr id="334" name=""/>
            <p:cNvSpPr/>
            <p:nvPr/>
          </p:nvSpPr>
          <p:spPr>
            <a:xfrm>
              <a:off x="1387440" y="4373640"/>
              <a:ext cx="33480" cy="3093840"/>
            </a:xfrm>
            <a:prstGeom prst="rect">
              <a:avLst/>
            </a:prstGeom>
            <a:solidFill>
              <a:srgbClr val="ff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20920" y="4373640"/>
              <a:ext cx="34920" cy="3093840"/>
            </a:xfrm>
            <a:prstGeom prst="rect">
              <a:avLst/>
            </a:prstGeom>
            <a:solidFill>
              <a:srgbClr val="ff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5840" y="4373640"/>
              <a:ext cx="33120" cy="3093840"/>
            </a:xfrm>
            <a:prstGeom prst="rect">
              <a:avLst/>
            </a:prstGeom>
            <a:solidFill>
              <a:srgbClr val="ff0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88960" y="4373640"/>
              <a:ext cx="33480" cy="3093840"/>
            </a:xfrm>
            <a:prstGeom prst="rect">
              <a:avLst/>
            </a:prstGeom>
            <a:solidFill>
              <a:srgbClr val="ff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2440" y="4373640"/>
              <a:ext cx="34920" cy="3093840"/>
            </a:xfrm>
            <a:prstGeom prst="rect">
              <a:avLst/>
            </a:prstGeom>
            <a:solidFill>
              <a:srgbClr val="ff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7360" y="4373640"/>
              <a:ext cx="33480" cy="309384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0840" y="4373640"/>
              <a:ext cx="33120" cy="3093840"/>
            </a:xfrm>
            <a:prstGeom prst="rect">
              <a:avLst/>
            </a:prstGeom>
            <a:solidFill>
              <a:srgbClr val="f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23960" y="4373640"/>
              <a:ext cx="33480" cy="3093840"/>
            </a:xfrm>
            <a:prstGeom prst="rect">
              <a:avLst/>
            </a:pr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57440" y="4373640"/>
              <a:ext cx="34920" cy="3093840"/>
            </a:xfrm>
            <a:prstGeom prst="rect">
              <a:avLst/>
            </a:prstGeom>
            <a:solidFill>
              <a:srgbClr val="ff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92360" y="4373640"/>
              <a:ext cx="33120" cy="3093840"/>
            </a:xfrm>
            <a:prstGeom prst="rect">
              <a:avLst/>
            </a:prstGeom>
            <a:solidFill>
              <a:srgbClr val="f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25480" y="4373640"/>
              <a:ext cx="32040" cy="309384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7520" y="4373640"/>
              <a:ext cx="33120" cy="3093840"/>
            </a:xfrm>
            <a:prstGeom prst="rect">
              <a:avLst/>
            </a:prstGeom>
            <a:solidFill>
              <a:srgbClr val="ff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90640" y="4373640"/>
              <a:ext cx="33480" cy="3093840"/>
            </a:xfrm>
            <a:prstGeom prst="rect">
              <a:avLst/>
            </a:prstGeom>
            <a:solidFill>
              <a:srgbClr val="ff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24120" y="4373640"/>
              <a:ext cx="34920" cy="3093840"/>
            </a:xfrm>
            <a:prstGeom prst="rect">
              <a:avLst/>
            </a:prstGeom>
            <a:solidFill>
              <a:srgbClr val="ff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59040" y="4373640"/>
              <a:ext cx="33120" cy="3093840"/>
            </a:xfrm>
            <a:prstGeom prst="rect">
              <a:avLst/>
            </a:prstGeom>
            <a:solidFill>
              <a:srgbClr val="ff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92160" y="4373640"/>
              <a:ext cx="33480" cy="3093840"/>
            </a:xfrm>
            <a:prstGeom prst="rect">
              <a:avLst/>
            </a:prstGeom>
            <a:solidFill>
              <a:srgbClr val="f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25640" y="4373640"/>
              <a:ext cx="33480" cy="3093840"/>
            </a:xfrm>
            <a:prstGeom prst="rect">
              <a:avLst/>
            </a:prstGeom>
            <a:solidFill>
              <a:srgbClr val="f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59120" y="4373640"/>
              <a:ext cx="34920" cy="3093840"/>
            </a:xfrm>
            <a:prstGeom prst="rect">
              <a:avLst/>
            </a:prstGeom>
            <a:solidFill>
              <a:srgbClr val="ff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94040" y="4373640"/>
              <a:ext cx="33120" cy="3093840"/>
            </a:xfrm>
            <a:prstGeom prst="rect">
              <a:avLst/>
            </a:prstGeom>
            <a:solidFill>
              <a:srgbClr val="ff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7160" y="4373640"/>
              <a:ext cx="33480" cy="3093840"/>
            </a:xfrm>
            <a:prstGeom prst="rect">
              <a:avLst/>
            </a:pr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0640" y="4373640"/>
              <a:ext cx="34920" cy="3093840"/>
            </a:xfrm>
            <a:prstGeom prst="rect">
              <a:avLst/>
            </a:prstGeom>
            <a:solidFill>
              <a:srgbClr val="ff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95560" y="4373640"/>
              <a:ext cx="33120" cy="3093840"/>
            </a:xfrm>
            <a:prstGeom prst="rect">
              <a:avLst/>
            </a:prstGeom>
            <a:solidFill>
              <a:srgbClr val="ff3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28680" y="4373640"/>
              <a:ext cx="33480" cy="309384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2160" y="4373640"/>
              <a:ext cx="33480" cy="3093840"/>
            </a:xfrm>
            <a:prstGeom prst="rect">
              <a:avLst/>
            </a:prstGeom>
            <a:solidFill>
              <a:srgbClr val="ff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5640" y="4373640"/>
              <a:ext cx="34920" cy="3093840"/>
            </a:xfrm>
            <a:prstGeom prst="rect">
              <a:avLst/>
            </a:prstGeom>
            <a:solidFill>
              <a:srgbClr val="ff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30560" y="4373640"/>
              <a:ext cx="33120" cy="3093840"/>
            </a:xfrm>
            <a:prstGeom prst="rect">
              <a:avLst/>
            </a:prstGeom>
            <a:solidFill>
              <a:srgbClr val="f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3680" y="4373640"/>
              <a:ext cx="33480" cy="3093840"/>
            </a:xfrm>
            <a:prstGeom prst="rect">
              <a:avLst/>
            </a:prstGeom>
            <a:solidFill>
              <a:srgbClr val="f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97160" y="4373640"/>
              <a:ext cx="34920" cy="309384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32080" y="4373640"/>
              <a:ext cx="33120" cy="3093840"/>
            </a:xfrm>
            <a:prstGeom prst="rect">
              <a:avLst/>
            </a:prstGeom>
            <a:solidFill>
              <a:srgbClr val="ff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5200" y="4373640"/>
              <a:ext cx="33480" cy="3093840"/>
            </a:xfrm>
            <a:prstGeom prst="rect">
              <a:avLst/>
            </a:pr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98680" y="4373640"/>
              <a:ext cx="33480" cy="3093840"/>
            </a:xfrm>
            <a:prstGeom prst="rect">
              <a:avLst/>
            </a:prstGeom>
            <a:solidFill>
              <a:srgbClr val="ff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2160" y="4373640"/>
              <a:ext cx="31680" cy="3093840"/>
            </a:xfrm>
            <a:prstGeom prst="rect">
              <a:avLst/>
            </a:prstGeom>
            <a:solidFill>
              <a:srgbClr val="ff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63840" y="4373640"/>
              <a:ext cx="33120" cy="3093840"/>
            </a:xfrm>
            <a:prstGeom prst="rect">
              <a:avLst/>
            </a:pr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96960" y="4373640"/>
              <a:ext cx="35280" cy="3093840"/>
            </a:xfrm>
            <a:prstGeom prst="rect">
              <a:avLst/>
            </a:pr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32240" y="4373640"/>
              <a:ext cx="33120" cy="3093840"/>
            </a:xfrm>
            <a:prstGeom prst="rect">
              <a:avLst/>
            </a:prstGeom>
            <a:solidFill>
              <a:srgbClr val="f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5360" y="4373640"/>
              <a:ext cx="33480" cy="3093840"/>
            </a:xfrm>
            <a:prstGeom prst="rect">
              <a:avLst/>
            </a:prstGeom>
            <a:solidFill>
              <a:srgbClr val="ff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8840" y="4373640"/>
              <a:ext cx="34920" cy="3093840"/>
            </a:xfrm>
            <a:prstGeom prst="rect">
              <a:avLst/>
            </a:prstGeom>
            <a:solidFill>
              <a:srgbClr val="ff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33760" y="4373640"/>
              <a:ext cx="33120" cy="3093840"/>
            </a:xfrm>
            <a:prstGeom prst="rect">
              <a:avLst/>
            </a:prstGeom>
            <a:solidFill>
              <a:srgbClr val="ff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4373640"/>
              <a:ext cx="33480" cy="3093840"/>
            </a:xfrm>
            <a:prstGeom prst="rect">
              <a:avLst/>
            </a:prstGeom>
            <a:solidFill>
              <a:srgbClr val="ff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00360" y="4373640"/>
              <a:ext cx="33480" cy="309384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33840" y="4373640"/>
              <a:ext cx="34920" cy="3093840"/>
            </a:xfrm>
            <a:prstGeom prst="rect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8760" y="4373640"/>
              <a:ext cx="33120" cy="309384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01880" y="4373640"/>
              <a:ext cx="33480" cy="3093840"/>
            </a:xfrm>
            <a:prstGeom prst="rect">
              <a:avLst/>
            </a:prstGeom>
            <a:solidFill>
              <a:srgbClr val="ff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4373640"/>
              <a:ext cx="34920" cy="3093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70280" y="4373640"/>
              <a:ext cx="33120" cy="3093840"/>
            </a:xfrm>
            <a:prstGeom prst="rect">
              <a:avLst/>
            </a:prstGeom>
            <a:solidFill>
              <a:srgbClr val="ff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3400" y="4373640"/>
              <a:ext cx="33480" cy="3093840"/>
            </a:xfrm>
            <a:prstGeom prst="rect">
              <a:avLst/>
            </a:prstGeom>
            <a:solidFill>
              <a:srgbClr val="ff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36880" y="4373640"/>
              <a:ext cx="33480" cy="3093840"/>
            </a:xfrm>
            <a:prstGeom prst="rect">
              <a:avLst/>
            </a:prstGeom>
            <a:solidFill>
              <a:srgbClr val="ff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70360" y="4373640"/>
              <a:ext cx="34920" cy="3093840"/>
            </a:xfrm>
            <a:prstGeom prst="rect">
              <a:avLst/>
            </a:prstGeom>
            <a:solidFill>
              <a:srgbClr val="ff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05280" y="4373640"/>
              <a:ext cx="33120" cy="3093840"/>
            </a:xfrm>
            <a:prstGeom prst="rect">
              <a:avLst/>
            </a:prstGeom>
            <a:solidFill>
              <a:srgbClr val="ff7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38400" y="4373640"/>
              <a:ext cx="33480" cy="3093840"/>
            </a:xfrm>
            <a:prstGeom prst="rect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71880" y="4373640"/>
              <a:ext cx="34920" cy="3093840"/>
            </a:xfrm>
            <a:prstGeom prst="rect">
              <a:avLst/>
            </a:prstGeom>
            <a:solidFill>
              <a:srgbClr val="f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06800" y="4373640"/>
              <a:ext cx="33120" cy="3093840"/>
            </a:xfrm>
            <a:prstGeom prst="rect">
              <a:avLst/>
            </a:prstGeom>
            <a:solidFill>
              <a:srgbClr val="ff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39920" y="4373640"/>
              <a:ext cx="33480" cy="3093840"/>
            </a:xfrm>
            <a:prstGeom prst="rect">
              <a:avLst/>
            </a:prstGeom>
            <a:solidFill>
              <a:srgbClr val="ff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73400" y="4373640"/>
              <a:ext cx="31680" cy="3093840"/>
            </a:xfrm>
            <a:prstGeom prst="rect">
              <a:avLst/>
            </a:prstGeom>
            <a:solidFill>
              <a:srgbClr val="ff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05080" y="4373640"/>
              <a:ext cx="33480" cy="3093840"/>
            </a:xfrm>
            <a:prstGeom prst="rect">
              <a:avLst/>
            </a:prstGeom>
            <a:solidFill>
              <a:srgbClr val="ff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38560" y="4373640"/>
              <a:ext cx="33120" cy="3093840"/>
            </a:xfrm>
            <a:prstGeom prst="rect">
              <a:avLst/>
            </a:prstGeom>
            <a:solidFill>
              <a:srgbClr val="ff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71680" y="4373640"/>
              <a:ext cx="34920" cy="309384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06600" y="4373640"/>
              <a:ext cx="33480" cy="3093840"/>
            </a:xfrm>
            <a:prstGeom prst="rect">
              <a:avLst/>
            </a:prstGeom>
            <a:solidFill>
              <a:srgbClr val="f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40080" y="4373640"/>
              <a:ext cx="33480" cy="3093840"/>
            </a:xfrm>
            <a:prstGeom prst="rect">
              <a:avLst/>
            </a:prstGeom>
            <a:solidFill>
              <a:srgbClr val="ff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3560" y="4373640"/>
              <a:ext cx="34920" cy="3093840"/>
            </a:xfrm>
            <a:prstGeom prst="rect">
              <a:avLst/>
            </a:prstGeom>
            <a:solidFill>
              <a:srgbClr val="ff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08480" y="4373640"/>
              <a:ext cx="33120" cy="3093840"/>
            </a:xfrm>
            <a:prstGeom prst="rect">
              <a:avLst/>
            </a:prstGeom>
            <a:solidFill>
              <a:srgbClr val="ff8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1600" y="4373640"/>
              <a:ext cx="33480" cy="3093840"/>
            </a:xfrm>
            <a:prstGeom prst="rect">
              <a:avLst/>
            </a:prstGeom>
            <a:solidFill>
              <a:srgbClr val="ff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75080" y="4373640"/>
              <a:ext cx="33120" cy="3093840"/>
            </a:xfrm>
            <a:prstGeom prst="rect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08200" y="4373640"/>
              <a:ext cx="35280" cy="3093840"/>
            </a:xfrm>
            <a:prstGeom prst="rect">
              <a:avLst/>
            </a:prstGeom>
            <a:solidFill>
              <a:srgbClr val="ff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43480" y="4373640"/>
              <a:ext cx="33120" cy="3093840"/>
            </a:xfrm>
            <a:prstGeom prst="rect">
              <a:avLst/>
            </a:prstGeom>
            <a:solidFill>
              <a:srgbClr val="f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76600" y="4373640"/>
              <a:ext cx="33480" cy="3093840"/>
            </a:xfrm>
            <a:prstGeom prst="rect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10080" y="4373640"/>
              <a:ext cx="34920" cy="3093840"/>
            </a:xfrm>
            <a:prstGeom prst="rect">
              <a:avLst/>
            </a:prstGeom>
            <a:solidFill>
              <a:srgbClr val="ff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45000" y="4373640"/>
              <a:ext cx="33120" cy="3093840"/>
            </a:xfrm>
            <a:prstGeom prst="rect">
              <a:avLst/>
            </a:prstGeom>
            <a:solidFill>
              <a:srgbClr val="ff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8120" y="4373640"/>
              <a:ext cx="33480" cy="3093840"/>
            </a:xfrm>
            <a:prstGeom prst="rect">
              <a:avLst/>
            </a:prstGeom>
            <a:solidFill>
              <a:srgbClr val="f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11600" y="4373640"/>
              <a:ext cx="33480" cy="3093840"/>
            </a:xfrm>
            <a:prstGeom prst="rect">
              <a:avLst/>
            </a:prstGeom>
            <a:solidFill>
              <a:srgbClr val="ff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45080" y="4373640"/>
              <a:ext cx="34920" cy="3093840"/>
            </a:xfrm>
            <a:prstGeom prst="rect">
              <a:avLst/>
            </a:prstGeom>
            <a:solidFill>
              <a:srgbClr val="ff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80000" y="4373640"/>
              <a:ext cx="33120" cy="309384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13120" y="4373640"/>
              <a:ext cx="33480" cy="30938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46600" y="4373640"/>
              <a:ext cx="34920" cy="3093840"/>
            </a:xfrm>
            <a:prstGeom prst="rect">
              <a:avLst/>
            </a:pr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1520" y="4373640"/>
              <a:ext cx="30240" cy="3093840"/>
            </a:xfrm>
            <a:prstGeom prst="rect">
              <a:avLst/>
            </a:prstGeom>
            <a:solidFill>
              <a:srgbClr val="ff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1760" y="4373640"/>
              <a:ext cx="34920" cy="309384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6680" y="4373640"/>
              <a:ext cx="33120" cy="3093840"/>
            </a:xfrm>
            <a:prstGeom prst="rect">
              <a:avLst/>
            </a:prstGeom>
            <a:solidFill>
              <a:srgbClr val="f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79800" y="4373640"/>
              <a:ext cx="33480" cy="3093840"/>
            </a:xfrm>
            <a:prstGeom prst="rect">
              <a:avLst/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13280" y="4373640"/>
              <a:ext cx="33120" cy="309384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6400" y="4373640"/>
              <a:ext cx="34920" cy="309384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81320" y="4373640"/>
              <a:ext cx="33480" cy="3093840"/>
            </a:xfrm>
            <a:prstGeom prst="rect">
              <a:avLst/>
            </a:pr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4373640"/>
              <a:ext cx="33480" cy="3093840"/>
            </a:xfrm>
            <a:prstGeom prst="rect">
              <a:avLst/>
            </a:prstGeom>
            <a:solidFill>
              <a:srgbClr val="ff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48280" y="4373640"/>
              <a:ext cx="34920" cy="3093840"/>
            </a:xfrm>
            <a:prstGeom prst="rect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3200" y="4373640"/>
              <a:ext cx="33120" cy="3093840"/>
            </a:xfrm>
            <a:prstGeom prst="rect">
              <a:avLst/>
            </a:pr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16320" y="4373640"/>
              <a:ext cx="33480" cy="309384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49800" y="4373640"/>
              <a:ext cx="33120" cy="309384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82920" y="4373640"/>
              <a:ext cx="34920" cy="3093840"/>
            </a:xfrm>
            <a:prstGeom prst="rect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7840" y="4373640"/>
              <a:ext cx="33480" cy="3093840"/>
            </a:xfrm>
            <a:prstGeom prst="rect">
              <a:avLst/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1320" y="4373640"/>
              <a:ext cx="33480" cy="3093840"/>
            </a:xfrm>
            <a:prstGeom prst="rect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4800" y="4373640"/>
              <a:ext cx="34920" cy="3093840"/>
            </a:xfrm>
            <a:prstGeom prst="rect">
              <a:avLst/>
            </a:prstGeom>
            <a:solidFill>
              <a:srgbClr val="f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9720" y="4373640"/>
              <a:ext cx="33120" cy="30938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52840" y="4373640"/>
              <a:ext cx="33480" cy="3093840"/>
            </a:xfrm>
            <a:prstGeom prst="rect">
              <a:avLst/>
            </a:prstGeom>
            <a:solidFill>
              <a:srgbClr val="ff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86320" y="4373640"/>
              <a:ext cx="34920" cy="3093840"/>
            </a:xfrm>
            <a:prstGeom prst="rect">
              <a:avLst/>
            </a:prstGeom>
            <a:solidFill>
              <a:srgbClr val="f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21240" y="4373640"/>
              <a:ext cx="33120" cy="3093840"/>
            </a:xfrm>
            <a:prstGeom prst="rect">
              <a:avLst/>
            </a:prstGeom>
            <a:solidFill>
              <a:srgbClr val="f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54360" y="4373640"/>
              <a:ext cx="33480" cy="3093840"/>
            </a:xfrm>
            <a:prstGeom prst="rect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87840" y="4373640"/>
              <a:ext cx="31680" cy="3093840"/>
            </a:xfrm>
            <a:prstGeom prst="rect">
              <a:avLst/>
            </a:prstGeom>
            <a:solidFill>
              <a:srgbClr val="ff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19520" y="4373640"/>
              <a:ext cx="33480" cy="309384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53000" y="4373640"/>
              <a:ext cx="33480" cy="309384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86480" y="4373640"/>
              <a:ext cx="34920" cy="309384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1400" y="4373640"/>
              <a:ext cx="33120" cy="30938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4520" y="4373640"/>
              <a:ext cx="33480" cy="3093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8000" y="4373640"/>
              <a:ext cx="33120" cy="3093840"/>
            </a:xfrm>
            <a:prstGeom prst="rect">
              <a:avLst/>
            </a:prstGeom>
            <a:solidFill>
              <a:srgbClr val="ff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21120" y="4373640"/>
              <a:ext cx="34920" cy="3093840"/>
            </a:xfrm>
            <a:prstGeom prst="rect">
              <a:avLst/>
            </a:prstGeom>
            <a:solidFill>
              <a:srgbClr val="ff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6040" y="4373640"/>
              <a:ext cx="33480" cy="3093840"/>
            </a:xfrm>
            <a:prstGeom prst="rect">
              <a:avLst/>
            </a:pr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9520" y="4373640"/>
              <a:ext cx="33480" cy="309384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23000" y="4373640"/>
              <a:ext cx="34920" cy="309384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57920" y="4373640"/>
              <a:ext cx="33120" cy="3093840"/>
            </a:xfrm>
            <a:prstGeom prst="rect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1040" y="4373640"/>
              <a:ext cx="33480" cy="3093840"/>
            </a:xfrm>
            <a:prstGeom prst="rect">
              <a:avLst/>
            </a:pr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4520" y="4373640"/>
              <a:ext cx="34920" cy="3093840"/>
            </a:xfrm>
            <a:prstGeom prst="rect">
              <a:avLst/>
            </a:pr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59440" y="4373640"/>
              <a:ext cx="33120" cy="3093840"/>
            </a:xfrm>
            <a:prstGeom prst="rect">
              <a:avLst/>
            </a:prstGeom>
            <a:solidFill>
              <a:srgbClr val="ff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92560" y="4373640"/>
              <a:ext cx="33480" cy="3093840"/>
            </a:xfrm>
            <a:prstGeom prst="rect">
              <a:avLst/>
            </a:prstGeom>
            <a:solidFill>
              <a:srgbClr val="ff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26040" y="4373640"/>
              <a:ext cx="33480" cy="309384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9520" y="4373640"/>
              <a:ext cx="34920" cy="309384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94440" y="4373640"/>
              <a:ext cx="33120" cy="3093840"/>
            </a:xfrm>
            <a:prstGeom prst="rect">
              <a:avLst/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27560" y="4373640"/>
              <a:ext cx="33480" cy="3093840"/>
            </a:xfrm>
            <a:prstGeom prst="rect">
              <a:avLst/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4373640"/>
              <a:ext cx="34920" cy="3093840"/>
            </a:xfrm>
            <a:prstGeom prst="rect">
              <a:avLst/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95960" y="4373640"/>
              <a:ext cx="33120" cy="30938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29080" y="4373640"/>
              <a:ext cx="30240" cy="30938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59320" y="4373640"/>
              <a:ext cx="34920" cy="30938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94240" y="4373640"/>
              <a:ext cx="33480" cy="30938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27720" y="4373640"/>
              <a:ext cx="33120" cy="3093840"/>
            </a:xfrm>
            <a:prstGeom prst="rect">
              <a:avLst/>
            </a:prstGeom>
            <a:solidFill>
              <a:srgbClr val="ff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60840" y="4373640"/>
              <a:ext cx="34920" cy="3093840"/>
            </a:xfrm>
            <a:prstGeom prst="rect">
              <a:avLst/>
            </a:prstGeom>
            <a:solidFill>
              <a:srgbClr val="ff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95760" y="4373640"/>
              <a:ext cx="33480" cy="3093840"/>
            </a:xfrm>
            <a:prstGeom prst="rect">
              <a:avLst/>
            </a:prstGeom>
            <a:solidFill>
              <a:srgbClr val="ff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9240" y="4373640"/>
              <a:ext cx="33480" cy="309384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62720" y="4373640"/>
              <a:ext cx="34920" cy="309384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97640" y="4373640"/>
              <a:ext cx="33120" cy="309384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30760" y="4373640"/>
              <a:ext cx="33480" cy="309384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64240" y="4373640"/>
              <a:ext cx="33120" cy="309384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387440" y="4373640"/>
            <a:ext cx="430992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87440" y="6953400"/>
            <a:ext cx="430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87440" y="6435720"/>
            <a:ext cx="430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87440" y="5919840"/>
            <a:ext cx="430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87440" y="5405400"/>
            <a:ext cx="430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87440" y="4888080"/>
            <a:ext cx="430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87440" y="4373640"/>
            <a:ext cx="430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87440" y="4373640"/>
            <a:ext cx="4309920" cy="30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49440" y="4888080"/>
            <a:ext cx="216000" cy="257940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87640" y="6307200"/>
            <a:ext cx="217440" cy="1160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7004160"/>
            <a:ext cx="216000" cy="46332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5480" y="7132680"/>
            <a:ext cx="216000" cy="334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03680" y="7183440"/>
            <a:ext cx="21600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41880" y="7210440"/>
            <a:ext cx="218880" cy="25704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82960" y="7288200"/>
            <a:ext cx="216000" cy="179280"/>
          </a:xfrm>
          <a:prstGeom prst="rect">
            <a:avLst/>
          </a:prstGeom>
          <a:solidFill>
            <a:srgbClr val="cc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21160" y="7389720"/>
            <a:ext cx="216000" cy="7776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87440" y="4373640"/>
            <a:ext cx="1800" cy="3093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41360" y="74674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41360" y="6953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41360" y="6435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41360" y="5919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5405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41360" y="4888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41360" y="4373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87440" y="7467480"/>
            <a:ext cx="4309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387440" y="74671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92564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46708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00528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4348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081320" y="74671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62132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159520" y="74671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697360" y="74671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80680" y="3627360"/>
            <a:ext cx="246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sumo de Energía per capi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56960" y="3838680"/>
            <a:ext cx="144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 relación a U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81480" y="4641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58200" y="606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96400" y="675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34600" y="688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72440" y="6937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10640" y="6962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92400" y="7040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30600" y="714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30840" y="737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50920" y="6864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50920" y="6346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50920" y="5832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50920" y="5316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72440" y="4799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72440" y="4284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8900000">
            <a:off x="1202760" y="770832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E.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8900000">
            <a:off x="1753200" y="770328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8900000">
            <a:off x="2285640" y="770616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8900000">
            <a:off x="2734200" y="7740000"/>
            <a:ext cx="56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8900000">
            <a:off x="3344400" y="771408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8900000">
            <a:off x="3597120" y="7827120"/>
            <a:ext cx="82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00000">
            <a:off x="4468680" y="769716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8900000">
            <a:off x="5034240" y="7681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00000">
            <a:off x="427320" y="5749200"/>
            <a:ext cx="86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centaj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9440" y="3481560"/>
            <a:ext cx="5690880" cy="504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3080" y="8229600"/>
            <a:ext cx="159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ente: FNUAP, 19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86760" y="685800"/>
            <a:ext cx="52660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umo Energía por país (Mill. kg. de petról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41400" y="127620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E.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5800" y="127620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19680" y="127620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03160" y="1276200"/>
            <a:ext cx="56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48280" y="12762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1312920"/>
            <a:ext cx="62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20160" y="127620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83200" y="1276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5800" y="166356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 Ener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37240" y="1663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83360" y="1663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02480" y="16635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58320" y="1663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28360" y="166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66640" y="166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1840" y="166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68240" y="166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5440" y="185112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r capita (k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880" y="22464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32560" y="22464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6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4640" y="22464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05880" y="2246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79280" y="22464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19920" y="22464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66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4520" y="22464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588280" y="22464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08560" y="22464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6120" y="2643120"/>
            <a:ext cx="106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o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8880" y="283068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ía Paí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02960" y="27432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160" y="2743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99680" y="2743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6160" y="27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88960" y="27432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28480" y="2743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61640" y="2743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1480" y="2743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68600" y="1258920"/>
            <a:ext cx="73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68600" y="1258920"/>
            <a:ext cx="7365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49480" y="1258920"/>
            <a:ext cx="51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49480" y="1258920"/>
            <a:ext cx="519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25880" y="1258920"/>
            <a:ext cx="6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25880" y="1258920"/>
            <a:ext cx="649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58880" y="1258920"/>
            <a:ext cx="180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58880" y="1258920"/>
            <a:ext cx="972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127008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94000" y="1270080"/>
            <a:ext cx="11160" cy="18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40120" y="1258920"/>
            <a:ext cx="144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40120" y="1258920"/>
            <a:ext cx="93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59240" y="127008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459240" y="1270080"/>
            <a:ext cx="9360" cy="18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14720" y="1258920"/>
            <a:ext cx="180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14720" y="1258920"/>
            <a:ext cx="111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64160" y="127008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64160" y="1270080"/>
            <a:ext cx="11160" cy="18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03880" y="1258920"/>
            <a:ext cx="144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03880" y="1258920"/>
            <a:ext cx="936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1270080"/>
            <a:ext cx="180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1270080"/>
            <a:ext cx="9720" cy="18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0520" y="1641600"/>
            <a:ext cx="20520" cy="4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58880" y="1662120"/>
            <a:ext cx="180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58880" y="1662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1662120"/>
            <a:ext cx="144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94000" y="1662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40120" y="1662120"/>
            <a:ext cx="144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40120" y="1662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59240" y="1662120"/>
            <a:ext cx="144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59240" y="1662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14720" y="1662120"/>
            <a:ext cx="180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14720" y="1662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64160" y="1662120"/>
            <a:ext cx="144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64160" y="1662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03880" y="1662120"/>
            <a:ext cx="144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03880" y="1662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1662120"/>
            <a:ext cx="1800" cy="36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1662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9360" y="1662120"/>
            <a:ext cx="20520" cy="38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0520" y="2225520"/>
            <a:ext cx="20520" cy="21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9360" y="2246400"/>
            <a:ext cx="2052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58880" y="2246400"/>
            <a:ext cx="180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58880" y="2246400"/>
            <a:ext cx="972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94000" y="2246400"/>
            <a:ext cx="144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94000" y="2246400"/>
            <a:ext cx="111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40120" y="2246400"/>
            <a:ext cx="144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40120" y="2246400"/>
            <a:ext cx="93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59240" y="2246400"/>
            <a:ext cx="144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59240" y="2246400"/>
            <a:ext cx="93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14720" y="2246400"/>
            <a:ext cx="180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14720" y="2246400"/>
            <a:ext cx="111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64160" y="2246400"/>
            <a:ext cx="144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664160" y="2246400"/>
            <a:ext cx="111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03880" y="2246400"/>
            <a:ext cx="144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03880" y="2246400"/>
            <a:ext cx="936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2246400"/>
            <a:ext cx="180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67280" y="2246400"/>
            <a:ext cx="9720" cy="1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0520" y="2619360"/>
            <a:ext cx="2052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9360" y="2639880"/>
            <a:ext cx="205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13240" y="1258920"/>
            <a:ext cx="56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13240" y="1258920"/>
            <a:ext cx="5637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1040" y="1641600"/>
            <a:ext cx="5838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1040" y="2027160"/>
            <a:ext cx="5838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1040" y="2225520"/>
            <a:ext cx="5838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1040" y="2422440"/>
            <a:ext cx="583884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1040" y="2619360"/>
            <a:ext cx="5838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1040" y="3006720"/>
            <a:ext cx="58388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3276720"/>
            <a:ext cx="5694480" cy="4992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89240" y="3997440"/>
            <a:ext cx="3916080" cy="338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89240" y="6708600"/>
            <a:ext cx="391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89240" y="6031080"/>
            <a:ext cx="391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89240" y="5353200"/>
            <a:ext cx="391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89240" y="4675320"/>
            <a:ext cx="391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9240" y="3997440"/>
            <a:ext cx="391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89240" y="3997440"/>
            <a:ext cx="3916080" cy="3389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33600" y="4370400"/>
            <a:ext cx="198360" cy="30160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25720" y="7350120"/>
            <a:ext cx="193680" cy="3636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3160" y="7358040"/>
            <a:ext cx="198360" cy="2844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05280" y="7155000"/>
            <a:ext cx="193680" cy="231480"/>
          </a:xfrm>
          <a:prstGeom prst="rect">
            <a:avLst/>
          </a:prstGeom>
          <a:solidFill>
            <a:srgbClr val="008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92360" y="5835600"/>
            <a:ext cx="196920" cy="155088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83040" y="7342200"/>
            <a:ext cx="195120" cy="4428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71920" y="7365960"/>
            <a:ext cx="196920" cy="20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62600" y="7383600"/>
            <a:ext cx="195120" cy="28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89240" y="3997440"/>
            <a:ext cx="1440" cy="338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347840" y="73864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47840" y="67086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47840" y="60310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47840" y="5353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7840" y="4675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47840" y="3997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89240" y="7386480"/>
            <a:ext cx="391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389240" y="7386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1879560" y="7386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368440" y="7386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859120" y="7386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348000" y="7386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838680" y="7386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325760" y="7386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818240" y="738648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305320" y="73864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21560" y="3425760"/>
            <a:ext cx="348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o total energía por paí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illones de  kilos de petról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78880" y="4129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74680" y="7108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65360" y="7116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13200" y="69134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459600" y="55944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33800" y="7101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24120" y="7124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54400" y="714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48480" y="7310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11320" y="6632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08720" y="5954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08720" y="5276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08720" y="4599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08720" y="3921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8900000">
            <a:off x="1170360" y="763740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E.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8900000">
            <a:off x="1672200" y="763056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8900000">
            <a:off x="2158920" y="7632360"/>
            <a:ext cx="45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8900000">
            <a:off x="2557800" y="7669080"/>
            <a:ext cx="56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8900000">
            <a:off x="3115440" y="764388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8900000">
            <a:off x="3315600" y="7761240"/>
            <a:ext cx="82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8900000">
            <a:off x="4144680" y="762444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8900000">
            <a:off x="4659840" y="7612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6200000">
            <a:off x="300600" y="562788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Kilos de petrol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3276720"/>
            <a:ext cx="5694480" cy="4992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9040" y="8458200"/>
            <a:ext cx="159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ente: FNUAP, 19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370160" y="457200"/>
            <a:ext cx="42832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o Energía Mundo real año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5520" y="838080"/>
            <a:ext cx="5513040" cy="2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o Energía Mundo con patrones de consumo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6840" y="1320840"/>
            <a:ext cx="17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blación Mundial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35960" y="132084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978,4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4480" y="1714680"/>
            <a:ext cx="175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blación Muestra 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7440" y="1911240"/>
            <a:ext cx="21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os de consumo de ener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49920" y="191124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854,1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6120" y="2305080"/>
            <a:ext cx="27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o total de energía equival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3240" y="2502000"/>
            <a:ext cx="124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 datos año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41720" y="2502000"/>
            <a:ext cx="1346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,629,68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6120" y="2895480"/>
            <a:ext cx="253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o total energía equival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84560" y="309240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ando per capita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47760" y="3092400"/>
            <a:ext cx="186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7,131,359 Millones de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0440" y="3486240"/>
            <a:ext cx="276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ción Consumo "mundo tipo US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120" y="36831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38480" y="34290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,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56600" y="8361360"/>
            <a:ext cx="141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ente: FNUAP, 19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2680" y="4079880"/>
            <a:ext cx="5914800" cy="423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55840" y="4743360"/>
            <a:ext cx="4752720" cy="279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455840" y="7257960"/>
            <a:ext cx="475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55840" y="698040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55840" y="669924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55840" y="6421320"/>
            <a:ext cx="475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55840" y="6141960"/>
            <a:ext cx="475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55840" y="586116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55840" y="558324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455840" y="5302080"/>
            <a:ext cx="475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55840" y="502452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55840" y="4743360"/>
            <a:ext cx="475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55840" y="4743360"/>
            <a:ext cx="4752720" cy="27957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168640" y="6999120"/>
            <a:ext cx="952560" cy="54000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6440" y="4903920"/>
            <a:ext cx="949320" cy="263520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55840" y="4743360"/>
            <a:ext cx="1440" cy="279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13000" y="75391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13000" y="7257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413000" y="6980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13000" y="6699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13000" y="64213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13000" y="6141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13000" y="5861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13000" y="5583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413000" y="53020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413000" y="50245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13000" y="47433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55840" y="7539120"/>
            <a:ext cx="475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455840" y="753876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833640" y="753876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208560" y="753876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7360" y="4191120"/>
            <a:ext cx="3804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o real de energía v/s Consu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o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363040" y="6753240"/>
            <a:ext cx="68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29.6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99440" y="4657680"/>
            <a:ext cx="76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.131.3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06800" y="7461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54640" y="718020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8680" y="690228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78680" y="662148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8680" y="634356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8680" y="606276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78680" y="578340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8680" y="550548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78680" y="522432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8680" y="494676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5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8680" y="4665600"/>
            <a:ext cx="62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20760" y="7701120"/>
            <a:ext cx="119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do rea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12880" y="7701120"/>
            <a:ext cx="138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do tipo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-376920" y="6026400"/>
            <a:ext cx="196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illones kilos petróleo equiv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2680" y="4079880"/>
            <a:ext cx="5914800" cy="4164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81252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Verdana"/>
              </a:rPr>
              <a:t>Consumo de energía por lo hu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Consumo endosomático de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 2.000 y 3.000 kilocalorías diarias: determin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Uso exosomátic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 5.000 kcal día a 100.000 kcal día: determinación económica  y cul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052640" y="2987640"/>
            <a:ext cx="5040360" cy="4969080"/>
          </a:xfrm>
          <a:prstGeom prst="ellipse">
            <a:avLst/>
          </a:prstGeom>
          <a:solidFill>
            <a:srgbClr val="ccffcc">
              <a:alpha val="4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6280" y="539280"/>
            <a:ext cx="581508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imes New Roman"/>
              </a:rPr>
              <a:t>Población y Subsistema económico en el ecosistema mun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637000" y="4932360"/>
            <a:ext cx="1871640" cy="1079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blac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b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7360" y="3995640"/>
            <a:ext cx="151128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lanet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9720" y="6443640"/>
            <a:ext cx="122256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umid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la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975800">
            <a:off x="1557000" y="478764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975800">
            <a:off x="3068280" y="615600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9760" y="5003640"/>
            <a:ext cx="136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combust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ós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06480" y="6588000"/>
            <a:ext cx="133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iduo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97360" y="392436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37000" y="550872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996633"/>
                </a:solidFill>
                <a:latin typeface="Wingdings"/>
                <a:ea typeface="Wingdings"/>
              </a:rPr>
              <a:t>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8640" y="313200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5560" y="4140360"/>
            <a:ext cx="8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13360" y="5364000"/>
            <a:ext cx="86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00640" y="6443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98640" y="70642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7520" y="32767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2627280"/>
            <a:ext cx="3024000" cy="6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COSISTEMA MUNDIA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4160" y="8459640"/>
            <a:ext cx="21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Goodland et al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5829120" cy="3525840"/>
          </a:xfrm>
          <a:prstGeom prst="rect">
            <a:avLst/>
          </a:prstGeom>
          <a:noFill/>
          <a:ln w="57240">
            <a:solidFill>
              <a:srgbClr val="00008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9900"/>
                </a:solidFill>
                <a:latin typeface="Times New Roman"/>
              </a:rPr>
              <a:t>Una nueva mirada a las razones de la crisis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MX" sz="2800" spc="-1" strike="noStrike">
                <a:solidFill>
                  <a:srgbClr val="0033cc"/>
                </a:solidFill>
                <a:latin typeface="Times New Roman"/>
              </a:rPr>
              <a:t>Más allá de población, el consumo y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sis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35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tendida como crisis del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r">
              <a:spcBef>
                <a:spcPts val="60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. Le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49360" y="2124000"/>
            <a:ext cx="2555640" cy="367344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792240" y="2986560"/>
            <a:ext cx="226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ae00"/>
                </a:solidFill>
                <a:latin typeface="Arial Narrow"/>
              </a:rPr>
              <a:t>Rene Desc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ae00"/>
                </a:solidFill>
                <a:latin typeface="Arial Narrow"/>
              </a:rPr>
              <a:t>1596 -16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13400" y="608472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igen del método carte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reduccion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81000" y="75564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cusión so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métod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836640" y="530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e00"/>
                </a:solidFill>
                <a:latin typeface="Arial Narrow"/>
              </a:rPr>
              <a:t>ENFOQUE REDU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7000" y="1357920"/>
            <a:ext cx="6264000" cy="7529400"/>
          </a:xfrm>
          <a:prstGeom prst="rect">
            <a:avLst/>
          </a:prstGeom>
          <a:noFill/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ae00"/>
                </a:solidFill>
                <a:latin typeface="Arial Narrow"/>
              </a:rPr>
              <a:t>3a Regla de Método Carte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 Narrow"/>
              </a:rPr>
              <a:t>«</a:t>
            </a:r>
            <a:r>
              <a:rPr b="1" lang="es-ES" sz="2800" spc="-1" strike="noStrike">
                <a:solidFill>
                  <a:srgbClr val="006600"/>
                </a:solidFill>
                <a:latin typeface="Arial Narrow"/>
              </a:rPr>
              <a:t>Dividir cada una de las dificultades que examinara en tantas partes como fuera posible y necesario para resolverlas mejor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ae00"/>
                </a:solidFill>
                <a:latin typeface="Arial Narrow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Narrow"/>
              </a:rPr>
              <a:t>Especialización</a:t>
            </a:r>
            <a:r>
              <a:rPr b="0" lang="es-ES" sz="2800" spc="-1" strike="noStrike">
                <a:solidFill>
                  <a:srgbClr val="00ae00"/>
                </a:solidFill>
                <a:latin typeface="Arial Narrow"/>
              </a:rPr>
              <a:t> /fragmentación en áreas de investigación y las ci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00ae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ae00"/>
                </a:solidFill>
                <a:latin typeface="Arial Narrow"/>
              </a:rPr>
              <a:t>Reduccionismo: que reduce a “partes” la visión “del todo”. </a:t>
            </a:r>
            <a:r>
              <a:rPr b="0" lang="es-ES" sz="2800" spc="-1" strike="noStrike">
                <a:solidFill>
                  <a:srgbClr val="ff0000"/>
                </a:solidFill>
                <a:latin typeface="Arial Narrow"/>
              </a:rPr>
              <a:t>No ve la relación</a:t>
            </a:r>
            <a:r>
              <a:rPr b="0" lang="es-ES" sz="2800" spc="-1" strike="noStrike">
                <a:solidFill>
                  <a:srgbClr val="00ae00"/>
                </a:solidFill>
                <a:latin typeface="Arial Narrow"/>
              </a:rPr>
              <a:t> entre las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Narrow"/>
              </a:rPr>
              <a:t>No permite explicar sistemas</a:t>
            </a:r>
            <a:r>
              <a:rPr b="0" lang="es-ES" sz="2800" spc="-1" strike="noStrike">
                <a:solidFill>
                  <a:srgbClr val="00ae00"/>
                </a:solidFill>
                <a:latin typeface="Arial Narrow"/>
              </a:rPr>
              <a:t> complejos y abiertos como los ecosistemas ya que no da cuenta de las interacciones entre los elementos constituy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444600" y="444600"/>
            <a:ext cx="5792760" cy="66484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413000" y="744984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ae00"/>
                </a:solidFill>
                <a:latin typeface="Arial Narrow"/>
              </a:rPr>
              <a:t>Este es un sistema complejo, abierto y con muchas 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404640" y="124920"/>
            <a:ext cx="57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e00"/>
                </a:solidFill>
                <a:latin typeface="Arial Narrow"/>
              </a:rPr>
              <a:t>ENFOQUE REDUCCIONI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e00"/>
                </a:solidFill>
                <a:latin typeface="Arial Narrow"/>
              </a:rPr>
              <a:t>El Recurso Hí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7000" y="1062000"/>
            <a:ext cx="6264000" cy="1769760"/>
          </a:xfrm>
          <a:prstGeom prst="rect">
            <a:avLst/>
          </a:prstGeom>
          <a:noFill/>
          <a:ln w="93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ae00"/>
                </a:solidFill>
                <a:latin typeface="Arial Narrow"/>
              </a:rPr>
              <a:t>En el caso del </a:t>
            </a:r>
            <a:r>
              <a:rPr b="1" lang="es-ES" sz="2200" spc="-1" strike="noStrike">
                <a:solidFill>
                  <a:srgbClr val="006600"/>
                </a:solidFill>
                <a:latin typeface="Arial Narrow"/>
              </a:rPr>
              <a:t>Recurso Hídrico</a:t>
            </a:r>
            <a:r>
              <a:rPr b="0" lang="es-ES" sz="2200" spc="-1" strike="noStrike">
                <a:solidFill>
                  <a:srgbClr val="00ae00"/>
                </a:solidFill>
                <a:latin typeface="Arial Narrow"/>
              </a:rPr>
              <a:t>, este enfoque no da cuenta del ciclo hídrico, se le percibe separado del ecosistema y se “trata” por ejemplo de modo distinto el agua superficial del agua subterránea”, la calidad de la cantidad. No se hace cargo de las relaciones cosistem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765000" y="2843280"/>
            <a:ext cx="538164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404280" y="1499760"/>
            <a:ext cx="6210360" cy="72486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 Narrow"/>
              </a:rPr>
              <a:t>Agua: recurso escaso, con demanda creciente. Se resuelve: fijando precios,  regulados a través del mer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 Narrow"/>
              </a:rPr>
              <a:t>Para que exista mercado se deben otorgar “derechos de propiedad del recurso”, entendida como condición para el intercambio</a:t>
            </a:r>
            <a:r>
              <a:rPr b="0" lang="es-ES" sz="2400" spc="-1" strike="noStrike">
                <a:solidFill>
                  <a:srgbClr val="0066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 Narrow"/>
              </a:rPr>
              <a:t>La naturaleza se privatiza originando nuevas relaciones – económicas-sociales según necesidades humanas y no propias del eco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" sz="3200" spc="-1" strike="noStrike">
                <a:solidFill>
                  <a:srgbClr val="ff0000"/>
                </a:solidFill>
                <a:latin typeface="Arial Narrow"/>
              </a:rPr>
              <a:t>La naturaleza se desnaturaliza”, perdiendo su complejidad ecosisté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title"/>
          </p:nvPr>
        </p:nvSpPr>
        <p:spPr>
          <a:xfrm>
            <a:off x="134640" y="444600"/>
            <a:ext cx="6723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ae00"/>
                </a:solidFill>
                <a:latin typeface="Arial Narrow"/>
              </a:rPr>
              <a:t>ENFOQUE REDUCCIONISTA:</a:t>
            </a:r>
            <a:br>
              <a:rPr sz="2800"/>
            </a:br>
            <a:r>
              <a:rPr b="1" lang="es-ES" sz="2800" spc="-1" strike="noStrike">
                <a:solidFill>
                  <a:srgbClr val="00ae00"/>
                </a:solidFill>
                <a:latin typeface="Arial Narrow"/>
              </a:rPr>
              <a:t> ECONOMIA NEOLIB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ercado y complejidad ecosisté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33000" y="262692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hegemonía homogeneizante del mercado  como razón última del progreso se enlazó con l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superespecialización de la cienc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y la eficiencia tecnológica. El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raccionamiento del conocimient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n sus aplicaciones prácticas…indujo a la interrupción de la complejidad ecosistémica para la apropiación discreta de los RR NN como materias primas y objeto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. Le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nfoque ecosisté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647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cosistema: Unidad compuesta por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fluj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materia, energía e información existente entre los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component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bióticos y no bióticos: (componentes y fluj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cosistemas y Sere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20560" y="361800"/>
            <a:ext cx="581688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ENCA HIDR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520" y="1974960"/>
            <a:ext cx="5790960" cy="663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gestión de cuenca como expresión de visiones alternativas sobre la interacción entre sistema natural y sistema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aso Chileno: Aplicación de visión redu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aso Francés: Aplicación de visión ecosisté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Limites: Fuentes y Sumid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254640" cy="60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ostenibilidad en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ostenibilidad en los sumid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rcRect l="0" t="22530" r="0" b="17926"/>
          <a:stretch/>
        </p:blipFill>
        <p:spPr>
          <a:xfrm>
            <a:off x="2781360" y="6084720"/>
            <a:ext cx="3573360" cy="2405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07920" y="2771640"/>
            <a:ext cx="22399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168408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Problemas ambientales: desafíos nuevos para la ciencia nor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33000" y="3924000"/>
            <a:ext cx="6172200" cy="48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fectos del cambio cli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secuencias de la producción y consumo de bienes transgé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das para abordar el síndrome de las vacas l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stalación de unidades productivas que provocan 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84280" y="2340000"/>
            <a:ext cx="3816360" cy="11912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alores involuc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Personas implic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racion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59920" y="3203280"/>
            <a:ext cx="6172200" cy="366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 construcción implica la formación de un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nuevo sabe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y la integración interdiciplinaria del conocimiento, para explicar el comportamiento de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sistemas socioambiental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omp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. Le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333000" y="2771280"/>
            <a:ext cx="6172200" cy="330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¿Es suficiente el enfoque ecosistémico para abordar las características de los problemas presentado por la crisis ambienta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iencia post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corporación de la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“cientificos” en dialogo con los “no cientificos”. Incorporación de todos los impli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Dialogo de sa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corporación de aspectos culturales y é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ecesidad de soluciones “acordad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iencia post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acional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 Racionalidad cient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ocimiento ≠ Conocimeineto cienti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existen soluciones, existen formas de aproximarse a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hechos duros y valores blandos, a los valores duros y hechos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 ciencia post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ste enfoque la función de la ciencia continúa siendo fundamental, pero entra dentro de un contexto que tiene en cuenta las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incertidumbr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sistemas naturales y la relevancia de los 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alores human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t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iencia Post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2544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aso típico es cuando "los factores son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ciert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 hay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alores en disput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 los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iesgos son alt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y las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cisiones urgent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84280" y="5724360"/>
            <a:ext cx="4608720" cy="2288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argas de Ce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rmas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ulación de trans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bicación de hidroeléc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isión de gases od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6560" y="384120"/>
            <a:ext cx="5772240" cy="882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DO Y ECONO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619280"/>
            <a:ext cx="5790960" cy="46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RECIMIENTO ECO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3de8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ESARROLLO ECO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SUST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0640" y="684360"/>
            <a:ext cx="5688000" cy="1684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691920" y="2700360"/>
            <a:ext cx="5616360" cy="590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0099"/>
                </a:solidFill>
                <a:latin typeface="Times New Roman"/>
              </a:rPr>
              <a:t>Defini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Lo cuantit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0099"/>
                </a:solidFill>
                <a:latin typeface="Times New Roman"/>
              </a:rPr>
              <a:t>Medi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El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0099"/>
                </a:solidFill>
                <a:latin typeface="Times New Roman"/>
              </a:rPr>
              <a:t>Base para el crecimiento chilen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Minería, bosque y pe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863720"/>
            <a:ext cx="5638680" cy="464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8120" y="3352680"/>
            <a:ext cx="1322280" cy="1243080"/>
          </a:xfrm>
          <a:prstGeom prst="rect">
            <a:avLst/>
          </a:prstGeom>
          <a:solidFill>
            <a:srgbClr val="a2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 bi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du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561400">
            <a:off x="3426120" y="4421880"/>
            <a:ext cx="404640" cy="1314360"/>
          </a:xfrm>
          <a:custGeom>
            <a:avLst/>
            <a:gdLst>
              <a:gd name="textAreaLeft" fmla="*/ 54000 w 404640"/>
              <a:gd name="textAreaRight" fmla="*/ 350640 w 404640"/>
              <a:gd name="textAreaTop" fmla="*/ 243360 h 1314360"/>
              <a:gd name="textAreaBottom" fmla="*/ 93960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7" stAng="-5400000" swAng="5400000"/>
                <a:lnTo>
                  <a:pt x="21600" y="11444"/>
                </a:lnTo>
                <a:arcTo wR="21600" hR="7997" stAng="0" swAng="2779094"/>
                <a:lnTo>
                  <a:pt x="7200" y="21143"/>
                </a:lnTo>
                <a:lnTo>
                  <a:pt x="0" y="17717"/>
                </a:lnTo>
                <a:lnTo>
                  <a:pt x="7200" y="13376"/>
                </a:lnTo>
                <a:lnTo>
                  <a:pt x="7200" y="15536"/>
                </a:lnTo>
                <a:arcTo wR="21600" hR="7997" stAng="2779094" swAng="-2498811"/>
                <a:lnTo>
                  <a:pt x="21092" y="9720"/>
                </a:lnTo>
                <a:arcTo wR="21600" hR="7997" stAng="-280283" swAng="-5119717"/>
                <a:close/>
              </a:path>
              <a:path fill="darkenLess" w="21600" h="21600">
                <a:moveTo>
                  <a:pt x="0" y="0"/>
                </a:moveTo>
                <a:arcTo wR="21600" hR="7997" stAng="-5400000" swAng="5400000"/>
                <a:lnTo>
                  <a:pt x="21600" y="11444"/>
                </a:lnTo>
                <a:arcTo wR="21600" hR="7997" stAng="0" swAng="-280283"/>
                <a:lnTo>
                  <a:pt x="21092" y="9720"/>
                </a:lnTo>
                <a:arcTo wR="21600" hR="7997" stAng="-280283" swAng="-5119717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6248520"/>
            <a:ext cx="3872160" cy="1904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9760" y="2763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60640" y="262584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400" y="228600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b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1080" y="3083040"/>
            <a:ext cx="944640" cy="287280"/>
          </a:xfrm>
          <a:prstGeom prst="rightArrow">
            <a:avLst>
              <a:gd name="adj1" fmla="val 50000"/>
              <a:gd name="adj2" fmla="val 822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17000">
            <a:off x="1087200" y="2364840"/>
            <a:ext cx="1218960" cy="624240"/>
          </a:xfrm>
          <a:prstGeom prst="rightArrow">
            <a:avLst>
              <a:gd name="adj1" fmla="val 50000"/>
              <a:gd name="adj2" fmla="val 488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8320" y="1397160"/>
            <a:ext cx="129780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1280" y="7189920"/>
            <a:ext cx="310536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istema global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144200">
            <a:off x="4590720" y="6457680"/>
            <a:ext cx="1152720" cy="42876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429000"/>
            <a:ext cx="1066680" cy="477720"/>
          </a:xfrm>
          <a:prstGeom prst="rightArrow">
            <a:avLst>
              <a:gd name="adj1" fmla="val 50000"/>
              <a:gd name="adj2" fmla="val 5582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114800"/>
            <a:ext cx="1226880" cy="382680"/>
          </a:xfrm>
          <a:prstGeom prst="rightArrow">
            <a:avLst>
              <a:gd name="adj1" fmla="val 50000"/>
              <a:gd name="adj2" fmla="val 8015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505320"/>
            <a:ext cx="1227240" cy="458640"/>
          </a:xfrm>
          <a:prstGeom prst="rightArrow">
            <a:avLst>
              <a:gd name="adj1" fmla="val 50000"/>
              <a:gd name="adj2" fmla="val 6689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114800"/>
            <a:ext cx="1227240" cy="382680"/>
          </a:xfrm>
          <a:prstGeom prst="rightArrow">
            <a:avLst>
              <a:gd name="adj1" fmla="val 50000"/>
              <a:gd name="adj2" fmla="val 8017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idu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429000"/>
            <a:ext cx="471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8320" y="3276720"/>
            <a:ext cx="31788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7350120"/>
            <a:ext cx="319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3280" y="543564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icl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57200"/>
            <a:ext cx="3276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do“Vací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44240" y="387360"/>
            <a:ext cx="5816520" cy="11304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ECONOMIA Y DES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3276720"/>
            <a:ext cx="514368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9960" y="4438800"/>
            <a:ext cx="2171880" cy="1790640"/>
          </a:xfrm>
          <a:prstGeom prst="rect">
            <a:avLst/>
          </a:prstGeom>
          <a:solidFill>
            <a:srgbClr val="ccffcc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LIB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ROEC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7760" y="2978280"/>
            <a:ext cx="2425680" cy="120636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QUILIB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7760" y="6330960"/>
            <a:ext cx="2425680" cy="135900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QUILIB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BI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TRIMONI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21080" y="3968640"/>
            <a:ext cx="901440" cy="520920"/>
          </a:xfrm>
          <a:prstGeom prst="rightArrow">
            <a:avLst>
              <a:gd name="adj1" fmla="val 50000"/>
              <a:gd name="adj2" fmla="val 8620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444760" y="6178680"/>
            <a:ext cx="901800" cy="520560"/>
          </a:xfrm>
          <a:prstGeom prst="rightArrow">
            <a:avLst>
              <a:gd name="adj1" fmla="val 50000"/>
              <a:gd name="adj2" fmla="val 9539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6880" y="4654440"/>
            <a:ext cx="3492360" cy="1206720"/>
          </a:xfrm>
          <a:prstGeom prst="parallelogram">
            <a:avLst>
              <a:gd name="adj" fmla="val 4408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96840" y="1835280"/>
            <a:ext cx="1663920" cy="250164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457200" y="7620120"/>
            <a:ext cx="5867280" cy="685800"/>
          </a:xfrm>
          <a:prstGeom prst="rect">
            <a:avLst/>
          </a:prstGeom>
          <a:solidFill>
            <a:srgbClr val="618ff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2438280"/>
            <a:ext cx="5790960" cy="3657600"/>
          </a:xfrm>
          <a:prstGeom prst="rect">
            <a:avLst/>
          </a:prstGeom>
          <a:solidFill>
            <a:srgbClr val="618ff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10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 promedio del hogar por decil</a:t>
            </a:r>
            <a:br>
              <a:rPr sz="2800"/>
            </a:b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$ Nov.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581004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ci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3.984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15.2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4.86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28.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3.66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38.3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42.76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49.1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3.40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61.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6.856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76.9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5.96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98.3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115.468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132.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173.68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202.6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493.51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579.7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110.63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128.2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19051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1080" y="1981080"/>
            <a:ext cx="0" cy="632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2120" y="7620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8077320"/>
            <a:ext cx="53352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752480" y="8458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edio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0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14080" y="533520"/>
            <a:ext cx="581004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Verdana"/>
              </a:rPr>
              <a:t>Desequilibrios</a:t>
            </a:r>
            <a:br>
              <a:rPr sz="4000"/>
            </a:br>
            <a:r>
              <a:rPr b="1" lang="en-US" sz="4000" spc="-1" strike="noStrike">
                <a:solidFill>
                  <a:srgbClr val="fc0128"/>
                </a:solidFill>
                <a:latin typeface="Verdana"/>
              </a:rPr>
              <a:t>Ambientales y efectos patrimoni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El concepto de descapitalización aplicado al stock de recursos natur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Crecimiento con perdida patrimonial (¿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TRIMONIO AMBIENT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PLICADO AL CASO DEL A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xisten cuerpos de agua que por su extraordinaria calidad, forman parte del patrimonio ambiental de la República y que es necesario proteger para salvaguardar los recursos naturales y sus usos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do de la Fundamentación del Anteproyecto de norma de calidad para la protección de las aguas continentales superficiales. Marzo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6560" y="384120"/>
            <a:ext cx="5772240" cy="882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ECO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5790960" cy="704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TRANSFORMACION DE LA SOCIEDAD QUE SE CARACTERIZA POR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ANSION DE LA CAPACIDAD PRODUCTIVA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UMENTO DE LOS PROMEDI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DUCTIVIDAD POR TRABAJADOR Y DE INGRES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PERSONA, L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B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ESTRUCTURA DE CLAS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GRUPOS Y EN LA ORGANIZACION SOCI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LAS TRANSFORMACIONES CULTURALES Y DE VALORE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A EVOLUCION DE LAS ESTRUCTURAS POLITICAS Y DE PODER, TODO LO CUAL PERMI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VAR LOS NIVELES MEDIOS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. Sun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5829480" cy="815328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Crecimiento vs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mento cuantitativo v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cimiento co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cimiento si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arrollo sin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Capacidad de Regeneración y asimilación como Capital Natur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 Crecimiento que sobrepasa ambas capacidades implica, crecimiento no Sustentable, antiec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Desarrollo Sustentable: más allá del cuidado por 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5829480" cy="1295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DESARROLLO SUSTENTABLE</a:t>
            </a:r>
            <a:br>
              <a:rPr sz="3000"/>
            </a:b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5829480" cy="63248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1972: Conferencia de las Naciones Unidas sobre el Medio Ambiente Humano. Nacimiento del PN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1972: Publicación de “Los Limites del Crecimiento” , del MIT, por encargo del Club de R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1987: Publicación de “Nuestro Futuro Común”, Comisión Bruntland, por encargo de las Naciones U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1992: Agenda XXI y Declaración de Rio, Cumbre de la Tierra, Nacione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1997, Protocolo de Kioto, Convenio Marco sobre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2002: Río + 10: JOHANNESBU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450720"/>
            <a:ext cx="5790960" cy="74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ARROLLO SUSTEN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66360" y="1422000"/>
            <a:ext cx="5829480" cy="596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Informe Brundtland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(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Aquel que satisface las necesidades de las generaciones presentes sin comprometer las posibilidades de las generaciones futuras para satisfacer sus propias neces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7958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22440" y="3137040"/>
            <a:ext cx="3251160" cy="3327120"/>
          </a:xfrm>
          <a:prstGeom prst="ellipse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65440" y="4356000"/>
            <a:ext cx="3174840" cy="3479760"/>
          </a:xfrm>
          <a:prstGeom prst="ellipse">
            <a:avLst/>
          </a:prstGeom>
          <a:noFill/>
          <a:ln w="7632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2120" y="3213000"/>
            <a:ext cx="3479760" cy="3327480"/>
          </a:xfrm>
          <a:prstGeom prst="ellipse">
            <a:avLst/>
          </a:prstGeom>
          <a:noFill/>
          <a:ln w="7632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1080" y="4273560"/>
            <a:ext cx="1587240" cy="1587600"/>
          </a:xfrm>
          <a:custGeom>
            <a:avLst/>
            <a:gdLst>
              <a:gd name="textAreaLeft" fmla="*/ 362160 w 1587240"/>
              <a:gd name="textAreaRight" fmla="*/ 1225080 w 1587240"/>
              <a:gd name="textAreaTop" fmla="*/ 362160 h 1587600"/>
              <a:gd name="textAreaBottom" fmla="*/ 1225440 h 158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755640"/>
            <a:ext cx="5790960" cy="148608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DESARROLL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05120" y="4626000"/>
            <a:ext cx="110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82680" y="3338640"/>
            <a:ext cx="183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sp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48480" y="349092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sp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55000" y="6386400"/>
            <a:ext cx="1856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37c03"/>
                </a:solidFill>
                <a:latin typeface="Arial"/>
              </a:rPr>
              <a:t>Asp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37c03"/>
                </a:solidFill>
                <a:latin typeface="Arial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30280" y="4138560"/>
            <a:ext cx="106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27800" y="4367160"/>
            <a:ext cx="145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dad cul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77480" y="7186680"/>
            <a:ext cx="117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idad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sist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867280" cy="483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68400" y="2895480"/>
            <a:ext cx="3275280" cy="2784600"/>
          </a:xfrm>
          <a:prstGeom prst="rect">
            <a:avLst/>
          </a:prstGeom>
          <a:solidFill>
            <a:srgbClr val="a2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561400">
            <a:off x="3215880" y="4367160"/>
            <a:ext cx="444600" cy="1600200"/>
          </a:xfrm>
          <a:custGeom>
            <a:avLst/>
            <a:gdLst>
              <a:gd name="textAreaLeft" fmla="*/ 59400 w 444600"/>
              <a:gd name="textAreaRight" fmla="*/ 385200 w 444600"/>
              <a:gd name="textAreaTop" fmla="*/ 295920 h 1600200"/>
              <a:gd name="textAreaBottom" fmla="*/ 11440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7" stAng="-5400000" swAng="5400000"/>
                <a:lnTo>
                  <a:pt x="21600" y="11444"/>
                </a:lnTo>
                <a:arcTo wR="21600" hR="7997" stAng="0" swAng="2779094"/>
                <a:lnTo>
                  <a:pt x="7200" y="21143"/>
                </a:lnTo>
                <a:lnTo>
                  <a:pt x="0" y="17717"/>
                </a:lnTo>
                <a:lnTo>
                  <a:pt x="7200" y="13376"/>
                </a:lnTo>
                <a:lnTo>
                  <a:pt x="7200" y="15536"/>
                </a:lnTo>
                <a:arcTo wR="21600" hR="7997" stAng="2779094" swAng="-2498811"/>
                <a:lnTo>
                  <a:pt x="21092" y="9720"/>
                </a:lnTo>
                <a:arcTo wR="21600" hR="7997" stAng="-280283" swAng="-5119717"/>
                <a:close/>
              </a:path>
              <a:path fill="darkenLess" w="21600" h="21600">
                <a:moveTo>
                  <a:pt x="0" y="0"/>
                </a:moveTo>
                <a:arcTo wR="21600" hR="7997" stAng="-5400000" swAng="5400000"/>
                <a:lnTo>
                  <a:pt x="21600" y="11444"/>
                </a:lnTo>
                <a:arcTo wR="21600" hR="7997" stAng="0" swAng="-280283"/>
                <a:lnTo>
                  <a:pt x="21092" y="9720"/>
                </a:lnTo>
                <a:arcTo wR="21600" hR="7997" stAng="-280283" swAng="-5119717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5720" y="6629400"/>
            <a:ext cx="3457800" cy="198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87720" y="-1461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4120" y="243828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07280" y="220968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b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38720" y="2971800"/>
            <a:ext cx="909720" cy="298440"/>
          </a:xfrm>
          <a:prstGeom prst="rightArrow">
            <a:avLst>
              <a:gd name="adj1" fmla="val 50000"/>
              <a:gd name="adj2" fmla="val 762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760" y="3429000"/>
            <a:ext cx="1046160" cy="498600"/>
          </a:xfrm>
          <a:prstGeom prst="rightArrow">
            <a:avLst>
              <a:gd name="adj1" fmla="val 50000"/>
              <a:gd name="adj2" fmla="val 524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76440" y="4648320"/>
            <a:ext cx="1136520" cy="457200"/>
          </a:xfrm>
          <a:prstGeom prst="rightArrow">
            <a:avLst>
              <a:gd name="adj1" fmla="val 50000"/>
              <a:gd name="adj2" fmla="val 6214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43320" y="3505320"/>
            <a:ext cx="1046160" cy="457200"/>
          </a:xfrm>
          <a:prstGeom prst="rightArrow">
            <a:avLst>
              <a:gd name="adj1" fmla="val 50000"/>
              <a:gd name="adj2" fmla="val 5720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19640" y="47242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ID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48040" y="3733920"/>
            <a:ext cx="124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 bie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duci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7000">
            <a:off x="966960" y="2666880"/>
            <a:ext cx="1488960" cy="509760"/>
          </a:xfrm>
          <a:prstGeom prst="rightArrow">
            <a:avLst>
              <a:gd name="adj1" fmla="val 50000"/>
              <a:gd name="adj2" fmla="val 730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16920" y="541008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 recic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4600" y="7875720"/>
            <a:ext cx="310536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istema global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5787800">
            <a:off x="1281240" y="6962760"/>
            <a:ext cx="1746000" cy="752400"/>
          </a:xfrm>
          <a:custGeom>
            <a:avLst/>
            <a:gdLst>
              <a:gd name="textAreaLeft" fmla="*/ 305280 w 1746000"/>
              <a:gd name="textAreaRight" fmla="*/ 1265760 w 1746000"/>
              <a:gd name="textAreaTop" fmla="*/ 100800 h 752400"/>
              <a:gd name="textAreaBottom" fmla="*/ 651600 h 752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2520" y="3554280"/>
            <a:ext cx="360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97360" y="3859200"/>
            <a:ext cx="30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61280" y="609480"/>
            <a:ext cx="257328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do l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240" y="1600200"/>
            <a:ext cx="12978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450720"/>
            <a:ext cx="5790960" cy="74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ARROLLO SUSTEN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66360" y="1422360"/>
            <a:ext cx="5829480" cy="741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adicar la extrema pobreza, elevar la calidad de vida de las presentes generaciones sin amenazar el bienestar de las veni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FUNDAMENTOS Y LINEAMIENTOS GENER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blemas son glob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blemas están interrelacionados (Economía, Sociedad y Medio Ambi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 humano es el objeto d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 Económico no garantiza el del h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 humano es incompleto sin Democr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sponsabilidad primaria del Des Sust. reside en cada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olidaridad y cooperación internacional son indispens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obstáculo al Des. Sust. no radica en la escasez de recursos: comportamiento de países y sistema inter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20560" y="361800"/>
            <a:ext cx="581688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974600"/>
            <a:ext cx="5790960" cy="631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cesidad de visión ecosistémica (holistica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Relación entre    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Incorporación” de la “variable” ambiental (¿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secuencias del modelo reduccion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Dividir para 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20560" y="361440"/>
            <a:ext cx="5816880" cy="23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ía Ecológic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 Desarroll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usten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5790960" cy="50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Economía ecológica como ciencia de la sustentabilida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sión transdi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Supone nuevos enfoques para la economía y para la ecologí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20560" y="361800"/>
            <a:ext cx="5816880" cy="123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PROBLEMAS AMBIENTALES GLOB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33520" y="1974600"/>
            <a:ext cx="5790960" cy="631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MBIO CLIMAT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TRUCCION DE LA CAPA DE OZ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DIDA DE LA BIODIVERS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AMINACION DE OCEA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CASEZ Y MAL USO DEL AGUA DUL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DIDA Y DEGRADACIÓN DE LOS SUELOS AGRICOL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ERTIFICA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LTA DE VIVIENDAS Y SANEAMIENTO BAS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57240">
            <a:solidFill>
              <a:srgbClr val="114ffb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37c03"/>
                </a:solidFill>
                <a:latin typeface="Arial"/>
              </a:rPr>
              <a:t>Economía y Medio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5829480" cy="5486400"/>
          </a:xfrm>
          <a:prstGeom prst="rect">
            <a:avLst/>
          </a:prstGeom>
          <a:noFill/>
          <a:ln w="38160">
            <a:solidFill>
              <a:srgbClr val="037c0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7c0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37c03"/>
                </a:solidFill>
                <a:latin typeface="Arial"/>
              </a:rPr>
              <a:t>“ </a:t>
            </a:r>
            <a:r>
              <a:rPr b="1" lang="en-US" sz="3200" spc="-1" strike="noStrike">
                <a:solidFill>
                  <a:srgbClr val="037c03"/>
                </a:solidFill>
                <a:latin typeface="Arial"/>
              </a:rPr>
              <a:t>Funciones” del Medio Ambiente en la economí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unción de Producción (proveedor de RN), Bienes Naturales, Receptor de residuos, proveedor de medios para sostener  toda clase de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l concepto de servicios (funciones)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5867640" cy="12193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Funciones  Ambi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73408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MX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C</a:t>
            </a:r>
            <a:r>
              <a:rPr b="1" lang="es-ES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pacidad de procesos naturales y componentes de proporcionar </a:t>
            </a:r>
            <a:r>
              <a:rPr b="1" lang="es-MX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bienes</a:t>
            </a:r>
            <a:r>
              <a:rPr b="1" lang="es-ES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y servicios que satisfacen las necesidades humanas, directamente o indirec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s-MX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(De Groot, </a:t>
            </a:r>
            <a:r>
              <a:rPr b="1" lang="es-MX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-380880" y="2625840"/>
            <a:ext cx="7238880" cy="44337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3511080" y="77709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Groot et al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8600" y="533520"/>
            <a:ext cx="48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Visión integrada de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fun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y criteros de valo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44620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Vida en la</a:t>
            </a:r>
            <a:br>
              <a:rPr sz="4400"/>
            </a:b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 tierra y </a:t>
            </a:r>
            <a:br>
              <a:rPr sz="4400"/>
            </a:b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presencia</a:t>
            </a:r>
            <a:br>
              <a:rPr sz="4400"/>
            </a:b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hu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4800600" cy="655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Verdana"/>
                <a:ea typeface="Times New Roman"/>
              </a:rPr>
              <a:t>Si toda la historia de la Tierra la comprimiésemos en una hora, a los 20 minutos aparecerían las bacterias, a los 55 los dinosaurios, los antropoides aparecen a 40 segundos antes del final, y los humanos al cumplirse la hor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Valoración del medio ambiente: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Posturas é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14440" y="2844360"/>
            <a:ext cx="5829120" cy="56898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Arial"/>
              </a:rPr>
              <a:t>Antropocentr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Arial"/>
              </a:rPr>
              <a:t>Biocentr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Arial"/>
              </a:rPr>
              <a:t>Ecocentr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Arial"/>
              </a:rPr>
              <a:t>Socio-eco-é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Verdana"/>
              </a:rPr>
              <a:t>Servicios ambientales del bosq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Ley Forestal Costa R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582948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Mitigación de emisiones de gases de efecto invernade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2</a:t>
            </a: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Protección del agua para uso urbano, rural e hidro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3</a:t>
            </a: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500" spc="-1" strike="noStrike">
                <a:solidFill>
                  <a:srgbClr val="000099"/>
                </a:solidFill>
                <a:latin typeface="Verdana"/>
              </a:rPr>
              <a:t>Protección de biodiversidad para conservarla y uso sostenible científico y farmaceutico, investigación y mejoramiento genét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4</a:t>
            </a: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Verdana"/>
              </a:rPr>
              <a:t>Protección de ecosistemas, formas de vida y belleza escénica natural, para fines turísticos y científ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21896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AS “PRUEBAS” DEL CAMBIO DE SIT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886360" cy="69339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A APROPIACION DE LA BIOMASA POR LOS SERE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 DE LA PRODUCCION PRIMARIA DE LA FOTO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ALENTAMIENTO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EBILITAMIENTO DE LA CAPA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EGRADACION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ISMINUCION DE LA BIODIVER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49000" y="394920"/>
            <a:ext cx="583236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Verdana"/>
              </a:rPr>
              <a:t>Valor de los servicios ecosistemicos y del capital natural</a:t>
            </a:r>
            <a:br>
              <a:rPr sz="3600"/>
            </a:b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(Costanza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3492360"/>
            <a:ext cx="5919840" cy="4824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Verdana"/>
              </a:rPr>
              <a:t>Valor promedio de los servicios: US$ 33 trillones/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Verdana"/>
              </a:rPr>
              <a:t>Rango: 16 – 54 tr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Verdana"/>
              </a:rPr>
              <a:t>Total “PIB” mundial: US$ 18 trillon/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Verdana"/>
              </a:rPr>
              <a:t>18.000.00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per revista Nature/Vol 387/May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conomía y Materi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hecho físico central del proceso económico es la reorganización de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materia no puede destruirse (ni crearse) en el sistema económico, tan solo púede transformarse o disip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proceso de transformación genera residuos. Sólo parte de los residuos pueden reciclarse económ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la medida que la capacidad de la naturaleza de asimilar residios es sobrepasada, los residuos se acumu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conomía y Materi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nergía se degrada en estas transformaciones =&gt; La capacidad de reorganizar la materia se desgasta de manera irrevo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flujos de energía impulsan también los sistema básicos: Físicos, químicos y biológicos, que sirven de sosten a la vida: aire, agua,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pacidad de estos sistemas es la que limita la escala de las actividades humanas.   O sea, el crecimiento económico global de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conomía y Materi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economía y ecología se relacionan a través de intercambio de energía, materia e inform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degradación ambiental (externalidades) es un fenómeno interno al proceso económ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85144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ubsistema económico y ecosistem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14440" y="3348000"/>
            <a:ext cx="5829120" cy="4780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MX" sz="3600" spc="-1" strike="noStrike">
                <a:solidFill>
                  <a:srgbClr val="fc0128"/>
                </a:solidFill>
                <a:latin typeface="Arial"/>
              </a:rPr>
              <a:t>subsistema económic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tiene que funcionar sobre la base de la sostenibilidad global, no puede crecer indefinidamente a costa del </a:t>
            </a:r>
            <a:r>
              <a:rPr b="0" lang="es-MX" sz="3600" spc="-1" strike="noStrike">
                <a:solidFill>
                  <a:srgbClr val="fc0128"/>
                </a:solidFill>
                <a:latin typeface="Arial"/>
              </a:rPr>
              <a:t>ecosistema terrest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3048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1676520"/>
            <a:ext cx="5410080" cy="43434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1" name=""/>
          <p:cNvCxnSpPr/>
          <p:nvPr/>
        </p:nvCxnSpPr>
        <p:spPr>
          <a:xfrm>
            <a:off x="4266720" y="1676520"/>
            <a:ext cx="1080" cy="4420080"/>
          </a:xfrm>
          <a:prstGeom prst="straightConnector1">
            <a:avLst/>
          </a:prstGeom>
          <a:ln w="9360">
            <a:solidFill>
              <a:srgbClr val="663300"/>
            </a:solidFill>
            <a:miter/>
          </a:ln>
        </p:spPr>
      </p:cxnSp>
      <p:cxnSp>
        <p:nvCxnSpPr>
          <p:cNvPr id="882" name=""/>
          <p:cNvCxnSpPr/>
          <p:nvPr/>
        </p:nvCxnSpPr>
        <p:spPr>
          <a:xfrm>
            <a:off x="2514240" y="1676520"/>
            <a:ext cx="1080" cy="4420080"/>
          </a:xfrm>
          <a:prstGeom prst="straightConnector1">
            <a:avLst/>
          </a:prstGeom>
          <a:ln w="9360">
            <a:solidFill>
              <a:srgbClr val="663300"/>
            </a:solidFill>
            <a:miter/>
          </a:ln>
        </p:spPr>
      </p:cxnSp>
      <p:cxnSp>
        <p:nvCxnSpPr>
          <p:cNvPr id="883" name=""/>
          <p:cNvCxnSpPr/>
          <p:nvPr/>
        </p:nvCxnSpPr>
        <p:spPr>
          <a:xfrm>
            <a:off x="685800" y="320004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cxnSp>
        <p:nvCxnSpPr>
          <p:cNvPr id="884" name=""/>
          <p:cNvCxnSpPr/>
          <p:nvPr/>
        </p:nvCxnSpPr>
        <p:spPr>
          <a:xfrm>
            <a:off x="685800" y="472392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sp>
        <p:nvSpPr>
          <p:cNvPr id="885" name=""/>
          <p:cNvSpPr/>
          <p:nvPr/>
        </p:nvSpPr>
        <p:spPr>
          <a:xfrm>
            <a:off x="685800" y="1752480"/>
            <a:ext cx="1828800" cy="14479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666880" y="210492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38080" y="355284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2480" y="5076720"/>
            <a:ext cx="16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CTOR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344120" y="2133720"/>
            <a:ext cx="16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CTOR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3560" y="2630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43720" y="20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728800" y="356868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e00"/>
                </a:solidFill>
                <a:latin typeface="Arial"/>
              </a:rPr>
              <a:t>Econom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e00"/>
                </a:solidFill>
                <a:latin typeface="Arial"/>
              </a:rPr>
              <a:t>Tradi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345560" y="3505320"/>
            <a:ext cx="14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e00"/>
                </a:solidFill>
                <a:latin typeface="Arial"/>
              </a:rPr>
              <a:t>Econom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e00"/>
                </a:solidFill>
                <a:latin typeface="Arial"/>
              </a:rPr>
              <a:t>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517120" y="4800600"/>
            <a:ext cx="182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Economía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Recu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"/>
              </a:rPr>
              <a:t>Natu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97120" y="5105520"/>
            <a:ext cx="126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Ec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7086600"/>
            <a:ext cx="5181480" cy="380880"/>
          </a:xfrm>
          <a:prstGeom prst="leftRightArrow">
            <a:avLst>
              <a:gd name="adj1" fmla="val 50000"/>
              <a:gd name="adj2" fmla="val 27082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172200" y="1371600"/>
            <a:ext cx="380880" cy="5410080"/>
          </a:xfrm>
          <a:prstGeom prst="upDownArrow">
            <a:avLst>
              <a:gd name="adj1" fmla="val 50000"/>
              <a:gd name="adj2" fmla="val 28276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25800" y="63244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CONOMIA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10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A ECO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5829480" cy="668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conomía Ecológica adopta un enfoque holístico, interdiciplinario, ecológico y amplio para estudiar y gestionar nuestro mundo. Esto supone reconocer que la economia ha de ser conciente de los impactos y dependencias ecológicas; se necesita una ecología más sensible a las fuerzas económicas y a los incentivos e imperativos conómicos…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obert Cost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5791320" cy="1523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ustentabilidad y 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762120" y="4495680"/>
            <a:ext cx="5410080" cy="19051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33cc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Qué debemos legar a las generaciones venide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0280" y="610920"/>
            <a:ext cx="5829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Sustentabilidad y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765000" y="2050560"/>
            <a:ext cx="5064480" cy="172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stentabilidad: Igualdad de oportunidades  para futuras gen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5000" y="4643280"/>
            <a:ext cx="5064480" cy="136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egar un stock de capital igual o superior al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6640" y="7093080"/>
            <a:ext cx="5064120" cy="129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usión sobre el concepto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68640" y="3995640"/>
            <a:ext cx="50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7360" y="6227640"/>
            <a:ext cx="50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0280" y="1331640"/>
            <a:ext cx="5829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Que es el Capita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764640" y="2987280"/>
            <a:ext cx="5472360" cy="3527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ción económica clá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apital Arti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os RR 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apital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eñales de límites sobrepas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versiones en servicios que antes prestaba la naturaleza: TAS, TRiles, Nutrient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versiones para obtener RRNN cada ves + escasos, profundos o dilu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eciente Dda. de K o fuerza militar para asegurar recursos en zonas remotas y/o hos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eciente caos en sistemas naturales (catástrof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5829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El Capit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en la Econ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5064120" cy="172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tock de recursos económicos, con capacidad de generar nuevos recursos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990720" y="6858000"/>
            <a:ext cx="506412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Artificial (Produci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6720" y="4038480"/>
            <a:ext cx="50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90720" y="4648320"/>
            <a:ext cx="5105160" cy="1676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lang="es-MX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1" lang="es-MX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K = Interés, Utilidad, Rent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533160" y="5409720"/>
            <a:ext cx="5638680" cy="205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. Natural Reno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. Natural no Reno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. Natural Culti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36640" y="971640"/>
            <a:ext cx="5064120" cy="93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apital Natural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00400" y="1905120"/>
            <a:ext cx="50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38080" y="2362320"/>
            <a:ext cx="5064120" cy="2133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tock de recursos naturales que producen un flujo de bienes y servicios para el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6248160"/>
            <a:ext cx="5943600" cy="2514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enta Natural”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Serv ambien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ntención biodiver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tección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.....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6640" y="971640"/>
            <a:ext cx="5106960" cy="1466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apital Natural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tock y r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5791320"/>
            <a:ext cx="50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124080"/>
            <a:ext cx="5064120" cy="2590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apital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133720" y="4114800"/>
            <a:ext cx="1447560" cy="19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114800"/>
            <a:ext cx="1447920" cy="19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3048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1676520"/>
            <a:ext cx="5410080" cy="56386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8" name=""/>
          <p:cNvCxnSpPr/>
          <p:nvPr/>
        </p:nvCxnSpPr>
        <p:spPr>
          <a:xfrm>
            <a:off x="3580920" y="1676520"/>
            <a:ext cx="1080" cy="4420080"/>
          </a:xfrm>
          <a:prstGeom prst="straightConnector1">
            <a:avLst/>
          </a:prstGeom>
          <a:ln w="9360">
            <a:solidFill>
              <a:srgbClr val="663300"/>
            </a:solidFill>
            <a:miter/>
          </a:ln>
        </p:spPr>
      </p:cxnSp>
      <p:cxnSp>
        <p:nvCxnSpPr>
          <p:cNvPr id="929" name=""/>
          <p:cNvCxnSpPr/>
          <p:nvPr/>
        </p:nvCxnSpPr>
        <p:spPr>
          <a:xfrm>
            <a:off x="2133360" y="1676520"/>
            <a:ext cx="1080" cy="4420080"/>
          </a:xfrm>
          <a:prstGeom prst="straightConnector1">
            <a:avLst/>
          </a:prstGeom>
          <a:ln w="9360">
            <a:solidFill>
              <a:srgbClr val="663300"/>
            </a:solidFill>
            <a:miter/>
          </a:ln>
        </p:spPr>
      </p:cxnSp>
      <p:cxnSp>
        <p:nvCxnSpPr>
          <p:cNvPr id="930" name=""/>
          <p:cNvCxnSpPr/>
          <p:nvPr/>
        </p:nvCxnSpPr>
        <p:spPr>
          <a:xfrm>
            <a:off x="685800" y="320004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cxnSp>
        <p:nvCxnSpPr>
          <p:cNvPr id="931" name=""/>
          <p:cNvCxnSpPr/>
          <p:nvPr/>
        </p:nvCxnSpPr>
        <p:spPr>
          <a:xfrm>
            <a:off x="685800" y="411444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cxnSp>
        <p:nvCxnSpPr>
          <p:cNvPr id="932" name=""/>
          <p:cNvCxnSpPr/>
          <p:nvPr/>
        </p:nvCxnSpPr>
        <p:spPr>
          <a:xfrm>
            <a:off x="4876560" y="1676520"/>
            <a:ext cx="1080" cy="4420080"/>
          </a:xfrm>
          <a:prstGeom prst="straightConnector1">
            <a:avLst/>
          </a:prstGeom>
          <a:ln w="9360">
            <a:solidFill>
              <a:srgbClr val="6633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762840" y="3200400"/>
            <a:ext cx="144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reno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63200" y="411480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o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/>
          <p:nvPr/>
        </p:nvCxnSpPr>
        <p:spPr>
          <a:xfrm>
            <a:off x="685800" y="510516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763560" y="5105520"/>
            <a:ext cx="10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l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7" name=""/>
          <p:cNvCxnSpPr/>
          <p:nvPr/>
        </p:nvCxnSpPr>
        <p:spPr>
          <a:xfrm>
            <a:off x="685800" y="6095520"/>
            <a:ext cx="5410800" cy="1080"/>
          </a:xfrm>
          <a:prstGeom prst="straightConnector1">
            <a:avLst/>
          </a:prstGeom>
          <a:ln w="19080">
            <a:solidFill>
              <a:srgbClr val="663300"/>
            </a:solidFill>
            <a:miter/>
          </a:ln>
        </p:spPr>
      </p:cxnSp>
      <p:sp>
        <p:nvSpPr>
          <p:cNvPr id="938" name=""/>
          <p:cNvSpPr/>
          <p:nvPr/>
        </p:nvSpPr>
        <p:spPr>
          <a:xfrm>
            <a:off x="838440" y="617220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133720" y="60955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876920" y="60955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581280" y="6019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5880" y="2233440"/>
            <a:ext cx="13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ERCI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Z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05320" y="1981080"/>
            <a:ext cx="14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ERCI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Z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1981080"/>
            <a:ext cx="117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4440" y="33526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us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8320" y="4419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e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327672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xti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7080" y="434340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s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51055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p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ltivo de pe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10760" y="6400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qu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803120" y="4343400"/>
            <a:ext cx="128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diver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01320" y="320040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16600" y="5319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d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16240" y="623412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4800" y="52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6468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3868800">
            <a:off x="4117680" y="512100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5880" y="4267080"/>
            <a:ext cx="228600" cy="1371600"/>
          </a:xfrm>
          <a:custGeom>
            <a:avLst/>
            <a:gdLst>
              <a:gd name="textAreaLeft" fmla="*/ 30600 w 228600"/>
              <a:gd name="textAreaRight" fmla="*/ 198000 w 22860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1044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295280" y="7693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44480" y="758196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Diferente suministro de servicios 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ión de diferente “calidad”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684360"/>
            <a:ext cx="3962160" cy="459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Natural y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2133720" y="5867280"/>
            <a:ext cx="3744720" cy="24386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0280" y="1331640"/>
            <a:ext cx="5829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Capital Globa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91920" y="2410920"/>
            <a:ext cx="5251320" cy="2465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Producid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$ 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Natural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$ 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 Global (Total)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$ 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pital 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0280" y="1331640"/>
            <a:ext cx="5829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apital y Sustentabilida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20640" y="1979280"/>
            <a:ext cx="5400720" cy="331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¿Que capital debe legarse a las futuras gen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apital Glob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apital Natur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99720" y="5724360"/>
            <a:ext cx="4731120" cy="289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stitubilidad y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lementaridad de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ferentes formas de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Sustentabilidad dé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Arial"/>
              </a:rPr>
              <a:t>Sustentabilidad fuert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141720" y="702000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9396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ITAL NATURAL y SUSTENTABILIDAD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829480" cy="723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SUSTENTABILIDAD DEBI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l Capital humano (Artificial) puede sustituir al Capital Natural. Lo importante es mantener el Stock de Capital (artificial y natural) constante o c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ecesidad de cuantificar </a:t>
            </a:r>
            <a:r>
              <a:rPr b="0" lang="en-US" sz="2800" spc="-1" strike="noStrike">
                <a:solidFill>
                  <a:srgbClr val="0033cc"/>
                </a:solidFill>
                <a:latin typeface="Wingdings 3"/>
                <a:ea typeface="Wingdings 3"/>
              </a:rPr>
              <a:t>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Valorizar la Naturaleza </a:t>
            </a:r>
            <a:r>
              <a:rPr b="0" lang="en-US" sz="2800" spc="-1" strike="noStrike">
                <a:solidFill>
                  <a:srgbClr val="0033cc"/>
                </a:solidFill>
                <a:latin typeface="Wingdings 3"/>
                <a:ea typeface="Wingdings 3"/>
              </a:rPr>
              <a:t>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Uso de elemento de medida común </a:t>
            </a:r>
            <a:r>
              <a:rPr b="0" lang="en-US" sz="2800" spc="-1" strike="noStrike">
                <a:solidFill>
                  <a:srgbClr val="0033cc"/>
                </a:solidFill>
                <a:latin typeface="Wingdings 3"/>
                <a:ea typeface="Wingdings 3"/>
              </a:rPr>
              <a:t>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Valorización Económica </a:t>
            </a:r>
            <a:r>
              <a:rPr b="0" lang="en-US" sz="2800" spc="-1" strike="noStrike">
                <a:solidFill>
                  <a:srgbClr val="0033cc"/>
                </a:solidFill>
                <a:latin typeface="Wingdings 3"/>
                <a:ea typeface="Wingdings 3"/>
              </a:rPr>
              <a:t>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VET </a:t>
            </a:r>
            <a:r>
              <a:rPr b="0" lang="en-US" sz="2800" spc="-1" strike="noStrike">
                <a:solidFill>
                  <a:srgbClr val="0033cc"/>
                </a:solidFill>
                <a:latin typeface="Wingdings 3"/>
                <a:ea typeface="Wingdings 3"/>
              </a:rPr>
              <a:t>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Monetar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44756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USTENTABILIDAD DEBIL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(en el extremo ¿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5829120" cy="304812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1.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$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Huemu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50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 Araucaria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 2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Huemu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s Arauc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 Fábri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50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 Fábri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Huem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5334120"/>
            <a:ext cx="5284800" cy="2896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Arial"/>
              </a:rPr>
              <a:t>Dos fábricas es lo mis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Arial"/>
              </a:rPr>
              <a:t>que 1 fábrica + 50 huem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Arial"/>
              </a:rPr>
              <a:t>+ 100 araucari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apital total se ha mantenido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Times New Roman"/>
              </a:rPr>
              <a:t>Sustentabilidad De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810040" cy="63244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Admite sustitubilidad casi perfecta ente funciones y servicios del C Natural y el C Pro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Plantea la desvinculación  entre el crecimiento económico y los impacto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Expresa visión antropocéntrica: La técnica y/o la economía nos darán las respuestas neces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Times New Roman"/>
              </a:rPr>
              <a:t>Sustentabilidad Debi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93720" y="3473280"/>
            <a:ext cx="5487840" cy="45720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o confundi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pital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Natural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pitalización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de la natural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(Derechos de propiedad sobre los RR N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971800" y="6172200"/>
            <a:ext cx="12952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osibles respuestas a señale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Negar, Disminuir o Confun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“mercado y/o la tecnología lo resolverá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ecesidad de mayor evidencia cientí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portar el problema: Chimeneas + altas, disposición de residuos en zonas remotas, compensar erosión con + fertilizante, justificar con defensa del empleo, “amenaza” de intervención mili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Aliviar l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minución de emisiones por auto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r RRNN con mayor 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vertir en descontam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Cambiar estructur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ustentabilidad Fu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4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presa visión antropocentrica =&gt; bioce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admite sustitubilidad generalizada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ige el ajuste del sistema económico al sistema natural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quiere de disminuir el consumo de recurs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De nuevo a la visión ecosistémica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93720" y="2641680"/>
            <a:ext cx="5487840" cy="47052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 un ecosistema ¿es posible reemplazar un componente por otro sin cambiar las características del sist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servicios ambientales son el resultado de las interacciones entre los compo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NATURAL 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ARTI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93720" y="2641320"/>
            <a:ext cx="5487840" cy="54738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la escacez  relativa del Capital Artificial a la escacez relativa del Capit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Necesidad del “barco factoría” a la veda de la merluza para la pesca artesanal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l aumento de la productividad del Capital fabricado por los humanos (revolución industrial) al aumento de la productividad del Capital Natu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¿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ia la desmaterialización de la economía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447920" y="2971800"/>
            <a:ext cx="4343400" cy="838080"/>
          </a:xfrm>
          <a:prstGeom prst="rect">
            <a:avLst/>
          </a:prstGeom>
          <a:solidFill>
            <a:srgbClr val="618ff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14080" y="533160"/>
            <a:ext cx="5886360" cy="1523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STITUCIÓN Y COMPLEMENTARIDAD EN LOS RECURSOS PRODU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3880" y="243828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es Produ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apital, Trabaj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47920" y="4572000"/>
            <a:ext cx="17524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05320" y="4572000"/>
            <a:ext cx="22096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27120" y="4648320"/>
            <a:ext cx="163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(Hu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83080" y="4648320"/>
            <a:ext cx="209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NATURA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NATURA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(Cap.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7696080"/>
            <a:ext cx="3657600" cy="9144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3505320"/>
            <a:ext cx="762120" cy="4952880"/>
          </a:xfrm>
          <a:prstGeom prst="upDownArrow">
            <a:avLst>
              <a:gd name="adj1" fmla="val 50000"/>
              <a:gd name="adj2" fmla="val 129374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11480" y="792324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menta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33720" y="5562720"/>
            <a:ext cx="304560" cy="1143000"/>
          </a:xfrm>
          <a:prstGeom prst="upDownArrow">
            <a:avLst>
              <a:gd name="adj1" fmla="val 50000"/>
              <a:gd name="adj2" fmla="val 7471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1120" y="548640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361960" y="3809880"/>
            <a:ext cx="9903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3809880"/>
            <a:ext cx="9907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ONTRIBUCIONES DEL CAPITAL NATURAL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810040" cy="63244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opicia equidad entre generación actual y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omenta “Justicia” con la Naturaleza (Derechos de los seres vivo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jora la Resil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minuye incertidumbre sobre los servicios que el medio ambiente presta a los sistema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ITAL NATURAL y SUSTENTABILIDAD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810040" cy="59832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SUSTENTABILIDAD F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Complementariedad entre capital natural y capital humano. Solo sustitución marg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dinámicas reproductivas de la naturaleza se explican por procesos ecológicos, no humanos y menos econó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Capacidad de la economía de mantener el Cap. Natural Cri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08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ustentabilidad Fuerte: Capital Natural Crí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810040" cy="693432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apital Natural Crítico</a:t>
            </a:r>
            <a:r>
              <a:rPr b="0" lang="es-ES_tradnl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Aquel expuesto a daños irreversibles, en su mayoría no es económicamente valorable ni comer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Corresponde a funciones que no son reemplazables por el Capital hecho por los hum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Regulación atmosférica (cli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Capa de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Mantención de bid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Existencia de hume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El subsistema económico debe  mantener el 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CAPITAL NATURAL CRÍ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33360" y="394920"/>
            <a:ext cx="6191280" cy="114300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MPLEMENTARIEDAD Y SUSTITUCION: VISION DE CE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829480" cy="66294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 bien al avance tecnológico permite mejorar, en alguna medida, el grado de sustitución entre diversas formas de capital y su tasas de reproducción, a medida que se evalúa la experiencia de la región se hace patente que el grado de sustitución es ínfimo, especialmente cuando se trata de conservar la diversidad biológica o cultural. En el peor de los casos, los recursos naturales son irremplazables; en el mejor de ellos, sólo pueden ser restituidos a costos muy al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arrollo Sustentable; Transf. Productiva Equidad y Medio Ambiente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39360" y="3222360"/>
            <a:ext cx="5442120" cy="287964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l Concepto de Capital al Concepto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trimonio Natural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l legado a las futuras gen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conomía Ec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44240" y="361800"/>
            <a:ext cx="5816520" cy="92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A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695240"/>
            <a:ext cx="5791320" cy="689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conomía ecológica estudia las condiciones (sociales o de distribución de los patrimonios e ingresos, temporales, espaciales) para que la economía (que chupa recursos y excreta residuos) encaje en los ecosistemas, y (desde un enfoque asignativo) la economía ecológica estudia también la valoración de los servicios prestados por el ecosistema al subsistema ec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360" y="539280"/>
            <a:ext cx="5829120" cy="89244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sibles respuestas a señales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979280"/>
            <a:ext cx="6110280" cy="669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Cambiar estructura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Ejemplo del neolitico y Rev. Industr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0000"/>
                </a:solidFill>
                <a:latin typeface="Times New Roman"/>
              </a:rPr>
              <a:t>Generar mecanismos informativos, sociales e institucionales que permitan controlar los ciclos de retroalimentación causantes de crecimiento exponencial de la población y el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Control de nata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0000"/>
                </a:solidFill>
                <a:latin typeface="Times New Roman"/>
              </a:rPr>
              <a:t>Criterios de H Daly en uso de RRN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Lo cualitativo por sobre lo cuantita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0000"/>
                </a:solidFill>
                <a:latin typeface="Times New Roman"/>
              </a:rPr>
              <a:t>Ampliar horizonte de Plan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Mejorar señales: indicadores de (in) sustentab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0000"/>
                </a:solidFill>
                <a:latin typeface="Times New Roman"/>
              </a:rPr>
              <a:t>Acortar tiempos de respuest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: Ozono v/s Cambio climát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10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A ECO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5829480" cy="64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conomía Ecológica ha de preocuparse, en primer lugar, de la naturaleza física de los bienes a gestionar y la lógica de los sistemas que los envuelven, considerando desde la escasez objetiva y la renovabilidad de los recursos empleados, hasta la nocibidad y el posible reciclaje de los residuos generados, a fin de orientar con conocimiento de causa el marco institucional para que éste arroje ciertas soluciones y no otras en costes, precios y cantidades de recursos utilizados de productos obtenidos y de residuos emitid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José Manuel Nar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7780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CONOMIA ECOLOGICA: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SO DE INTRUMENTOS ECONOM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14440" y="2971440"/>
            <a:ext cx="5829120" cy="51562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RCADO: DE AMO A “ESCLAV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USENCIA DE GENERACIONE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ISTRIBUCION DEL INGR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USENCIA DE “SECTOR” N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7780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CONOMIA ECOLOGICA: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ATEGORIZACION DE RECURS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14440" y="2971440"/>
            <a:ext cx="5829120" cy="51562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cursos Globales o bienes y servicio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s globales, atmósfera, clima, biodiversidad, m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cursos naturales renovables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escalas de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cursos naturales no renov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72840" y="285480"/>
            <a:ext cx="5816520" cy="92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INCIPIOS PARA UNA ECONOMIA SUSTENTABLE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440" y="1314000"/>
            <a:ext cx="5791320" cy="750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RECURSOS RENOV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explotar sobre su capacidad de re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spetar la capacidad de carga de los sistemas atmosféricos y de suelo para transformar y asimilar desec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RECURSOS NO RENOV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stinar un % de los ingresos a la investigación o a la form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PROD. DE RESIDUOS. (3 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sminuir su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producir más que la capacidad de depu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ratar los res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utilizar lo recic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sponer en forma segura los residuos tratados y no reuti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72840" y="285480"/>
            <a:ext cx="5816520" cy="92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INCIPIOS PARA UNA ECONOMIA SUSTENTABLE (II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5791320" cy="7277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omentar el "uso" por sobre la "explotación". (Menos de mejor cal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Uso de tecnologías limp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Disminución de pérdidas de energía</a:t>
            </a:r>
            <a:r>
              <a:rPr b="0" lang="en-US" sz="2000" spc="-1" strike="noStrike">
                <a:solidFill>
                  <a:srgbClr val="00ae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CONSUMO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Cambio en patrones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ONSIDERACION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Criterios de equidad y justi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ONTABILIDAD NACIONAL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INDICADORES DE 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UENTAS MONETARIAS Y CUENTA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1524240"/>
          </a:xfrm>
          <a:prstGeom prst="rect">
            <a:avLst/>
          </a:prstGeom>
          <a:noFill/>
          <a:ln w="76320">
            <a:solidFill>
              <a:srgbClr val="3399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conomía Ecológica: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uevo Sistema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nocimiento del funcionamiento de la biosfera y estado de los eco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stado y evolución del stock de 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esarrollo de un sistema tecnológico ad h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33200" y="83790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Murillo, Mad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620640" y="468360"/>
            <a:ext cx="5688000" cy="3786120"/>
          </a:xfrm>
          <a:prstGeom prst="rect">
            <a:avLst/>
          </a:prstGeom>
          <a:ln w="0">
            <a:noFill/>
          </a:ln>
        </p:spPr>
      </p:pic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33000" y="539280"/>
            <a:ext cx="58294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Medición de la Sustent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0640" y="4211640"/>
            <a:ext cx="5616720" cy="424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Indicadores de Suste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foque presión, estado,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Huella Ec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Indicadores de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ae00"/>
                </a:solidFill>
                <a:latin typeface="Times New Roman"/>
              </a:rPr>
              <a:t>Contabilidad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juste a las cuenta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Cuentas de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Cuentas saté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3284640" y="2700360"/>
            <a:ext cx="2798640" cy="396072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33000" y="755640"/>
            <a:ext cx="5829480" cy="1440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Indicadores de Sustent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549000" y="2627280"/>
            <a:ext cx="5543640" cy="561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que perm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una va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cuantitativa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perm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realizar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seguimiento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control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ae00"/>
                </a:solidFill>
                <a:latin typeface="Times New Roman"/>
              </a:rPr>
              <a:t>estado del medio ambiente y por ello, de las actuaciones de polític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08:50:22Z</dcterms:created>
  <dc:creator>Juan Antonio Garces Duran</dc:creator>
  <dc:description/>
  <cp:keywords/>
  <dc:language>en-US</dc:language>
  <cp:lastModifiedBy>JGarces</cp:lastModifiedBy>
  <cp:lastPrinted>2001-11-19T00:11:08Z</cp:lastPrinted>
  <dcterms:modified xsi:type="dcterms:W3CDTF">2008-08-27T18:42:08Z</dcterms:modified>
  <cp:revision>110</cp:revision>
  <dc:subject/>
  <dc:title>LOS PROBLEMAS AMBIENTALES GLOBALES</dc:title>
</cp:coreProperties>
</file>