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83F-5C07-4E6A-8B53-A8D6F4C8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E14-57A8-4168-9FBB-88473AF8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8FC-0A2C-4941-B522-38E1726C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E2C-B1B1-4308-939D-3DC761D5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B02-3FFD-483D-967A-979A4079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6BA-53F4-4908-8D26-75CA9F87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AB6-A964-42A1-9429-8173AF7B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30E-2CA3-41A1-93C9-9E74BE48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E63-3F0C-46F1-9FE7-BF4DCC73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211-B885-4019-9551-F23B33FE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7A1-B5BD-494D-96FA-E4662470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6C8-2193-459E-823F-A445CE4C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9176-F34D-490F-AD74-A81DF21CA271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delco.cl/prontus_codelco/site/edic/base/port/inicio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4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2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430200" y="3357720"/>
            <a:ext cx="3382920" cy="24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187280" y="549360"/>
            <a:ext cx="691380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losales pérdidas en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360" y="2349000"/>
            <a:ext cx="7991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sentación a la Co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vestigadora de la Honorable Cámara de Dipu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ctubre 201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835280" y="5805360"/>
            <a:ext cx="684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Julián Alcayaga, Economista,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esident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.N.G. Chile-Co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1" descr="Codelc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7480" y="2997360"/>
            <a:ext cx="309564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sentación Vicepresidente Cochilco, en Comisión Invest. Cámara sobre prod. de cobre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280" y="-123120"/>
            <a:ext cx="54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 reales (IPMUSA) e Inventarios rel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n 1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064360" cy="4465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395280" y="61657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aboraci</a:t>
            </a:r>
            <a:r>
              <a:rPr b="0" lang="es-ES" sz="1000" spc="-1" strike="noStrike">
                <a:solidFill>
                  <a:srgbClr val="000000"/>
                </a:solidFill>
                <a:latin typeface="Cambria"/>
                <a:ea typeface="Times New Roman"/>
              </a:rPr>
              <a:t>ó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chilco, sobre la base de inventarios y consumo hist</a:t>
            </a:r>
            <a:r>
              <a:rPr b="0" lang="es-ES" sz="1000" spc="-1" strike="noStrike">
                <a:solidFill>
                  <a:srgbClr val="000000"/>
                </a:solidFill>
                <a:latin typeface="Cambria"/>
                <a:ea typeface="Times New Roman"/>
              </a:rPr>
              <a:t>ó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os de WBMS y proyecciones propias de bal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image.slidesharecdn.com/mercado-del-cobre-2006-2007-1205952521429698-4/95/slide-6-728.jpg?cb=1219090348"/>
          <p:cNvPicPr/>
          <p:nvPr/>
        </p:nvPicPr>
        <p:blipFill>
          <a:blip r:embed="rId1"/>
          <a:stretch/>
        </p:blipFill>
        <p:spPr>
          <a:xfrm>
            <a:off x="317520" y="404640"/>
            <a:ext cx="8353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age.slidesharecdn.com/mercado-del-cobre-2006-2007-1205952521429698-4/95/slide-19-728.jpg?cb=1219090348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image.slidesharecdn.com/mercado-del-cobre-2006-2007-1205952521429698-4/95/slide-20-728.jpg?cb=1219090348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24000" y="115920"/>
            <a:ext cx="842472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de hace más de 30 años, el </a:t>
            </a:r>
            <a:r>
              <a:rPr b="0" lang="es-ES_tradnl" sz="4000" spc="-1" strike="noStrike">
                <a:solidFill>
                  <a:srgbClr val="ff0000"/>
                </a:solidFill>
                <a:latin typeface="Arial"/>
              </a:rPr>
              <a:t>FMI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recomienda al Tercer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Legislar para que las pérdidas en mercados de futuro sean declaradas como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“gastos no necesarios para producir la rent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ocemos esta recomendación del FMI, en reuniones en la UDI, donde el Sr. Juan Carlos Mendez, Director de Presupuesto del Gobierno Militar entre 1975 y 1981, quien sucedió en ese puesto al Sr. Juan Villarzú R. (1973-197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partir de 1982 el Sr. Mendez fue consultor del Banco Mundial, y en 1985 del BI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art. 31 inciso primero de la ley de la Renta establece: “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No se deducirán los gastos incurridos en la adquisición, mantención o explotación de bienes no destinados al giro del negocio o empre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gregar: “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ncluidas las pérdidas en los mercados de futuro de metales, o del mercado de futuros de cualquier otro producto, o mercados similares que determine el Servici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9"/>
          <p:cNvSpPr/>
          <p:nvPr/>
        </p:nvSpPr>
        <p:spPr>
          <a:xfrm>
            <a:off x="468360" y="333360"/>
            <a:ext cx="8064360" cy="93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RESULTADOS DE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600200"/>
          <a:ext cx="8278920" cy="4606920"/>
        </p:xfrm>
        <a:graphic>
          <a:graphicData uri="http://schemas.openxmlformats.org/drawingml/2006/table">
            <a:tbl>
              <a:tblPr/>
              <a:tblGrid>
                <a:gridCol w="1798560"/>
                <a:gridCol w="1079640"/>
                <a:gridCol w="1081080"/>
                <a:gridCol w="1079280"/>
                <a:gridCol w="1079640"/>
                <a:gridCol w="1081080"/>
                <a:gridCol w="1079640"/>
              </a:tblGrid>
              <a:tr h="49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5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9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 B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os 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Exced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9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84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5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7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ed./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68"/>
          <p:cNvSpPr/>
          <p:nvPr/>
        </p:nvSpPr>
        <p:spPr>
          <a:xfrm>
            <a:off x="395280" y="1628640"/>
            <a:ext cx="835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395280" y="5734080"/>
            <a:ext cx="835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395280" y="1197000"/>
            <a:ext cx="8209080" cy="439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8000" y="5662440"/>
            <a:ext cx="8893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n últimos 4 años Codelco ha tenido pérdidas de 15 mil millones US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Pérdidas de 3 mil millones de dólares por subfacturación en el ejercicio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2.- El año 2011 la nueva administración de CODELCO perdió más de 4 mil millones de dólares, mediante subfact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3.- Los resultados provisorios por el año 2012 arrojan otros 4 mil millones de dólares de pérdidas por subfactu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- Pérdidas de más de 4 mil millones de dólares en los mercados de futuro del cobre, 23 veces más que Juan Pablo Dávila en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¿Quiénes son los favorecidos con esta subfactur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03360" y="5722920"/>
            <a:ext cx="796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sto no puede deberse a deficiencias de gesti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or la experiencia y capacidad de sus ejecu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n 3" descr="EF.jpg"/>
          <p:cNvPicPr/>
          <p:nvPr/>
        </p:nvPicPr>
        <p:blipFill>
          <a:blip r:embed="rId1"/>
          <a:stretch/>
        </p:blipFill>
        <p:spPr>
          <a:xfrm>
            <a:off x="395280" y="0"/>
            <a:ext cx="813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EF2.jpg"/>
          <p:cNvPicPr/>
          <p:nvPr/>
        </p:nvPicPr>
        <p:blipFill>
          <a:blip r:embed="rId1"/>
          <a:stretch/>
        </p:blipFill>
        <p:spPr>
          <a:xfrm>
            <a:off x="419040" y="0"/>
            <a:ext cx="82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50920" y="471600"/>
            <a:ext cx="8713800" cy="1295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Producción, Consumo y Precio del C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79360" y="1614600"/>
          <a:ext cx="8604360" cy="4771800"/>
        </p:xfrm>
        <a:graphic>
          <a:graphicData uri="http://schemas.openxmlformats.org/drawingml/2006/table">
            <a:tbl>
              <a:tblPr/>
              <a:tblGrid>
                <a:gridCol w="4932360"/>
                <a:gridCol w="1224000"/>
                <a:gridCol w="1224000"/>
                <a:gridCol w="1224000"/>
              </a:tblGrid>
              <a:tr h="636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396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ción Chil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397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mo 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396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mo mu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4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6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</a:tr>
              <a:tr h="397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</a:tr>
              <a:tr h="504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cim. Producción Chil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504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cim. Consumo mu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stretch/>
                    </a:blipFill>
                  </a:tcPr>
                </a:tc>
              </a:tr>
              <a:tr h="505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. Consumo de 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stretch/>
                    </a:blipFill>
                  </a:tcPr>
                </a:tc>
              </a:tr>
              <a:tr h="396720"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 del co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636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0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89" name="Text Box 44"/>
          <p:cNvSpPr/>
          <p:nvPr/>
        </p:nvSpPr>
        <p:spPr>
          <a:xfrm>
            <a:off x="108000" y="6149880"/>
            <a:ext cx="89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Verdana"/>
              </a:rPr>
              <a:t>Porcentaje en Producción Mundial                30,0       36,7        32,3</a:t>
            </a:r>
            <a:r>
              <a:rPr b="0" lang="es-ES_tradnl" sz="1800" spc="-1" strike="noStrike">
                <a:solidFill>
                  <a:srgbClr val="3399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LO QUE CODELCO HA APOR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lrededor de 120.000 millones de dólares, desde 1971 a 201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lo es más que el impuesto  de primera categoría que han pagado todas las empresas privadas, que han existido o aún existen en Chile, en este mismo periodo de tiem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79440" y="946080"/>
          <a:ext cx="8156520" cy="5310360"/>
        </p:xfrm>
        <a:graphic>
          <a:graphicData uri="http://schemas.openxmlformats.org/drawingml/2006/table">
            <a:tbl>
              <a:tblPr/>
              <a:tblGrid>
                <a:gridCol w="2795400"/>
                <a:gridCol w="2908440"/>
                <a:gridCol w="2033640"/>
                <a:gridCol w="419040"/>
              </a:tblGrid>
              <a:tr h="1081800">
                <a:tc gridSpan="4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ARACION CODELCO PRIVAD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ño 2011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Precio del co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,99 US$ l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del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iv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les de 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7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.5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.10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RIBUTAC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.0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48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ecio co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,9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S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6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</a:rPr>
              <a:t>Utilidades e impuestos, mineras extranj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 Título"/>
          <p:cNvSpPr/>
          <p:nvPr/>
        </p:nvSpPr>
        <p:spPr>
          <a:xfrm>
            <a:off x="395280" y="11592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4120" y="1413000"/>
          <a:ext cx="7932960" cy="4754520"/>
        </p:xfrm>
        <a:graphic>
          <a:graphicData uri="http://schemas.openxmlformats.org/drawingml/2006/table">
            <a:tbl>
              <a:tblPr/>
              <a:tblGrid>
                <a:gridCol w="2387520"/>
                <a:gridCol w="1387440"/>
                <a:gridCol w="1386000"/>
                <a:gridCol w="1386000"/>
                <a:gridCol w="1386000"/>
              </a:tblGrid>
              <a:tr h="55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MPRE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tilidades antes Imp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MPUESTOS A LA R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tos Cop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30.041.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9.776.7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7.107.0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nglo Amer. S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117.325.0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47.216.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9.945.2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Zaldiv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12.932.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9.752.0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1.198.4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.725.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ndel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22.349.0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0.709.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2.799.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.322.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l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0.907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74.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9.454.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llahua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661.842.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2.469.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52.513.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3.555.6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uebrada Blan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7.749.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7.778.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.817.3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scond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.634.93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411.42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57.939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39.65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os Pelamb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00.50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41.68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4.08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1.80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CM El Ab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21.519.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.230.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5.658.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.950.103.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536.038.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541.517.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23.064.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érd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344.278.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Pérdidas en Mercados de Futuro</a:t>
            </a:r>
            <a:br>
              <a:rPr sz="4000"/>
            </a:b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s-ES" sz="4000" spc="-1" strike="noStrike">
                <a:solidFill>
                  <a:srgbClr val="cc0000"/>
                </a:solidFill>
                <a:latin typeface="Arial"/>
              </a:rPr>
              <a:t>over the counter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849920"/>
        </p:xfrm>
        <a:graphic>
          <a:graphicData uri="http://schemas.openxmlformats.org/drawingml/2006/table">
            <a:tbl>
              <a:tblPr/>
              <a:tblGrid>
                <a:gridCol w="1801800"/>
                <a:gridCol w="2313000"/>
                <a:gridCol w="2313000"/>
                <a:gridCol w="180180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jerc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d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.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71.6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.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96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9.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.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6.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75.6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5.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09.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28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2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$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70.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43000" y="291960"/>
            <a:ext cx="8646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6800"/>
                </a:solidFill>
                <a:latin typeface="Arial"/>
              </a:rPr>
              <a:t>Coberturas y Contratos Futuros – Resultados 2006 y 2010</a:t>
            </a:r>
            <a:r>
              <a:rPr b="0" lang="en-US" sz="2200" spc="-1" strike="noStrike">
                <a:solidFill>
                  <a:srgbClr val="ad68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1600" spc="-1" strike="noStrike">
                <a:solidFill>
                  <a:srgbClr val="ad6800"/>
                </a:solidFill>
                <a:latin typeface="Arial"/>
              </a:rPr>
              <a:t>Miles de US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 Conector recto"/>
          <p:cNvSpPr/>
          <p:nvPr/>
        </p:nvSpPr>
        <p:spPr>
          <a:xfrm>
            <a:off x="243000" y="703440"/>
            <a:ext cx="8143920" cy="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2280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50920" y="408960"/>
            <a:ext cx="8642160" cy="5639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Foja 19871 o 161 de la Sentencia juicio “Fraude al Estado Negociación incompat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Codelco compra opciones put por 71.000 T., vende opciones call por 119.450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CL" sz="2800" spc="-1" strike="noStrike">
                <a:solidFill>
                  <a:srgbClr val="000000"/>
                </a:solidFill>
                <a:latin typeface="Calibri"/>
              </a:rPr>
              <a:t>Siendo el resultado neto una diferencia neta a favor de Metallgeselschaft, de tres millones y medio de dólares, cantidad que con </a:t>
            </a:r>
            <a:r>
              <a:rPr b="1" i="1" lang="es-CL" sz="2800" spc="-1" strike="noStrike">
                <a:solidFill>
                  <a:srgbClr val="ff0000"/>
                </a:solidFill>
                <a:latin typeface="Calibri"/>
              </a:rPr>
              <a:t>fecha 19 de enero de 1990</a:t>
            </a:r>
            <a:r>
              <a:rPr b="1" i="1" lang="es-CL" sz="2800" spc="-1" strike="noStrike">
                <a:solidFill>
                  <a:srgbClr val="000000"/>
                </a:solidFill>
                <a:latin typeface="Calibri"/>
              </a:rPr>
              <a:t>, CODELCO paga efectivamente a Metallgeselschaft, como consta de la documentación que corre de fojas 18740 a 18761. Con esta misma fecha Metallgeselschaft Corp, filial norteamericana de la empresa alemana, deposita en una cuenta bancaria de Dávila en la Islas Caimán, </a:t>
            </a:r>
            <a:r>
              <a:rPr b="1" i="1" lang="es-CL" sz="2800" spc="-1" strike="noStrike" u="sng">
                <a:solidFill>
                  <a:srgbClr val="ff0000"/>
                </a:solidFill>
                <a:uFillTx/>
                <a:latin typeface="Calibri"/>
              </a:rPr>
              <a:t>la suma de un millón y medio de dólares</a:t>
            </a:r>
            <a:r>
              <a:rPr b="1" i="1" lang="es-CL" sz="2800" spc="-1" strike="noStrike">
                <a:solidFill>
                  <a:srgbClr val="ff0000"/>
                </a:solidFill>
                <a:latin typeface="Calibri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1052640"/>
          <a:ext cx="8712360" cy="5273640"/>
        </p:xfrm>
        <a:graphic>
          <a:graphicData uri="http://schemas.openxmlformats.org/drawingml/2006/table">
            <a:tbl>
              <a:tblPr/>
              <a:tblGrid>
                <a:gridCol w="216000"/>
                <a:gridCol w="1814400"/>
                <a:gridCol w="1078200"/>
                <a:gridCol w="1077840"/>
                <a:gridCol w="1076400"/>
                <a:gridCol w="1077840"/>
                <a:gridCol w="1077840"/>
                <a:gridCol w="1082520"/>
                <a:gridCol w="211320"/>
              </a:tblGrid>
              <a:tr h="74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NTEDENTES RELEVANTES DE CODEL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3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prop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ecio co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ced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9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image.slidesharecdn.com/mercado-del-cobre-2006-2007-1205952521429698-4/95/slide-4-728.jpg?cb=1219090348"/>
          <p:cNvPicPr/>
          <p:nvPr/>
        </p:nvPicPr>
        <p:blipFill>
          <a:blip r:embed="rId1"/>
          <a:stretch/>
        </p:blipFill>
        <p:spPr>
          <a:xfrm>
            <a:off x="539640" y="50472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20:41:23Z</dcterms:created>
  <dc:creator>WinuE</dc:creator>
  <dc:description/>
  <dc:language>en-US</dc:language>
  <cp:lastModifiedBy>María Asunción</cp:lastModifiedBy>
  <dcterms:modified xsi:type="dcterms:W3CDTF">2016-12-06T22:16:04Z</dcterms:modified>
  <cp:revision>138</cp:revision>
  <dc:subject/>
  <dc:title>EL SHOW DE LA DEIPUTADA</dc:title>
</cp:coreProperties>
</file>