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294-7A55-4224-BD86-C258E67E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AA7-EBD9-44DF-961D-5C803418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1D3-F76C-4842-867C-095AB2F7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C83-BC54-4B10-9F46-2DDEEFE2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12C-4FD1-4B3A-BAD1-2E013C1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A98-B51C-41C3-8E43-356A3416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80F-78C3-4C31-9C8E-23229506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749-C89E-46F3-9FB7-ABC8458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E3C-ABDE-4052-A1A4-D973756B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222-F8FA-4126-9FA1-5C6A00D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6AC-97BF-4675-BB59-BFA9F3A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B21-8677-4E29-9FEA-B9DFC5B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75DC-0131-453E-AD69-C86C2235950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delco.cl/prontus_codelco/site/edic/base/port/inicio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430200" y="3357720"/>
            <a:ext cx="3382920" cy="24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187280" y="549360"/>
            <a:ext cx="691380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osales pérdidas en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tación a la Co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estigadora de la Honorable Cámara de Dipu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tubre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835280" y="5805360"/>
            <a:ext cx="684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Julián Alcayaga, Economista,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iden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.N.G. Chile-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Codel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480" y="2997360"/>
            <a:ext cx="30956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entación Vicepresidente Cochilco, en Comisión Invest. Cámara sobre prod. de cobre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280" y="-123120"/>
            <a:ext cx="54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reales (IPMUSA) e Inventarios rel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465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95280" y="61657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aboraci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chilco, sobre la base de inventarios y consumo hist</a:t>
            </a:r>
            <a:r>
              <a:rPr b="0" lang="es-ES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ó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s de WBMS y proyecciones propias de bal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age.slidesharecdn.com/mercado-del-cobre-2006-2007-1205952521429698-4/95/slide-6-728.jpg?cb=1219090348"/>
          <p:cNvPicPr/>
          <p:nvPr/>
        </p:nvPicPr>
        <p:blipFill>
          <a:blip r:embed="rId1"/>
          <a:stretch/>
        </p:blipFill>
        <p:spPr>
          <a:xfrm>
            <a:off x="317520" y="404640"/>
            <a:ext cx="8353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age.slidesharecdn.com/mercado-del-cobre-2006-2007-1205952521429698-4/95/slide-19-728.jpg?cb=1219090348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age.slidesharecdn.com/mercado-del-cobre-2006-2007-1205952521429698-4/95/slide-20-728.jpg?cb=1219090348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24000" y="115920"/>
            <a:ext cx="842472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de hace más de 30 años, el </a:t>
            </a: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FMI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recomienda al Tercer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Legislar para que las pérdidas en mercados de futuro sean declaradas como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“gastos no necesarios para producir la rent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ocemos esta recomendación del FMI, en reuniones en la UDI, donde el Sr. Juan Carlos Mendez, Director de Presupuesto del Gobierno Militar entre 1975 y 1981, quien sucedió en ese puesto al Sr. Juan Villarzú R. (1973-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partir de 1982 el Sr. Mendez fue consultor del Banco Mundial, y en 1985 del B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art. 31 inciso primero de la ley de la Renta establece: 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regar: “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ncluidas las pérdidas en los mercados de futuro de metales, o del mercado de futuros de cualquier otro producto, o mercados similares que determine el Servici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9"/>
          <p:cNvSpPr/>
          <p:nvPr/>
        </p:nvSpPr>
        <p:spPr>
          <a:xfrm>
            <a:off x="468360" y="333360"/>
            <a:ext cx="8064360" cy="93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RESULTADOS DE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78920" cy="4606920"/>
        </p:xfrm>
        <a:graphic>
          <a:graphicData uri="http://schemas.openxmlformats.org/drawingml/2006/table">
            <a:tbl>
              <a:tblPr/>
              <a:tblGrid>
                <a:gridCol w="1798560"/>
                <a:gridCol w="1079640"/>
                <a:gridCol w="1081080"/>
                <a:gridCol w="1079280"/>
                <a:gridCol w="1079640"/>
                <a:gridCol w="1081080"/>
                <a:gridCol w="1079640"/>
              </a:tblGrid>
              <a:tr h="49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B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Exced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84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7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d./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68"/>
          <p:cNvSpPr/>
          <p:nvPr/>
        </p:nvSpPr>
        <p:spPr>
          <a:xfrm>
            <a:off x="395280" y="1628640"/>
            <a:ext cx="8353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395280" y="5734080"/>
            <a:ext cx="835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5280" y="1197000"/>
            <a:ext cx="820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8000" y="5662440"/>
            <a:ext cx="8893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n últimos 4 años Codelco ha tenido pérdidas de 15 mil millones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Pérdidas de 3 mil millones de dólares por subfacturación en el ejercicio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2.- El año 2011 la nueva administración de CODELCO perdió más de 4 mil millones de dólares, mediante subfact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3.- Los resultados provisorios por el año 2012 arrojan otros 4 mil millones de dólares de pérdidas por subfactu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Pérdidas de más de 4 mil millones de dólares en los mercados de futuro del cobre, 23 veces más que Juan Pablo Dávila en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¿Quiénes son los favorecidos con esta subfactu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3360" y="5722920"/>
            <a:ext cx="79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o no puede deberse a deficiencias de gest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or la experiencia y capacidad de sus ejecu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3" descr="EF.jpg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EF2.jpg"/>
          <p:cNvPicPr/>
          <p:nvPr/>
        </p:nvPicPr>
        <p:blipFill>
          <a:blip r:embed="rId1"/>
          <a:stretch/>
        </p:blipFill>
        <p:spPr>
          <a:xfrm>
            <a:off x="419040" y="0"/>
            <a:ext cx="82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50920" y="471600"/>
            <a:ext cx="8713800" cy="1295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1614600"/>
          <a:ext cx="8604360" cy="4771800"/>
        </p:xfrm>
        <a:graphic>
          <a:graphicData uri="http://schemas.openxmlformats.org/drawingml/2006/table">
            <a:tbl>
              <a:tblPr/>
              <a:tblGrid>
                <a:gridCol w="4932360"/>
                <a:gridCol w="1224000"/>
                <a:gridCol w="1224000"/>
                <a:gridCol w="1224000"/>
              </a:tblGrid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  <a:tr h="397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504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stretch/>
                    </a:blipFill>
                  </a:tcPr>
                </a:tc>
              </a:tr>
              <a:tr h="505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. Consumo de 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stretch/>
                    </a:blipFill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636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89" name="Text Box 44"/>
          <p:cNvSpPr/>
          <p:nvPr/>
        </p:nvSpPr>
        <p:spPr>
          <a:xfrm>
            <a:off x="108000" y="6149880"/>
            <a:ext cx="89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LO QUE CODELCO HA APOR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rededor de 120.000 millones de dólares, desde 1971 a 201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lo es más que el impuesto  de primera categoría que han pagado todas las empresas privadas, que han existido o aún existen en Chile, en este mismo periodo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ño 2011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recio del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,99 US$ l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Utilidades e impuestos, mineras extranj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4120" y="1413000"/>
          <a:ext cx="7932960" cy="475452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50.103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36.038.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541.517.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23.064.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Pérdidas en Mercados de Futuro</a:t>
            </a:r>
            <a:br>
              <a:rPr sz="4000"/>
            </a:b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" sz="4000" spc="-1" strike="noStrike">
                <a:solidFill>
                  <a:srgbClr val="cc0000"/>
                </a:solidFill>
                <a:latin typeface="Arial"/>
              </a:rPr>
              <a:t>over the counter</a:t>
            </a: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801800"/>
                <a:gridCol w="2313000"/>
                <a:gridCol w="2313000"/>
                <a:gridCol w="180180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.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71.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.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96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9.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6.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75.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5.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09.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28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$ 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70.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43000" y="291960"/>
            <a:ext cx="864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6800"/>
                </a:solidFill>
                <a:latin typeface="Arial"/>
              </a:rPr>
              <a:t>Coberturas y Contratos Futuros – Resultados 2006 y 2010</a:t>
            </a:r>
            <a:r>
              <a:rPr b="0" lang="en-US" sz="2200" spc="-1" strike="noStrike">
                <a:solidFill>
                  <a:srgbClr val="ad68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600" spc="-1" strike="noStrike">
                <a:solidFill>
                  <a:srgbClr val="ad6800"/>
                </a:solidFill>
                <a:latin typeface="Arial"/>
              </a:rPr>
              <a:t>Miles de US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onector recto"/>
          <p:cNvSpPr/>
          <p:nvPr/>
        </p:nvSpPr>
        <p:spPr>
          <a:xfrm>
            <a:off x="243000" y="703440"/>
            <a:ext cx="8143920" cy="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2280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08960"/>
            <a:ext cx="8642160" cy="563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Foja 19871 o 161 de la Sentencia juicio “Fraude al Estado Negociación in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Codelco compra opciones put por 71.000 T., vende opciones call por 119.450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Siendo el resultado neto una diferencia neta a favor de Metallgeselschaft, de tres millones y medio de dólares, cantidad que con 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fecha 19 de enero de 1990</a:t>
            </a:r>
            <a:r>
              <a:rPr b="1" i="1" lang="es-CL" sz="2800" spc="-1" strike="noStrike">
                <a:solidFill>
                  <a:srgbClr val="000000"/>
                </a:solidFill>
                <a:latin typeface="Calibri"/>
              </a:rPr>
              <a:t>, CODELCO paga efectivamente a Metallgeselschaft, como consta de la documentación que corre de fojas 18740 a 18761. Con esta misma fecha Metallgeselschaft Corp, filial norteamericana de la empresa alemana, deposita en una cuenta bancaria de Dávila en la Islas Caimán, </a:t>
            </a:r>
            <a:r>
              <a:rPr b="1" i="1" lang="es-CL" sz="2800" spc="-1" strike="noStrike" u="sng">
                <a:solidFill>
                  <a:srgbClr val="ff0000"/>
                </a:solidFill>
                <a:uFillTx/>
                <a:latin typeface="Calibri"/>
              </a:rPr>
              <a:t>la suma de un millón y medio de dólares</a:t>
            </a:r>
            <a:r>
              <a:rPr b="1" i="1" lang="es-CL" sz="2800" spc="-1" strike="noStrike">
                <a:solidFill>
                  <a:srgbClr val="ff0000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1052640"/>
          <a:ext cx="8712360" cy="5273640"/>
        </p:xfrm>
        <a:graphic>
          <a:graphicData uri="http://schemas.openxmlformats.org/drawingml/2006/table">
            <a:tbl>
              <a:tblPr/>
              <a:tblGrid>
                <a:gridCol w="216000"/>
                <a:gridCol w="1814400"/>
                <a:gridCol w="1078200"/>
                <a:gridCol w="1077840"/>
                <a:gridCol w="1076400"/>
                <a:gridCol w="1077840"/>
                <a:gridCol w="1077840"/>
                <a:gridCol w="1082520"/>
                <a:gridCol w="21132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TEDENTES RELEVANTES DE CODEL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prop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cio c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ced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age.slidesharecdn.com/mercado-del-cobre-2006-2007-1205952521429698-4/95/slide-4-728.jpg?cb=1219090348"/>
          <p:cNvPicPr/>
          <p:nvPr/>
        </p:nvPicPr>
        <p:blipFill>
          <a:blip r:embed="rId1"/>
          <a:stretch/>
        </p:blipFill>
        <p:spPr>
          <a:xfrm>
            <a:off x="539640" y="50472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0:41:23Z</dcterms:created>
  <dc:creator>WinuE</dc:creator>
  <dc:description/>
  <dc:language>en-US</dc:language>
  <cp:lastModifiedBy>María Asunción</cp:lastModifiedBy>
  <dcterms:modified xsi:type="dcterms:W3CDTF">2016-12-06T22:16:04Z</dcterms:modified>
  <cp:revision>138</cp:revision>
  <dc:subject/>
  <dc:title>EL SHOW DE LA DEIPUTADA</dc:title>
</cp:coreProperties>
</file>