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B8D3-D58A-4DE9-AC4A-1B27BC59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9454-A2C7-4B05-BAEF-D57E0659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85FC-B7EA-4919-B77C-D81D637F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68B5-F0FA-4A47-B10A-05C08D9B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EA2A-BECC-424D-A610-67B54938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B18A-7B86-4ACA-B7C4-CFC48EB0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0EB8-478A-473C-94F1-F411FFC3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DFAF-784F-4CD9-918A-55FA5C9B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B451-56C5-4AFE-9AF7-650BDA1B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71B7-7B32-4D1D-AFF3-C3DD1B38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6063-4299-4E4F-AABB-B648EC10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16ED-2119-433E-953E-175FF140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B4B0-E34D-4D09-A6BE-DFD131DFC0A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NOTAS  SOBRE LA GLOBALIZACIÓ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ué  es la GLOBAL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ómo se GLOBALI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uiénes se GLOBALIZAN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qué se GLOBALI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o que  se globaliz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- En primer lugar se globalizan los flujos de capitales  oportunis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- También se globalizan las telecomunic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- Junto a estas, se  globalizan  las modas y las opiniones sobre lo que se hace y piensa en el mundo (Cultura, hegemonía ideológica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o que NO  se globaliz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) La dirección de los negoc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) La tecnología como domin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) Las util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) La mano de ob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) Los nichos  cautivos nacion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) La equidad tributa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7) La distribución del ingreso por el traba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lujos  totales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0.000 son  las multinacionales repartidas por el mu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an parte de la producción y el comercio corresponden a las 500 más gran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s  500, 157 son Norteamericanas, 168 son Europeas y 119 Japonesas, Las restantes son de Corea y Taiw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l Mercado Financier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acias a la desregulación financiera aupada por Inglaterra (Thatcher) y EE.UU (Reagan) en 1978, los flujos de capitales pasaron de US$ 18 mil millones a  US$ 1.500 billones cada día (84 vec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LAMENTE EL 3%  CORRESPONDE  A TRANSACCIONES DE BIENES Y SERVICIOS RE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s  Comunicacion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unión Internacional de Telecomunicaciones estima que la utilización de internet se duplica cada año, desde hace una década (1988) y que, en torno al año 2000, unos  110 millones de ordenadores estaban ya  conectados a la red., lo cual implicará una base de 300 millones de usuarios (hoy superan 1/3 de la población mundia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s Comunicacion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el PNUD: en 1998 existían unos  100 millones de usuarios de internet y que llegaría a los  700 millones en el 200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comercio electrónico que  sumaba US$ 2.600 millones en  1996, superará los 300 miles de millones en el 200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MPLEO:América Lat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1980       1990         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IB      (-0.8)    3.2 (1.8)      1.3 (-0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EA       2.9      2.6               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MPL.   2.6      2.2               1.6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( ) = PIB percápi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epal 200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POBREZA en A. LATINA.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Porcentaj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1980    1990    1997    1999    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34.2      41.0       35.5     35.3     37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NDIG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15.0      17.7       14.4     13.9     15.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 Equidad y el Crecimient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1990 al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HILE                  URUGU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recimiento PI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55%                                      28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escenso de la pobrez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50%                                    53%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3 Rectángulo"/>
          <p:cNvSpPr/>
          <p:nvPr/>
        </p:nvSpPr>
        <p:spPr>
          <a:xfrm>
            <a:off x="0" y="0"/>
            <a:ext cx="10188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adro I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RECIMIENTO REAL DEL P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(En porcentaj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EPAL /   DAES      FMI          Banco Mund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008         2009 a        2009 a            2009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undo                                    1,9            -2,2            -0,8                -2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conomías desarrolladas         0,5           -3,5            -3,2                -4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conomías en desarrollo         5,4             1,9             2,1                  1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ados Unidos                        0,4           -2,5            -2,5                 -3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Japón                                        0,7           -5,6            -5,3                 -6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Zona del euro                           0,7           -4,1            -3,9                 -4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hina                                        9,0            8,1              8,7                 6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mérica Latina y el Caribe      4,1           -1,8             -2,3                -2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uente: Comisión Económica para América Latina y el Caribe (CEPAL), sobre la base de información de JP Morg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¿Es la globalización un mito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el mito de la globalización habrá un sólo mercado y este mercado  será mundi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 intercambio sería total y sin fronteras, con lo cual las naciones dejarían de tener sent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personas serían ciudadanos económicos del mundo. Compradores y vendedores en el mercado mundial ún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1 Rectángulo"/>
          <p:cNvSpPr/>
          <p:nvPr/>
        </p:nvSpPr>
        <p:spPr>
          <a:xfrm>
            <a:off x="0" y="404640"/>
            <a:ext cx="982836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ASAS DE CRECIMIENTO DEL PRODUCTO INTERNO BRUTO PER CÁP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L MUNDO Y SUS REGIONES, 1970-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(En porcentajes y millones de dólares de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970-1980 1981-1991 1992-2002 2003-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tados Unidos                                     1,9            2,0               0,2              1,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sia meridional y el Pacífico                5,1            5,9               8,1              8,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uropa y Asia central … … -                                                   -7,1              6,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Zona del euro                                        3,1             2,1              1,5              1,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mérica Latina y el Caribe                   3,2           -0,6              0,9               3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Oriente Medio y África septentrional    2,8            0,5              2,6              3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sia meridional                                      0,9            2,9              1,7              6,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África subsahariana                                1,2          -1,1             -2,9              3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undo                                                    1,9            1,3              0,3              2,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Fuente: Comisión Económica para América Latina y el Caribe (CEPAL), sobre la base de Banco Mun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¿Es la globalización un mito? (Cont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mercado mundial fue  bastante abierto entre 1870-191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tre 1914 1981, hubo una reducción de la apertura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de los años 80, se ha iniciado una nueva expansión del  comercio mundial pero, todavía,  las restricciones  comerciales superan las aperturas a nivel planeta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s Multinacionales de la globalizació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 empresas genuinamente transnacionales son escas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n parte de la estrategia económica de sus países de ori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el  caso de  las grandes potencias, las  multinacionales  forman parte de la política imper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capitales se mueven  de CENTRO  CENTRO y de PERIFERIA  a CENT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os flujos de capit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mayores flujos de  capital se dan entre los países del cent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co fluye hacia los países de la perife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comercio también se  centra  más fuertemente en el eje: EE.UU., Japón, Europ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cién comienza  a incorporarse Asia emergente China, La Ind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ransnacionales y Flujos Tota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 las 500 empresas más grandes del planeta, les pertenece  1/3 del comercio mundial; 3/4 de los intercambios financieros y 4/5 de los intercambios  tecnológicos y servic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as compañías  multiplicaron por 7 su comercio, pasando de 721 mil millones a 5.2 billones (dólares)  entre 1980- 199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ese período el número de empleados NO AUMENTÓ, se mantuvo en 42 mill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LUJOS TOTA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uena parte del comercio mundial corresponde  al intercambio entre las mismas  empresas en diversos países:  entre el 40-50 %  de las exportaciones norteamericanas son destinadas a filiales de multinacionales de su paí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volumen de  Inversión Directa de las multinacionales alcanza los 2 billones y EE.UU. Recibió el 25 % de las inversiones en una déc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lujos tota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racias a la  desregulación de los flujos financieros adoptados por Gran Bretaña  y EE.UU. a fines de los 80,  el intercambio financiero pasó de  18.000 millones en 1970 a  1500 billones en 199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lamente  el 3% de esto corresponde a intercambio de bienes y servicios reales. El resto se destina  a  la inversión y especulación financie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clusió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comercio internacional es menos global de lo que se  dice. Era más global entre  1860-1914, en que Inglaterra  exportaba e importaba el 50% de los bienes producidos o consum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ualmente el comercio exterior de EE.UU. Es del 13 %, el de la Unión Europea con el mundo es del 10 %  y en América Latina es todavía infer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davía el 85 %  de la producción se destina al mercado inter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1T22:11:12Z</dcterms:created>
  <dc:creator>Hugo Latorre</dc:creator>
  <dc:description/>
  <dc:language>en-US</dc:language>
  <cp:lastModifiedBy>María Asunción</cp:lastModifiedBy>
  <dcterms:modified xsi:type="dcterms:W3CDTF">2016-12-06T22:30:04Z</dcterms:modified>
  <cp:revision>58</cp:revision>
  <dc:subject/>
  <dc:title>NOTAS  SOBRE LA GLOBALIZACIÓN.</dc:title>
</cp:coreProperties>
</file>