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F58-4418-4C83-B243-B1EE7FDE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21B-7DC8-4138-9F2C-D6837D95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8F6-6E67-4F5E-B72C-D2AABF3E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351-F93C-432C-9709-FBA9EBBC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757-9A7A-4465-9516-48EFA61E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7C4-48FC-4022-BC79-0F16B7D6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7E0-9684-4C55-8E96-F17B039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A3F-345E-4723-A565-FCF87748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099-2B64-46D8-AED6-084ADBE0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99E-5FE5-46B5-A906-43C30C59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538-A91A-484E-95E1-B69D8088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517-0C2D-40B7-95B6-377A88A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E493-5899-4358-B0FE-1A170002BAA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OTAS  SOBRE LA GLOBALIZ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é  es la GLOB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ómo se GLOBALI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iénes se GLOBALIZAN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é se GLOBALI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 se globaliz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En primer lugar se globalizan los flujos de capitales  oportunis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También se globalizan las telecomunic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Junto a estas, se  globalizan  las modas y las opiniones sobre lo que se hace y piensa en el mundo (Cultura, hegemonía ideológic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NO  se globaliz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) La dirección de los nego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) La tecnología como domin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) Las ut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) La mano de o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) Los nichos  cautivos na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) La equidad tribut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) La distribución del ingreso por el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s  totale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.000 son  las multinacionales repartidas por el mu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an parte de la producción y el comercio corresponden a las 500 más gran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s  500, 157 son Norteamericanas, 168 son Europeas y 119 Japonesas, Las restantes son de Corea y Taiw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Mercado Financi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acias a la desregulación financiera aupada por Inglaterra (Thatcher) y EE.UU (Reagan) en 1978, los flujos de capitales pasaron de US$ 18 mil millones a  US$ 1.500 billones cada día (84 ve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AMENTE EL 3%  CORRESPONDE  A TRANSACCIONES DE BIENES Y SERVICIOS RE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 Comunica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unión Internacional de Telecomunicaciones estima que la utilización de internet se duplica cada año, desde hace una década (1988) y que, en torno al año 2000, unos  110 millones de ordenadores estaban ya  conectados a la red., lo cual implicará una base de 300 millones de usuarios (hoy superan 1/3 de la población mundia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Comunica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PNUD: en 1998 existían unos  100 millones de usuarios de internet y que llegaría a los  700 millones en el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ercio electrónico que  sumaba US$ 2.600 millones en  1996, superará los 300 miles de millones en el 20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MPLEO:América La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980       1990         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B      (-0.8)    3.2 (1.8)      1.3 (-0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EA       2.9      2.6               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L.   2.6      2.2               1.6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 ) = PIB percáp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epal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OBREZA en A. LATINA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orcentaj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980    1990    1997    1999    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4.2      41.0       35.5     35.3     37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5.0      17.7       14.4     13.9     15.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Equidad y el Crecim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990 al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HILE                  URUGU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PI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5%                                      28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scenso de la pobr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0%                                    53%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3 Rectángulo"/>
          <p:cNvSpPr/>
          <p:nvPr/>
        </p:nvSpPr>
        <p:spPr>
          <a:xfrm>
            <a:off x="0" y="0"/>
            <a:ext cx="1018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dro I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RECIMIENTO REAL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En porcentaj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PAL /   DAES      FMI          Banco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008         2009 a        2009 a            2009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ndo                                    1,9            -2,2            -0,8                -2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onomías desarrolladas         0,5           -3,5            -3,2                -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onomías en desarrollo         5,4             1,9             2,1                  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os Unidos                        0,4           -2,5            -2,5                 -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apón                                        0,7           -5,6            -5,3                 -6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na del euro                           0,7           -4,1            -3,9                 -4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na                                        9,0            8,1              8,7                 6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érica Latina y el Caribe      4,1           -1,8             -2,3                -2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ente: Comisión Económica para América Latina y el Caribe (CEPAL), sobre la base de información de JP Morg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s la globalización un mit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mito de la globalización habrá un sólo mercado y este mercado  será mundi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 intercambio sería total y sin fronteras, con lo cual las naciones dejarían de tener sen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personas serían ciudadanos económicos del mundo. Compradores y vendedores en el mercado mundial ú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0" y="404640"/>
            <a:ext cx="98283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ASAS DE CRECIMIENTO DEL PRODUCTO INTERNO BRUTO PER CÁ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L MUNDO Y SUS REGIONES, 1970-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(En porcentajes y millones de dólares de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970-1980 1981-1991 1992-2002 2003-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dos Unidos                                     1,9            2,0               0,2              1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sia meridional y el Pacífico                5,1            5,9               8,1              8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uropa y Asia central … … -                                                   -7,1              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Zona del euro                                        3,1             2,1              1,5              1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mérica Latina y el Caribe                   3,2           -0,6              0,9               3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iente Medio y África septentrional    2,8            0,5              2,6              3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ia meridional                                      0,9            2,9              1,7              6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frica subsahariana                                1,2          -1,1             -2,9              3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undo                                                    1,9            1,3              0,3              2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uente: Comisión Económica para América Latina y el Caribe (CEPAL), sobre la base de Banco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s la globalización un mito? (Cont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mercado mundial fue  bastante abierto entre 1870-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e 1914 1981, hubo una reducción de la apertur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de los años 80, se ha iniciado una nueva expansión del  comercio mundial pero, todavía,  las restricciones  comerciales superan las aperturas a nivel plane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Multinacionales de la globaliz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 empresas genuinamente transnacionales son esc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n parte de la estrategia económica de sus países de ori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 caso de  las grandes potencias, las  multinacionales  forman parte de la política imp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capitales se mueven  de CENTRO  CENTRO y de PERIFERIA  a CEN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s flujos de capit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mayores flujos de  capital se dan entre los países del cen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o fluye hacia los países de la perif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ercio también se  centra  más fuertemente en el eje: EE.UU., Japón, Euro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ién comienza  a incorporarse Asia emergente China, La In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nsnacionales y Flujos Tot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s 500 empresas más grandes del planeta, les pertenece  1/3 del comercio mundial; 3/4 de los intercambios financieros y 4/5 de los intercambios  tecnológicos y serv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s compañías  multiplicaron por 7 su comercio, pasando de 721 mil millones a 5.2 billones (dólares)  entre 1980-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se período el número de empleados NO AUMENTÓ, se mantuvo en 42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S TOT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uena parte del comercio mundial corresponde  al intercambio entre las mismas  empresas en diversos países:  entre el 40-50 %  de las exportaciones norteamericanas son destinadas a filiales de multinacionales de su paí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volumen de  Inversión Directa de las multinacionales alcanza los 2 billones y EE.UU. Recibió el 25 % de las inversiones en una dé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s tot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cias a la  desregulación de los flujos financieros adoptados por Gran Bretaña  y EE.UU. a fines de los 80,  el intercambio financiero pasó de  18.000 millones en 1970 a  1500 billones en 19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amente  el 3% de esto corresponde a intercambio de bienes y servicios reales. El resto se destina  a  la inversión y especulación financi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lu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mercio internacional es menos global de lo que se  dice. Era más global entre  1860-1914, en que Inglaterra  exportaba e importaba el 50% de los bienes producidos o consum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mente el comercio exterior de EE.UU. Es del 13 %, el de la Unión Europea con el mundo es del 10 %  y en América Latina es todavía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vía el 85 %  de la producción se destina al mercado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1T22:11:12Z</dcterms:created>
  <dc:creator>Hugo Latorre</dc:creator>
  <dc:description/>
  <dc:language>en-US</dc:language>
  <cp:lastModifiedBy>María Asunción</cp:lastModifiedBy>
  <dcterms:modified xsi:type="dcterms:W3CDTF">2016-12-06T22:30:04Z</dcterms:modified>
  <cp:revision>58</cp:revision>
  <dc:subject/>
  <dc:title>NOTAS  SOBRE LA GLOBALIZACIÓN.</dc:title>
</cp:coreProperties>
</file>