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BCFD-77C0-4436-96AE-E721E980A4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E92E-97D5-4A64-98ED-EB26B2A658C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EBDE-61F4-4C7C-A251-C123A5A3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B173-2576-462C-89E5-E8DE7CF9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8527-F65B-4D24-B253-FBD541B1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A804-662B-46C6-ACFB-68E753A9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B6D4-9241-46EE-ABC4-6B65CA84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E4BE-FA28-4ACC-B7D2-8DB103C8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9256-386B-4D97-9271-1E101229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80B3-09F3-4A64-AC2E-327523BC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8167-7335-4A1A-93C7-1D40F2C2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C9B5-6838-4725-BF85-F6374ECB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C628-390B-4B7B-92B8-E1486290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551B-A19B-4ADD-B239-E99065A1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22E3-2E8A-409F-8F90-C7237588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A2AA-E6A5-434F-A6EE-4F5924C9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32E7-D767-44C2-8977-620D9C3E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DDC9-CBA6-487A-B7C3-47A235B5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37EE-BEC4-4576-8C5F-5484322E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4296-FC98-4708-817F-52E1A450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873E-853C-445E-850B-1F069A4B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12AC-24D3-48DA-B240-21D33C8A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C644-7092-4C1E-9F78-590A3078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2D9D-F1DB-4736-BAF0-CE422436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A2CD-8F06-47E1-8C31-CE0DE80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0211-A077-4C7B-BFBB-4B73B6C8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602D-BD13-4725-9CC5-ABDB4A91F72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CC07-8B84-4A69-B2F6-08D78FFD052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 tributación en la minerí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13000" y="4160520"/>
            <a:ext cx="7532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Julián Alcayaga Oliva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conomista, abog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CFG Globalización, economía minera y nueva economí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iversidad de Chile, Octubre 201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24080" y="990720"/>
            <a:ext cx="2592360" cy="1439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5580000" y="3357720"/>
            <a:ext cx="2592360" cy="1439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826920" y="3429000"/>
            <a:ext cx="2592720" cy="1440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2339640" y="1773360"/>
            <a:ext cx="863640" cy="151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5867280" y="1844640"/>
            <a:ext cx="936720" cy="129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348000" y="458136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 rot="18026400">
            <a:off x="1852560" y="22438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porte de capital 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 rot="17993400">
            <a:off x="2279520" y="24192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uesto 3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 rot="3432000">
            <a:off x="5480640" y="2105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Utilidad, sin impue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780000" y="4210200"/>
            <a:ext cx="1655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réditos 80%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uesto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635280" y="112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sa Matr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258920" y="378936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inera Chil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2000" y="3500280"/>
            <a:ext cx="2160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iliales Financi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ermudas, Bah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. Virg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219320" y="228600"/>
            <a:ext cx="69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INICIO CICLO ELUSIÓN-EVA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2600" y="103320"/>
            <a:ext cx="612144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os Precios de Transf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128600"/>
            <a:ext cx="845676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paso de transformar el concentrado en cobre refinado, se van cargando “más costos” a los procesos, que pasan a ser  transferencia de utilidades para las empresas relacionadas que realizan estos procesos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4360" y="3429000"/>
            <a:ext cx="2160360" cy="1079640"/>
          </a:xfrm>
          <a:prstGeom prst="rect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227640" y="3429000"/>
            <a:ext cx="2160720" cy="1079640"/>
          </a:xfrm>
          <a:prstGeom prst="rect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3708360" y="3429000"/>
            <a:ext cx="1871640" cy="1224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84360" y="34290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.000 T Concentrado 3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851280" y="3500280"/>
            <a:ext cx="187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letes seguros fundición, refin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icipación en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372360" y="342900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2.000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bre Ref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916360" y="400536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724360" y="3933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320" y="150480"/>
            <a:ext cx="67057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Ventas en Mercados de Fut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7440" y="1103400"/>
            <a:ext cx="892656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rtículo 31 inciso primero de la ley de la Renta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ble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39640" y="2997360"/>
            <a:ext cx="2160720" cy="1079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372360" y="2997360"/>
            <a:ext cx="2160360" cy="1079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2771640" y="364500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10080" y="304632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es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372360" y="2997360"/>
            <a:ext cx="19429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pra Op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0.000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S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$ 1,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9640" y="2997360"/>
            <a:ext cx="19432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enta Op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0.000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S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$ 0,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11280" y="4786200"/>
            <a:ext cx="81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gregar: “ incluidas las pérdidas en los mercados de futuro de metales, o del mercado de futuros de cualquier otro producto, o mercados similares que determine el Servi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7800" y="457200"/>
            <a:ext cx="8393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roducción, Consumo y Precio del Co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6680" y="1600200"/>
          <a:ext cx="8777160" cy="4708440"/>
        </p:xfrm>
        <a:graphic>
          <a:graphicData uri="http://schemas.openxmlformats.org/drawingml/2006/table">
            <a:tbl>
              <a:tblPr/>
              <a:tblGrid>
                <a:gridCol w="5384880"/>
                <a:gridCol w="1104840"/>
                <a:gridCol w="1155600"/>
                <a:gridCol w="1131840"/>
              </a:tblGrid>
              <a:tr h="6364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ción Chil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3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o mun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0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6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4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cim. Producción Chil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cim. Consumo mun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8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cio del cob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4"/>
          <p:cNvSpPr/>
          <p:nvPr/>
        </p:nvSpPr>
        <p:spPr>
          <a:xfrm>
            <a:off x="291960" y="6149880"/>
            <a:ext cx="87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Porcentaje en Producción Mundial                30,0       36,7        32,3</a:t>
            </a:r>
            <a:r>
              <a:rPr b="0" lang="es-ES_tradnl" sz="1800" spc="-1" strike="noStrike">
                <a:solidFill>
                  <a:srgbClr val="3399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49200" y="457200"/>
          <a:ext cx="8586720" cy="5753160"/>
        </p:xfrm>
        <a:graphic>
          <a:graphicData uri="http://schemas.openxmlformats.org/drawingml/2006/table">
            <a:tbl>
              <a:tblPr/>
              <a:tblGrid>
                <a:gridCol w="3738600"/>
                <a:gridCol w="2424240"/>
                <a:gridCol w="2423880"/>
              </a:tblGrid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BUTACIÓN     MINE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UESTO A LA REN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Escondida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7.939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2.240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ña Inés de Collahu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2.513.14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.453.3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Candel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.799.33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6.425.48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El Ab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.658.36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.071.76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Los Pelamb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4.085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4.620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lo American Sur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9.945.2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1.028.25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glo American Norte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7.107.0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9.255.3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Zaldivar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1.198.4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9.030.16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Cerro Colorado Ltd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.454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.719.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era Quebrada Blanca S.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817.3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.611.72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.541.517.05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.483.455.08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79440" y="946080"/>
          <a:ext cx="8156520" cy="5310360"/>
        </p:xfrm>
        <a:graphic>
          <a:graphicData uri="http://schemas.openxmlformats.org/drawingml/2006/table">
            <a:tbl>
              <a:tblPr/>
              <a:tblGrid>
                <a:gridCol w="2795400"/>
                <a:gridCol w="2908440"/>
                <a:gridCol w="2033640"/>
                <a:gridCol w="419040"/>
              </a:tblGrid>
              <a:tr h="1081800">
                <a:tc gridSpan="4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ARACION CODELCO PRIVAD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Año 20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DUC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Codel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Privad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es de 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1.73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3.5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N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17.50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26.10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BUTAC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Millones 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7.03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2.48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34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Precio cob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3,9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78f0"/>
                          </a:solidFill>
                          <a:latin typeface="Arial"/>
                        </a:rPr>
                        <a:t>US$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56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Título"/>
          <p:cNvSpPr/>
          <p:nvPr/>
        </p:nvSpPr>
        <p:spPr>
          <a:xfrm>
            <a:off x="395280" y="11592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ff0000"/>
                </a:solidFill>
                <a:latin typeface="Arial"/>
              </a:rPr>
              <a:t>Utilidades e impuestos 10 mayores mineras, 2010 y 201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4120" y="1413000"/>
          <a:ext cx="7932960" cy="4751280"/>
        </p:xfrm>
        <a:graphic>
          <a:graphicData uri="http://schemas.openxmlformats.org/drawingml/2006/table">
            <a:tbl>
              <a:tblPr/>
              <a:tblGrid>
                <a:gridCol w="2387520"/>
                <a:gridCol w="1387440"/>
                <a:gridCol w="1386000"/>
                <a:gridCol w="1386000"/>
                <a:gridCol w="1386000"/>
              </a:tblGrid>
              <a:tr h="55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MPRES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tilidades antes Impt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MPUESTOS A LA RE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antos Cop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0.041.6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9.776.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.107.0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glo Amer. S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117.325.0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47.216.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9.945.2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aldiv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12.932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9.752.0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1.198.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.725.9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ndel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22.349.0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0.709.0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2.799.3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1.322.8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or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90.907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74.9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.454.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llahua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661.842.0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2.469.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2.513.1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3.555.6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Quebrada Bl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7.749.3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7.778.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.817.3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scondi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634.93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411.42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7.939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9.65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s Pelamb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200.502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41.686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74.08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1.808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CM El A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1.519.8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.230.7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5.658.3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.950.103.1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36.038.8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41.517.2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3.064.4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érdi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44.278.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492360" y="1557360"/>
            <a:ext cx="56516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Firmado entre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Frei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y Menem e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97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aprobado por el Parlamento el año 200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Permite la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propiedad Minera de Extranjeros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en zonas fronterizas prohibi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Permitía la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salida por Chile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a los yacimientos argentin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Se creaba un Área de Operaciones  en toda la cordillera Chileno-Argentina, 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  <a:ea typeface="Arial"/>
              </a:rPr>
              <a:t>bajo jurisdicción de las Mineras</a:t>
            </a:r>
            <a:r>
              <a:rPr b="1" lang="es-ES_tradnl" sz="1800" spc="-1" strike="noStrike">
                <a:solidFill>
                  <a:srgbClr val="ccecff"/>
                </a:solidFill>
                <a:latin typeface="Arial"/>
                <a:ea typeface="Arial"/>
              </a:rPr>
              <a:t>. Se creaba un País Virt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492360" y="4675320"/>
            <a:ext cx="5651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requerimiento de inconstitucionalidad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, presentado por 13 senadores el año 2000, impidió que se creara un </a:t>
            </a:r>
            <a:r>
              <a:rPr b="1" lang="es-ES_tradnl" sz="1600" spc="-1" strike="noStrike">
                <a:solidFill>
                  <a:srgbClr val="cc0000"/>
                </a:solidFill>
                <a:latin typeface="Arial"/>
                <a:ea typeface="Arial"/>
              </a:rPr>
              <a:t>País Virtual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en nuestra Cordillera, e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impidió la salida por Chile a los yacimientos mineros argentin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600360" y="96048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  <a:ea typeface="Arial"/>
              </a:rPr>
              <a:t>Tratado Minero con Argen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302760"/>
            <a:ext cx="8893080" cy="576360"/>
          </a:xfrm>
          <a:prstGeom prst="rect">
            <a:avLst/>
          </a:prstGeom>
          <a:solidFill>
            <a:srgbClr val="808080">
              <a:alpha val="26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ero hay aún más concesiones en Democra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552920" y="3419640"/>
            <a:ext cx="38160" cy="1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313080" cy="5832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1676520" y="457200"/>
            <a:ext cx="70102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ffffff"/>
                </a:solidFill>
                <a:latin typeface="Arial"/>
              </a:rPr>
              <a:t>El engaño del royalty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2 Objeto"/>
          <p:cNvGraphicFramePr/>
          <p:nvPr/>
        </p:nvGraphicFramePr>
        <p:xfrm>
          <a:off x="790560" y="1413000"/>
          <a:ext cx="8388360" cy="532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2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413000"/>
                    <a:ext cx="8388360" cy="5324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79280" y="260280"/>
          <a:ext cx="864072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640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684360" y="5877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 no es un productor más, sino la ún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  <a:ea typeface="Arial"/>
              </a:rPr>
              <a:t>SUPERPOTENCIA MUNDIAL DEL COB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334152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3 Rectángulo"/>
          <p:cNvSpPr/>
          <p:nvPr/>
        </p:nvSpPr>
        <p:spPr>
          <a:xfrm>
            <a:off x="3449520" y="1305000"/>
            <a:ext cx="5413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HILE, con una superficie de 742.000 km2,  el 0,5 % de la superficie terr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Arial"/>
                <a:ea typeface="Arial"/>
              </a:rPr>
              <a:t>Concentra entre el 40-50% de los recursos explotables de cobre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 una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  <a:ea typeface="Arial"/>
              </a:rPr>
              <a:t>anomalía de la naturalez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un país tan pequeño concentre la riqueza mineral más importante después del petró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Arial"/>
                <a:ea typeface="Arial"/>
              </a:rPr>
              <a:t>Chi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 el principal exportador mundial de cobre desde el año 2000, con un 45%, superior al peso de la OPEP en petróle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4 Rectángulo"/>
          <p:cNvSpPr/>
          <p:nvPr/>
        </p:nvSpPr>
        <p:spPr>
          <a:xfrm>
            <a:off x="1687680" y="419040"/>
            <a:ext cx="68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EL COBRE, UNA RIQUEZA EXTRAORD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ffc000"/>
                </a:solidFill>
                <a:latin typeface="Arial"/>
              </a:rPr>
              <a:t>El cobre es irremplazabl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68200" y="1541520"/>
            <a:ext cx="861084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Desde hace más de 60 años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aluminio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viene reemplazando al cobre en la transmisión eléctrica de alta te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Hace más de 50 años que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plástico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compite con el cobre en el reemplazo de las cañerías de fierro en la constr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70000"/>
              <a:buFont typeface="Bookman Old Style"/>
              <a:buChar char="•"/>
              <a:tabLst>
                <a:tab algn="l" pos="10358136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Más de 40 años que l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Bookman Old Style"/>
                <a:ea typeface="Courier New"/>
              </a:rPr>
              <a:t>fibra de óptica</a:t>
            </a:r>
            <a:r>
              <a:rPr b="1" lang="es-CL" sz="20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viene reemplazando al cobre en las telecomunic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A pesar de estos </a:t>
            </a:r>
            <a:r>
              <a:rPr b="1" lang="es-CL" sz="2400" spc="-1" strike="noStrike">
                <a:solidFill>
                  <a:srgbClr val="ffff00"/>
                </a:solidFill>
                <a:latin typeface="Bookman Old Style"/>
                <a:ea typeface="Courier New"/>
              </a:rPr>
              <a:t>"peligrosos substitutos"</a:t>
            </a:r>
            <a:r>
              <a:rPr b="1" lang="es-CL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, el consumo de cobre se ha sextuplicado en los últimos 5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7 años, pasando su consumo de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3,2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millones de Ton. en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1953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, a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22,6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 millones el </a:t>
            </a:r>
            <a:r>
              <a:rPr b="1" lang="es-ES" sz="2400" spc="-1" strike="noStrike">
                <a:solidFill>
                  <a:srgbClr val="3399ff"/>
                </a:solidFill>
                <a:latin typeface="Bookman Old Style"/>
                <a:ea typeface="Courier New"/>
              </a:rPr>
              <a:t>2015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  <a:ea typeface="Courier New"/>
              </a:rPr>
              <a:t>.</a:t>
            </a:r>
            <a:r>
              <a:rPr b="1" lang="es-E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0920" y="984240"/>
          <a:ext cx="8713800" cy="5397480"/>
        </p:xfrm>
        <a:graphic>
          <a:graphicData uri="http://schemas.openxmlformats.org/drawingml/2006/table">
            <a:tbl>
              <a:tblPr/>
              <a:tblGrid>
                <a:gridCol w="2466720"/>
                <a:gridCol w="1665360"/>
                <a:gridCol w="1668600"/>
                <a:gridCol w="1309680"/>
                <a:gridCol w="1603440"/>
              </a:tblGrid>
              <a:tr h="6397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r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0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lo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amb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3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un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8080"/>
                      </a:solidFill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6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24000" y="0"/>
            <a:ext cx="8820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forme SII a Comisión Tributación Minera del Senado. Año 20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76320" y="1170000"/>
          <a:ext cx="8991360" cy="47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70000"/>
                    <a:ext cx="89913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95400" y="5943600"/>
            <a:ext cx="5124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Declaraciones formularios 22, 29 y 5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*) Cifras a Ju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/   Sobre base reti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1233360"/>
            <a:ext cx="9144000" cy="5624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-423720" y="404640"/>
            <a:ext cx="9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¿ CUANTAS MINERAS PAGARON IMPUESTO A LA RENT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475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Rectángulo"/>
          <p:cNvSpPr/>
          <p:nvPr/>
        </p:nvSpPr>
        <p:spPr>
          <a:xfrm>
            <a:off x="836640" y="1166760"/>
            <a:ext cx="770076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LEGO LA  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s-ES_tradnl" sz="36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s-ES_tradnl" sz="36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ES_tradnl" sz="3600" spc="-1" strike="noStrike">
                <a:solidFill>
                  <a:srgbClr val="59c1ff"/>
                </a:solidFill>
                <a:latin typeface="Arial"/>
              </a:rPr>
              <a:t>A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Ley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9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junio de 1990, el gobierno de Patricio Alywin, aprueba su primera Reforma Tributaria, con el objetivo central de  aumentar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"transitoriamen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el IV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16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 18 %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y aumentar el impuesto de 1era categorí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10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 15 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sta misma ley, pero en secreto y sin discusión, se suprime el Impuesto a la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Renta Presunt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las empresas de la gran minería y se le reemplaza por el Impuesto a la </a:t>
            </a:r>
            <a:r>
              <a:rPr b="1" lang="es-ES_tradnl" sz="2400" spc="-1" strike="noStrike">
                <a:solidFill>
                  <a:srgbClr val="ff00ff"/>
                </a:solidFill>
                <a:latin typeface="Arial"/>
              </a:rPr>
              <a:t>Renta Efectiva.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Esto quiere decir que el impuesto se paga solo si la empresa tiene 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tilidades. ¿Qué hicieron las mineras?.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Nunca más declararon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Se inauguran las leyes voladores de l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                    </a:t>
            </a:r>
            <a:r>
              <a:rPr b="0" lang="es-CL" sz="3000" spc="-1" strike="noStrike">
                <a:solidFill>
                  <a:srgbClr val="ff3300"/>
                </a:solidFill>
                <a:latin typeface="Book Antiqua"/>
              </a:rPr>
              <a:t>CONSECUENCIA.</a:t>
            </a: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3000"/>
            </a:b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                     Sobreproducci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s-CL" sz="3000" spc="-1" strike="noStrike">
                <a:solidFill>
                  <a:srgbClr val="ffffff"/>
                </a:solidFill>
                <a:latin typeface="Book Antiqua"/>
              </a:rPr>
              <a:t>n mundial de Cob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0" y="2527200"/>
          <a:ext cx="9144000" cy="304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91440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45:17Z</dcterms:created>
  <dc:creator>Maga</dc:creator>
  <dc:description/>
  <dc:language>en-US</dc:language>
  <cp:lastModifiedBy>María Asunción</cp:lastModifiedBy>
  <dcterms:modified xsi:type="dcterms:W3CDTF">2016-12-06T22:12:47Z</dcterms:modified>
  <cp:revision>152</cp:revision>
  <dc:subject/>
  <dc:title>Diapositiva 1</dc:title>
</cp:coreProperties>
</file>