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02D-8627-4B53-84EB-50FA48764C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E86-0415-4DDF-96F4-9C4E1FFAED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4D81-DD39-4921-8B54-337E0F29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FD7B-2C98-4297-90F7-0D01DB5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EF8C-C848-4A80-881D-55E2EB97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FE8A-297F-4348-9A7A-0EE0CA14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C0A7-4468-48E5-A949-3DA18E71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C18-A862-4E23-A8DA-66D6644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363-0356-4E2D-979F-ADB3508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270-DE89-44B3-B784-D096F85B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7D0-AE40-42F6-85F4-7A8C50BF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5DC-DE93-4274-9B31-7FD4F67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4805-ED79-48E2-BA74-2A1A6486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D215-EBE2-475D-B06D-25DD372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126-3E51-4AAC-AE63-353BA52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8BCA-60C3-412D-AFD5-F42277C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060-5522-4A92-B69E-6629792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824-196F-4E5E-A968-6D50699B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43FE-9B0B-4818-AAA8-92B97954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62B3-05B7-4A11-B021-D8E987FE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BF83-1733-4267-B02C-A2255A15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12F3-4DF0-452A-A3E6-C60ABA84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5C32-645B-40CA-A6D0-DF5A2E09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A036-9C7E-47F4-A203-B13E0D8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AE6D-1F8A-4813-9912-68E33A3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FD23-909A-4389-9E32-E5834AD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350B-BFCA-4702-BB2B-27DC5F89BAD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BB7-509C-4BDD-B1F8-9737480FD8C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 tributación en la minerí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13000" y="4160520"/>
            <a:ext cx="7532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Julián Alcayaga Oliva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conomista, abog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FG Globalización, economía minera y nueva econom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iversidad de Chile, Octubre 201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 rot="18026400">
            <a:off x="1852560" y="22438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porte de capital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 rot="17993400">
            <a:off x="2279520" y="24192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uesto 3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 rot="3432000">
            <a:off x="5480640" y="2105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tilidad, sin im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780000" y="4210200"/>
            <a:ext cx="165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réditos 80%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uesto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35280" y="112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s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58920" y="378936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inera Chil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2000" y="3500280"/>
            <a:ext cx="216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iliale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ermudas, Bah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. Vir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19320" y="228600"/>
            <a:ext cx="69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NICIO CICLO ELUSIÓN-EV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2600" y="103320"/>
            <a:ext cx="6121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Precios de Trans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128600"/>
            <a:ext cx="845676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3429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.000 T Concentrado 3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851280" y="3500280"/>
            <a:ext cx="187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letes seguros fundición, refin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icipación en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37236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2.000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bre Ref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150480"/>
            <a:ext cx="67057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7440" y="1103400"/>
            <a:ext cx="89265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rtículo 31 inciso primero de la ley de la Renta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le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10080" y="30463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372360" y="2997360"/>
            <a:ext cx="19429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pr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1,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9640" y="2997360"/>
            <a:ext cx="19432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t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0,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786200"/>
            <a:ext cx="81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egar: “ incluidas las pérdidas en los mercados de futuro de metales, o del mercado de futuros de cualquier otro producto, o mercados similares que determine el Servi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7800" y="457200"/>
            <a:ext cx="8393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6680" y="1600200"/>
          <a:ext cx="8777160" cy="4708440"/>
        </p:xfrm>
        <a:graphic>
          <a:graphicData uri="http://schemas.openxmlformats.org/drawingml/2006/table">
            <a:tbl>
              <a:tblPr/>
              <a:tblGrid>
                <a:gridCol w="5384880"/>
                <a:gridCol w="1104840"/>
                <a:gridCol w="1155600"/>
                <a:gridCol w="1131840"/>
              </a:tblGrid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4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4"/>
          <p:cNvSpPr/>
          <p:nvPr/>
        </p:nvSpPr>
        <p:spPr>
          <a:xfrm>
            <a:off x="291960" y="6149880"/>
            <a:ext cx="87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9200" y="457200"/>
          <a:ext cx="8586720" cy="5753160"/>
        </p:xfrm>
        <a:graphic>
          <a:graphicData uri="http://schemas.openxmlformats.org/drawingml/2006/table">
            <a:tbl>
              <a:tblPr/>
              <a:tblGrid>
                <a:gridCol w="3738600"/>
                <a:gridCol w="2424240"/>
                <a:gridCol w="242388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BUTACIÓN     MINE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A LA R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scondida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7.93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2.24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ña Inés de Collahu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2.513.14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.453.3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andel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.799.33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6.425.4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l Ab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.658.36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.071.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Los Pela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4.085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4.62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Sur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.945.2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1.028.25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Norte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7.107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.255.3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Zaldivar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.198.4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.030.1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erro Colorado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.454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.71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Quebrada Blanca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817.3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.611.72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541.517.0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483.455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Año 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0000"/>
                </a:solidFill>
                <a:latin typeface="Arial"/>
              </a:rPr>
              <a:t>Utilidades e impuestos 10 mayores mineras, 2010 y 201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4120" y="1413000"/>
          <a:ext cx="7932960" cy="475128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.950.103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36.038.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41.517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3.064.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492360" y="1557360"/>
            <a:ext cx="5651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irmado entr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re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Menem e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97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probado por el Parlamento el año 20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e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propiedad Minera de Extranjero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en zonas fronterizas prohib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ía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salida por Chile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a los yacimientos argenti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Se creaba un Área de Operaciones  en toda la cordillera Chileno-Argentina,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bajo jurisdicción de las Minera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. Se creaba un País Virt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492360" y="4675320"/>
            <a:ext cx="5651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querimiento de inconstitucionalidad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, presentado por 13 senadores el año 2000, impidió que se creara un </a:t>
            </a:r>
            <a:r>
              <a:rPr b="1" lang="es-ES_tradnl" sz="1600" spc="-1" strike="noStrike">
                <a:solidFill>
                  <a:srgbClr val="cc0000"/>
                </a:solidFill>
                <a:latin typeface="Arial"/>
                <a:ea typeface="Arial"/>
              </a:rPr>
              <a:t>País Virtual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en nuestra Cordillera, 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impidió la salida por Chile a los yacimientos mineros argen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00360" y="9604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  <a:ea typeface="Arial"/>
              </a:rPr>
              <a:t>Tratado Minero con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8893080" cy="576360"/>
          </a:xfrm>
          <a:prstGeom prst="rect">
            <a:avLst/>
          </a:prstGeom>
          <a:solidFill>
            <a:srgbClr val="808080">
              <a:alpha val="26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ero hay aún más concesiones en Democra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552920" y="3419640"/>
            <a:ext cx="38160" cy="1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313080" cy="583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676520" y="457200"/>
            <a:ext cx="70102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ffffff"/>
                </a:solidFill>
                <a:latin typeface="Arial"/>
              </a:rPr>
              <a:t>El engaño del royalty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2 Objeto"/>
          <p:cNvGraphicFramePr/>
          <p:nvPr/>
        </p:nvGraphicFramePr>
        <p:xfrm>
          <a:off x="790560" y="1413000"/>
          <a:ext cx="8388360" cy="53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413000"/>
                    <a:ext cx="8388360" cy="532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79280" y="260280"/>
          <a:ext cx="86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6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84360" y="587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 no es un productor más, sino la ún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  <a:ea typeface="Arial"/>
              </a:rPr>
              <a:t>SUPERPOTENCIA MUNDIAL DEL CO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334152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3 Rectángulo"/>
          <p:cNvSpPr/>
          <p:nvPr/>
        </p:nvSpPr>
        <p:spPr>
          <a:xfrm>
            <a:off x="3449520" y="1305000"/>
            <a:ext cx="541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HILE, con una superficie de 742.000 km2,  el 0,5 % de la superficie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oncentra entre el 40-50% de los recursos explotables de cobre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 una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  <a:ea typeface="Arial"/>
              </a:rPr>
              <a:t>anomalía de la naturalez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un país tan pequeño concentre la riqueza mineral más importante después del petró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hi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 el principal exportador mundial de cobre desde el año 2000, con un 45%, superior al peso de la OPEP en petróle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1687680" y="419040"/>
            <a:ext cx="68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COBRE, UNA RIQUEZA EXTRAORD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c000"/>
                </a:solidFill>
                <a:latin typeface="Arial"/>
              </a:rPr>
              <a:t>El cobre es irremplazab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8200" y="1541520"/>
            <a:ext cx="86108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Desde hace más de 60 años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alumini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 transmisión eléctrica de alta 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Hace más de 50 años que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plástic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compite con el cobre en el reemplazo de las cañerías de fierro en la constr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Más de 40 años que l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fibra de óptica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s telecomun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A pesar de estos </a:t>
            </a:r>
            <a:r>
              <a:rPr b="1" lang="es-CL" sz="2400" spc="-1" strike="noStrike">
                <a:solidFill>
                  <a:srgbClr val="ffff00"/>
                </a:solidFill>
                <a:latin typeface="Bookman Old Style"/>
                <a:ea typeface="Courier New"/>
              </a:rPr>
              <a:t>"peligrosos substitutos"</a:t>
            </a: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el consumo de cobre se ha sextuplicado en los últimos 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7 años, pasando su consumo de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3,2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de Ton. en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1953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a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2,6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el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01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.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984240"/>
          <a:ext cx="8713800" cy="5397480"/>
        </p:xfrm>
        <a:graphic>
          <a:graphicData uri="http://schemas.openxmlformats.org/drawingml/2006/table">
            <a:tbl>
              <a:tblPr/>
              <a:tblGrid>
                <a:gridCol w="2466720"/>
                <a:gridCol w="1665360"/>
                <a:gridCol w="1668600"/>
                <a:gridCol w="1309680"/>
                <a:gridCol w="1603440"/>
              </a:tblGrid>
              <a:tr h="639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0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3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un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0"/>
            <a:ext cx="88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forme SII a Comisión Tributación Minera del Senado. Año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76320" y="1170000"/>
          <a:ext cx="899136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70000"/>
                    <a:ext cx="8991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95400" y="5943600"/>
            <a:ext cx="51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Declaraciones formularios 22, 29 y 5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*) Cifras a Ju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/   Sobre base reti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233360"/>
            <a:ext cx="9144000" cy="5624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423720" y="404640"/>
            <a:ext cx="9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 CUANTAS MINERAS PAGARON IMPUESTO A LA RENT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Rectángulo"/>
          <p:cNvSpPr/>
          <p:nvPr/>
        </p:nvSpPr>
        <p:spPr>
          <a:xfrm>
            <a:off x="836640" y="1166760"/>
            <a:ext cx="770076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LEGO LA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s-ES_tradnl" sz="36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s-ES_tradnl" sz="36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59c1ff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Ley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9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junio de 1990, el gobierno de Patricio Alywin, aprueba su primera Reforma Tributaria, con el objetivo central de  aumentar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"transitoriame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l IV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8 %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aumentar el impuesto de 1era categorí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5 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sta misma ley, pero en secreto y sin discusión, se suprime el Impuesto a la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Renta Presunt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as empresas de la gran minería y se le reemplaza por el Impuesto a la </a:t>
            </a: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Renta Efectiva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sto quiere decir que el impuesto se paga solo si la empresa tiene 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tilidades. ¿Qué hicieron las mineras?.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Nunca más declararo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e inauguran las leyes voladores de l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0" lang="es-CL" sz="3000" spc="-1" strike="noStrike">
                <a:solidFill>
                  <a:srgbClr val="ff3300"/>
                </a:solidFill>
                <a:latin typeface="Book Antiqua"/>
              </a:rPr>
              <a:t>CONSECUENCIA.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Sobreproducci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n mundial de Cob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0" y="2527200"/>
          <a:ext cx="91440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91440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45:17Z</dcterms:created>
  <dc:creator>Maga</dc:creator>
  <dc:description/>
  <dc:language>en-US</dc:language>
  <cp:lastModifiedBy>María Asunción</cp:lastModifiedBy>
  <dcterms:modified xsi:type="dcterms:W3CDTF">2016-12-06T22:12:47Z</dcterms:modified>
  <cp:revision>152</cp:revision>
  <dc:subject/>
  <dc:title>Diapositiva 1</dc:title>
</cp:coreProperties>
</file>