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jpeg" ContentType="image/jpeg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89BA-6222-480A-B541-3A8B107691F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0DD9-2E65-474B-8A4A-8490DBBE802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F0C29-D169-43EF-93E3-780862B67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4C4BA-6D1D-4BCD-938C-A941183A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0782B-803A-403F-AF15-3EC49D19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2D3AC-93C0-47B7-8777-8ACFF2300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2D45-9D97-486A-9FA5-020FC8620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4D12-2146-4CCD-9A77-21441FF9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5723-0EFA-4151-8C1F-2423752D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2C4A-9D64-4E89-8E1A-BFF17E10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2793-DB0C-4312-B896-0BBBD418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2898-2689-4109-B36F-6DA2E9D9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2BD8-FE5B-4045-B505-BF6C7B4F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D55F1-D80F-4129-BA33-564FC10C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EC8E-85AE-4530-9569-CD44CE8C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D05E-87AF-436D-BA65-A602DE16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9338-552A-4DA4-900B-31F231CE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2E97-D4D6-4201-ABCC-3EE44345A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0AA9-0058-4B26-A31B-2FFC2C72B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70692-F0A4-4C3A-8AB3-D2FEAA21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BDEE9-D2C0-408E-B311-BC81BAD4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EBBD8-B6BA-43E4-8D26-408681AE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CDDAC-C01E-41CF-995B-E014AB25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6E44F-B48E-467A-99F5-7DFA91DF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8DF79-A761-4BA6-8E6A-22295670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72CB7-B16F-44DE-BB7F-04025A9E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5124-298C-4723-8751-CC142500A947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1031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1032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1033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34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035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036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037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038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039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040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041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042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043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044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045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104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994E-134A-45CA-9E27-7525D868EADE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La tributación en la minerí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413000" y="4160520"/>
            <a:ext cx="75326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Julián Alcayaga Olivar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Economista, abogad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CFG Globalización, economía minera y nueva economí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Universidad de Chile, Octubre 201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Oval 2"/>
          <p:cNvSpPr/>
          <p:nvPr/>
        </p:nvSpPr>
        <p:spPr>
          <a:xfrm>
            <a:off x="3124080" y="990720"/>
            <a:ext cx="2592360" cy="1439640"/>
          </a:xfrm>
          <a:prstGeom prst="ellipse">
            <a:avLst/>
          </a:prstGeom>
          <a:solidFill>
            <a:srgbClr val="0078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3"/>
          <p:cNvSpPr/>
          <p:nvPr/>
        </p:nvSpPr>
        <p:spPr>
          <a:xfrm>
            <a:off x="5580000" y="3357720"/>
            <a:ext cx="2592360" cy="1439640"/>
          </a:xfrm>
          <a:prstGeom prst="ellipse">
            <a:avLst/>
          </a:prstGeom>
          <a:solidFill>
            <a:srgbClr val="0078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826920" y="3429000"/>
            <a:ext cx="2592720" cy="1440000"/>
          </a:xfrm>
          <a:prstGeom prst="ellipse">
            <a:avLst/>
          </a:prstGeom>
          <a:solidFill>
            <a:srgbClr val="0078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5"/>
          <p:cNvSpPr/>
          <p:nvPr/>
        </p:nvSpPr>
        <p:spPr>
          <a:xfrm flipH="1">
            <a:off x="2339640" y="1773360"/>
            <a:ext cx="863640" cy="1511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5867280" y="1844640"/>
            <a:ext cx="936720" cy="1297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3348000" y="4581360"/>
            <a:ext cx="2376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 rot="18026400">
            <a:off x="1852560" y="2243880"/>
            <a:ext cx="19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porte de capital 2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 rot="17993400">
            <a:off x="2279520" y="2419200"/>
            <a:ext cx="14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Impuesto 3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 rot="3432000">
            <a:off x="5480640" y="2105280"/>
            <a:ext cx="18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Utilidad, sin impues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3780000" y="4210200"/>
            <a:ext cx="16556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réditos 80%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mpuesto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3635280" y="1125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asa Matri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1258920" y="378936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inera Chile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6012000" y="3500280"/>
            <a:ext cx="2160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Filiales Financie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Bermudas, Baha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I. Virge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219320" y="228600"/>
            <a:ext cx="69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INICIO CICLO ELUSIÓN-EVA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52600" y="103320"/>
            <a:ext cx="612144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os Precios de Transfere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4920" y="1128600"/>
            <a:ext cx="8456760" cy="18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el paso de transformar el concentrado en cobre refinado, se van cargando “más costos” a los procesos, que pasan a ser  transferencia de utilidades para las empresas relacionadas que realizan estos procesos.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684360" y="3429000"/>
            <a:ext cx="2160360" cy="1079640"/>
          </a:xfrm>
          <a:prstGeom prst="rect">
            <a:avLst/>
          </a:prstGeom>
          <a:solidFill>
            <a:srgbClr val="0078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6227640" y="3429000"/>
            <a:ext cx="2160720" cy="1079640"/>
          </a:xfrm>
          <a:prstGeom prst="rect">
            <a:avLst/>
          </a:prstGeom>
          <a:solidFill>
            <a:srgbClr val="0078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6"/>
          <p:cNvSpPr/>
          <p:nvPr/>
        </p:nvSpPr>
        <p:spPr>
          <a:xfrm>
            <a:off x="3708360" y="3429000"/>
            <a:ext cx="1871640" cy="1224000"/>
          </a:xfrm>
          <a:prstGeom prst="ellipse">
            <a:avLst/>
          </a:prstGeom>
          <a:solidFill>
            <a:srgbClr val="0078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684360" y="3429000"/>
            <a:ext cx="21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100.000 T Concentrado 3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3851280" y="3500280"/>
            <a:ext cx="1871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letes seguros fundición, refin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articipación en el pre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6372360" y="3429000"/>
            <a:ext cx="223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32.000 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bre Refin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2916360" y="4005360"/>
            <a:ext cx="792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11"/>
          <p:cNvSpPr/>
          <p:nvPr/>
        </p:nvSpPr>
        <p:spPr>
          <a:xfrm>
            <a:off x="5724360" y="393372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09320" y="150480"/>
            <a:ext cx="670572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Ventas en Mercados de Fut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17440" y="1103400"/>
            <a:ext cx="8926560" cy="13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just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artículo 31 inciso primero de la ley de la Renta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stablec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No se deducirán los gastos incurridos en la adquisición, mantención o explotación de bienes no destinados al giro del negocio o empres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539640" y="2997360"/>
            <a:ext cx="2160720" cy="10792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372360" y="2997360"/>
            <a:ext cx="2160360" cy="10792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2771640" y="3645000"/>
            <a:ext cx="3529080" cy="0"/>
          </a:xfrm>
          <a:prstGeom prst="line">
            <a:avLst/>
          </a:prstGeom>
          <a:ln w="57240">
            <a:solidFill>
              <a:srgbClr val="ffffff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610080" y="3046320"/>
            <a:ext cx="23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res m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6372360" y="2997360"/>
            <a:ext cx="194292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mpra Op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10.000 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 US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$ 1,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539640" y="2997360"/>
            <a:ext cx="194328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Venta Op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10.000 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 US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$ 0,9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611280" y="4786200"/>
            <a:ext cx="811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gregar: “ incluidas las pérdidas en los mercados de futuro de metales, o del mercado de futuros de cualquier otro producto, o mercados similares que determine el Servicio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7800" y="457200"/>
            <a:ext cx="8393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Producción, Consumo y Precio del Cob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66680" y="1600200"/>
          <a:ext cx="8777160" cy="4708440"/>
        </p:xfrm>
        <a:graphic>
          <a:graphicData uri="http://schemas.openxmlformats.org/drawingml/2006/table">
            <a:tbl>
              <a:tblPr/>
              <a:tblGrid>
                <a:gridCol w="5384880"/>
                <a:gridCol w="1104840"/>
                <a:gridCol w="1155600"/>
                <a:gridCol w="1131840"/>
              </a:tblGrid>
              <a:tr h="6364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Black"/>
                          <a:ea typeface="Arial"/>
                        </a:rPr>
                        <a:t>19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Black"/>
                          <a:ea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Black"/>
                          <a:ea typeface="Arial"/>
                        </a:rPr>
                        <a:t>20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ducción Chile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3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26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sumo mund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.0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.6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.4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5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64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recim. Producción Chile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0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-1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recim. Consumo mund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5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8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cio del cob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50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Text Box 44"/>
          <p:cNvSpPr/>
          <p:nvPr/>
        </p:nvSpPr>
        <p:spPr>
          <a:xfrm>
            <a:off x="291960" y="6149880"/>
            <a:ext cx="87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99ff"/>
                </a:solidFill>
                <a:latin typeface="Verdana"/>
              </a:rPr>
              <a:t>Porcentaje en Producción Mundial                30,0       36,7        32,3</a:t>
            </a:r>
            <a:r>
              <a:rPr b="0" lang="es-ES_tradnl" sz="1800" spc="-1" strike="noStrike">
                <a:solidFill>
                  <a:srgbClr val="3399ff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349200" y="457200"/>
          <a:ext cx="8586720" cy="5753160"/>
        </p:xfrm>
        <a:graphic>
          <a:graphicData uri="http://schemas.openxmlformats.org/drawingml/2006/table">
            <a:tbl>
              <a:tblPr/>
              <a:tblGrid>
                <a:gridCol w="3738600"/>
                <a:gridCol w="2424240"/>
                <a:gridCol w="2423880"/>
              </a:tblGrid>
              <a:tr h="45972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IBUTACIÓN     MINER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MPRES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PUESTO A LA REN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es-CL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es-CL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0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era Escondida Ltda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57.939.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12.240.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oña Inés de Collahua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52.513.148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43.453.33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era Candelar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2.799.337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6.425.486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era El Ab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5.658.367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0.071.761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era Los Pelamb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4.085.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4.620.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glo American Sur S.A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9.945.26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1.028.256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glo American Norte S.A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7.107.088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9.255.36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era Zaldivar Ltda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1.198.46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9.030.163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era Cerro Colorado Ltda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9.454.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4.719.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era Quebrada Blanca S.A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.817.388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2.611.72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.541.517.05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.483.455.088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379440" y="946080"/>
          <a:ext cx="8156520" cy="5310360"/>
        </p:xfrm>
        <a:graphic>
          <a:graphicData uri="http://schemas.openxmlformats.org/drawingml/2006/table">
            <a:tbl>
              <a:tblPr/>
              <a:tblGrid>
                <a:gridCol w="2795400"/>
                <a:gridCol w="2908440"/>
                <a:gridCol w="2033640"/>
                <a:gridCol w="419040"/>
              </a:tblGrid>
              <a:tr h="1081800">
                <a:tc gridSpan="4"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ARACION CODELCO PRIVAD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2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Año 201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 gridSpan="2"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48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DUC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Codel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Privad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Miles de 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1.73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3.528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NT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Millones US$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17.50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26.109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RIBUTAC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Millones US$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7.03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2.48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Precio cob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3,99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US$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56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1 Título"/>
          <p:cNvSpPr/>
          <p:nvPr/>
        </p:nvSpPr>
        <p:spPr>
          <a:xfrm>
            <a:off x="395280" y="115920"/>
            <a:ext cx="83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ff0000"/>
                </a:solidFill>
                <a:latin typeface="Arial"/>
              </a:rPr>
              <a:t>Utilidades e impuestos 10 mayores mineras, 2010 y 2015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84120" y="1413000"/>
          <a:ext cx="7932960" cy="4751280"/>
        </p:xfrm>
        <a:graphic>
          <a:graphicData uri="http://schemas.openxmlformats.org/drawingml/2006/table">
            <a:tbl>
              <a:tblPr/>
              <a:tblGrid>
                <a:gridCol w="2387520"/>
                <a:gridCol w="1387440"/>
                <a:gridCol w="1386000"/>
                <a:gridCol w="1386000"/>
                <a:gridCol w="1386000"/>
              </a:tblGrid>
              <a:tr h="55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MPRES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Utilidades antes Impt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MPUESTOS A LA REN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311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antos Copp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30.041.6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99.776.7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7.107.0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nglo Amer. Su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117.325.0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147.216.97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89.945.2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Zaldiv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12.932.1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9.752.0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1.198.4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6.725.9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andela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22.349.0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80.709.0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2.799.33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1.322.87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lorad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90.907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274.9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9.454.1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llahuas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661.842.0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82.469.6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52.513.1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3.555.6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Quebrada Blan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57.749.3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87.778.97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0.817.3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scondi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.634.935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411.422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57.939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39.652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os Pelambr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200.502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41.686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74.085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61.808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CM El Ab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21.519.8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9.230.7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5.658.3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496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.950.103.1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536.038.8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541.517.2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23.064.48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érdid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344.278.4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3492360" y="1557360"/>
            <a:ext cx="565164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Firmado entre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Frei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 y Menem en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997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aprobado por el Parlamento el año 2000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s-ES_tradnl" sz="1800" spc="-1" strike="noStrike">
                <a:solidFill>
                  <a:srgbClr val="ccecff"/>
                </a:solidFill>
                <a:latin typeface="Arial"/>
                <a:ea typeface="Arial"/>
              </a:rPr>
              <a:t>Permite la </a:t>
            </a:r>
            <a:r>
              <a:rPr b="1" lang="es-ES_tradnl" sz="1800" spc="-1" strike="noStrike">
                <a:solidFill>
                  <a:srgbClr val="cc0000"/>
                </a:solidFill>
                <a:latin typeface="Arial"/>
                <a:ea typeface="Arial"/>
              </a:rPr>
              <a:t>propiedad Minera de Extranjeros</a:t>
            </a:r>
            <a:r>
              <a:rPr b="1" lang="es-ES_tradnl" sz="1800" spc="-1" strike="noStrike">
                <a:solidFill>
                  <a:srgbClr val="ccecff"/>
                </a:solidFill>
                <a:latin typeface="Arial"/>
                <a:ea typeface="Arial"/>
              </a:rPr>
              <a:t> en zonas fronterizas prohibid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ecff"/>
                </a:solidFill>
                <a:latin typeface="Arial"/>
                <a:ea typeface="Arial"/>
              </a:rPr>
              <a:t>  </a:t>
            </a:r>
            <a:r>
              <a:rPr b="1" lang="es-ES_tradnl" sz="1800" spc="-1" strike="noStrike">
                <a:solidFill>
                  <a:srgbClr val="ccecff"/>
                </a:solidFill>
                <a:latin typeface="Arial"/>
                <a:ea typeface="Arial"/>
              </a:rPr>
              <a:t>Permitía la </a:t>
            </a:r>
            <a:r>
              <a:rPr b="1" lang="es-ES_tradnl" sz="1800" spc="-1" strike="noStrike">
                <a:solidFill>
                  <a:srgbClr val="cc0000"/>
                </a:solidFill>
                <a:latin typeface="Arial"/>
                <a:ea typeface="Arial"/>
              </a:rPr>
              <a:t>salida por Chile</a:t>
            </a:r>
            <a:r>
              <a:rPr b="1" lang="es-ES_tradnl" sz="1800" spc="-1" strike="noStrike">
                <a:solidFill>
                  <a:srgbClr val="ccecff"/>
                </a:solidFill>
                <a:latin typeface="Arial"/>
                <a:ea typeface="Arial"/>
              </a:rPr>
              <a:t> a los yacimientos argentin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ecff"/>
                </a:solidFill>
                <a:latin typeface="Arial"/>
                <a:ea typeface="Arial"/>
              </a:rPr>
              <a:t>  </a:t>
            </a:r>
            <a:r>
              <a:rPr b="1" lang="es-ES_tradnl" sz="1800" spc="-1" strike="noStrike">
                <a:solidFill>
                  <a:srgbClr val="ccecff"/>
                </a:solidFill>
                <a:latin typeface="Arial"/>
                <a:ea typeface="Arial"/>
              </a:rPr>
              <a:t>Se creaba un Área de Operaciones  en toda la cordillera Chileno-Argentina, </a:t>
            </a:r>
            <a:r>
              <a:rPr b="1" lang="es-ES_tradnl" sz="1800" spc="-1" strike="noStrike">
                <a:solidFill>
                  <a:srgbClr val="cc0000"/>
                </a:solidFill>
                <a:latin typeface="Arial"/>
                <a:ea typeface="Arial"/>
              </a:rPr>
              <a:t>bajo jurisdicción de las Mineras</a:t>
            </a:r>
            <a:r>
              <a:rPr b="1" lang="es-ES_tradnl" sz="1800" spc="-1" strike="noStrike">
                <a:solidFill>
                  <a:srgbClr val="ccecff"/>
                </a:solidFill>
                <a:latin typeface="Arial"/>
                <a:ea typeface="Arial"/>
              </a:rPr>
              <a:t>. Se creaba un País Virtu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492360" y="4675320"/>
            <a:ext cx="5651640" cy="19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requerimiento de inconstitucionalidad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, presentado por 13 senadores el año 2000, impidió que se creara un </a:t>
            </a:r>
            <a:r>
              <a:rPr b="1" lang="es-ES_tradnl" sz="1600" spc="-1" strike="noStrike">
                <a:solidFill>
                  <a:srgbClr val="cc0000"/>
                </a:solidFill>
                <a:latin typeface="Arial"/>
                <a:ea typeface="Arial"/>
              </a:rPr>
              <a:t>País Virtual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 en nuestra Cordillera, e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impidió la salida por Chile a los yacimientos mineros argentin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3600360" y="96048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00"/>
                </a:solidFill>
                <a:latin typeface="Arial"/>
                <a:ea typeface="Arial"/>
              </a:rPr>
              <a:t>Tratado Minero con Argen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560" y="302760"/>
            <a:ext cx="8893080" cy="576360"/>
          </a:xfrm>
          <a:prstGeom prst="rect">
            <a:avLst/>
          </a:prstGeom>
          <a:solidFill>
            <a:srgbClr val="808080">
              <a:alpha val="26000"/>
            </a:srgbClr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Pero hay aún más concesiones en Democrac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4552920" y="3419640"/>
            <a:ext cx="38160" cy="18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3313080" cy="583236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1676520" y="457200"/>
            <a:ext cx="701028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ffffff"/>
                </a:solidFill>
                <a:latin typeface="Arial"/>
              </a:rPr>
              <a:t>El engaño del royalty 2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2 Objeto"/>
          <p:cNvGraphicFramePr/>
          <p:nvPr/>
        </p:nvGraphicFramePr>
        <p:xfrm>
          <a:off x="790560" y="1413000"/>
          <a:ext cx="8388360" cy="532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2 Objeto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0560" y="1413000"/>
                    <a:ext cx="8388360" cy="53244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Object 2"/>
          <p:cNvGraphicFramePr/>
          <p:nvPr/>
        </p:nvGraphicFramePr>
        <p:xfrm>
          <a:off x="179280" y="260280"/>
          <a:ext cx="8640720" cy="640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0280"/>
                    <a:ext cx="8640720" cy="64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684360" y="58770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HILE no es un productor más, sino la ún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Arial"/>
                <a:ea typeface="Arial"/>
              </a:rPr>
              <a:t>SUPERPOTENCIA MUNDIAL DEL COB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08000" y="1123920"/>
            <a:ext cx="3341520" cy="4753080"/>
          </a:xfrm>
          <a:prstGeom prst="rect">
            <a:avLst/>
          </a:prstGeom>
          <a:ln w="0">
            <a:noFill/>
          </a:ln>
        </p:spPr>
      </p:pic>
      <p:sp>
        <p:nvSpPr>
          <p:cNvPr id="125" name="3 Rectángulo"/>
          <p:cNvSpPr/>
          <p:nvPr/>
        </p:nvSpPr>
        <p:spPr>
          <a:xfrm>
            <a:off x="3449520" y="1305000"/>
            <a:ext cx="54133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CHILE, con una superficie de 742.000 km2,  el 0,5 % de la superficie terrest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ecff"/>
                </a:solidFill>
                <a:latin typeface="Arial"/>
                <a:ea typeface="Arial"/>
              </a:rPr>
              <a:t>Concentra entre el 40-50% de los recursos explotables de cobre del mun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s una </a:t>
            </a:r>
            <a:r>
              <a:rPr b="0" lang="es-CL" sz="2000" spc="-1" strike="noStrike">
                <a:solidFill>
                  <a:srgbClr val="cc0000"/>
                </a:solidFill>
                <a:latin typeface="Arial"/>
                <a:ea typeface="Arial"/>
              </a:rPr>
              <a:t>anomalía de la naturalez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que un país tan pequeño concentre la riqueza mineral más importante después del petróle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ecff"/>
                </a:solidFill>
                <a:latin typeface="Arial"/>
                <a:ea typeface="Arial"/>
              </a:rPr>
              <a:t>Chil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es el principal exportador mundial de cobre desde el año 2000, con un 45%, superior al peso de la OPEP en petróleo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4 Rectángulo"/>
          <p:cNvSpPr/>
          <p:nvPr/>
        </p:nvSpPr>
        <p:spPr>
          <a:xfrm>
            <a:off x="1687680" y="419040"/>
            <a:ext cx="68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Arial"/>
              </a:rPr>
              <a:t>EL COBRE, UNA RIQUEZA EXTRAORDIN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ffc000"/>
                </a:solidFill>
                <a:latin typeface="Arial"/>
              </a:rPr>
              <a:t>El cobre es irremplazabl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268200" y="1541520"/>
            <a:ext cx="861084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70000"/>
              <a:buFont typeface="Bookman Old Style"/>
              <a:buChar char="•"/>
              <a:tabLst>
                <a:tab algn="l" pos="10358136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Desde hace más de 60 años el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Bookman Old Style"/>
                <a:ea typeface="Courier New"/>
              </a:rPr>
              <a:t>aluminio</a:t>
            </a:r>
            <a:r>
              <a:rPr b="1" lang="es-CL" sz="20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 viene reemplazando al cobre en la transmisión eléctrica de alta tens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70000"/>
              <a:buFont typeface="Bookman Old Style"/>
              <a:buChar char="•"/>
              <a:tabLst>
                <a:tab algn="l" pos="10358136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Hace más de 50 años que el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Bookman Old Style"/>
                <a:ea typeface="Courier New"/>
              </a:rPr>
              <a:t>plástico</a:t>
            </a:r>
            <a:r>
              <a:rPr b="1" lang="es-CL" sz="20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 compite con el cobre en el reemplazo de las cañerías de fierro en la construc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70000"/>
              <a:buFont typeface="Bookman Old Style"/>
              <a:buChar char="•"/>
              <a:tabLst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70000"/>
              <a:buFont typeface="Bookman Old Style"/>
              <a:buChar char="•"/>
              <a:tabLst>
                <a:tab algn="l" pos="10358136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Más de 40 años que la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Bookman Old Style"/>
                <a:ea typeface="Courier New"/>
              </a:rPr>
              <a:t>fibra de óptica</a:t>
            </a:r>
            <a:r>
              <a:rPr b="1" lang="es-CL" sz="20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 viene reemplazando al cobre en las telecomunic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A pesar de estos </a:t>
            </a:r>
            <a:r>
              <a:rPr b="1" lang="es-CL" sz="2400" spc="-1" strike="noStrike">
                <a:solidFill>
                  <a:srgbClr val="ffff00"/>
                </a:solidFill>
                <a:latin typeface="Bookman Old Style"/>
                <a:ea typeface="Courier New"/>
              </a:rPr>
              <a:t>"peligrosos substitutos"</a:t>
            </a:r>
            <a:r>
              <a:rPr b="1" lang="es-CL" sz="24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, el consumo de cobre se ha sextuplicado en los últimos 5</a:t>
            </a:r>
            <a:r>
              <a:rPr b="1" lang="es-ES" sz="24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7 años, pasando su consumo de </a:t>
            </a:r>
            <a:r>
              <a:rPr b="1" lang="es-ES" sz="2400" spc="-1" strike="noStrike">
                <a:solidFill>
                  <a:srgbClr val="3399ff"/>
                </a:solidFill>
                <a:latin typeface="Bookman Old Style"/>
                <a:ea typeface="Courier New"/>
              </a:rPr>
              <a:t>3,2</a:t>
            </a:r>
            <a:r>
              <a:rPr b="1" lang="es-ES" sz="24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 millones de Ton. en </a:t>
            </a:r>
            <a:r>
              <a:rPr b="1" lang="es-ES" sz="2400" spc="-1" strike="noStrike">
                <a:solidFill>
                  <a:srgbClr val="3399ff"/>
                </a:solidFill>
                <a:latin typeface="Bookman Old Style"/>
                <a:ea typeface="Courier New"/>
              </a:rPr>
              <a:t>1953</a:t>
            </a:r>
            <a:r>
              <a:rPr b="1" lang="es-ES" sz="24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, a </a:t>
            </a:r>
            <a:r>
              <a:rPr b="1" lang="es-ES" sz="2400" spc="-1" strike="noStrike">
                <a:solidFill>
                  <a:srgbClr val="3399ff"/>
                </a:solidFill>
                <a:latin typeface="Bookman Old Style"/>
                <a:ea typeface="Courier New"/>
              </a:rPr>
              <a:t>22,6</a:t>
            </a:r>
            <a:r>
              <a:rPr b="1" lang="es-ES" sz="24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 millones el </a:t>
            </a:r>
            <a:r>
              <a:rPr b="1" lang="es-ES" sz="2400" spc="-1" strike="noStrike">
                <a:solidFill>
                  <a:srgbClr val="3399ff"/>
                </a:solidFill>
                <a:latin typeface="Bookman Old Style"/>
                <a:ea typeface="Courier New"/>
              </a:rPr>
              <a:t>2015</a:t>
            </a:r>
            <a:r>
              <a:rPr b="1" lang="es-ES" sz="24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.</a:t>
            </a:r>
            <a:r>
              <a:rPr b="1" lang="es-E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50920" y="984240"/>
          <a:ext cx="8713800" cy="5397480"/>
        </p:xfrm>
        <a:graphic>
          <a:graphicData uri="http://schemas.openxmlformats.org/drawingml/2006/table">
            <a:tbl>
              <a:tblPr/>
              <a:tblGrid>
                <a:gridCol w="2466720"/>
                <a:gridCol w="1665360"/>
                <a:gridCol w="1668600"/>
                <a:gridCol w="1309680"/>
                <a:gridCol w="1603440"/>
              </a:tblGrid>
              <a:tr h="63972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duc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su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port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t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808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3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2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,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8080"/>
                      </a:solidFill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,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dones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8080"/>
                      </a:solidFill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0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stral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8080"/>
                      </a:solidFill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7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us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8080"/>
                      </a:solidFill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5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nadá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8080"/>
                      </a:solidFill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9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2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lon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8080"/>
                      </a:solidFill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Zamb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8080"/>
                      </a:solidFill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9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8080"/>
                      </a:solidFill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0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1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8080"/>
                      </a:solidFill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.1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8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.3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Mun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8080"/>
                      </a:solidFill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.6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324000" y="0"/>
            <a:ext cx="882000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Informe SII a Comisión Tributación Minera del Senado. Año 200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Object 3"/>
          <p:cNvGraphicFramePr/>
          <p:nvPr/>
        </p:nvGraphicFramePr>
        <p:xfrm>
          <a:off x="76320" y="1170000"/>
          <a:ext cx="8991360" cy="476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170000"/>
                    <a:ext cx="8991360" cy="47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4"/>
          <p:cNvSpPr/>
          <p:nvPr/>
        </p:nvSpPr>
        <p:spPr>
          <a:xfrm>
            <a:off x="95400" y="5943600"/>
            <a:ext cx="51242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uente: Declaraciones formularios 22, 29 y 5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(*) Cifras a Jun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1/   Sobre base retir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0" y="1233360"/>
            <a:ext cx="9144000" cy="56246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-423720" y="404640"/>
            <a:ext cx="95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¿ CUANTAS MINERAS PAGARON IMPUESTO A LA RENTA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8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4751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1 Rectángulo"/>
          <p:cNvSpPr/>
          <p:nvPr/>
        </p:nvSpPr>
        <p:spPr>
          <a:xfrm>
            <a:off x="836640" y="1166760"/>
            <a:ext cx="7700760" cy="51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LLEGO LA   </a:t>
            </a: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s-ES_tradnl" sz="36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es-ES_tradnl" sz="3600" spc="-1" strike="noStrike">
                <a:solidFill>
                  <a:srgbClr val="00b050"/>
                </a:solidFill>
                <a:latin typeface="Arial"/>
              </a:rPr>
              <a:t>E</a:t>
            </a:r>
            <a:r>
              <a:rPr b="1" lang="es-ES_tradnl" sz="36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es-ES_tradnl" sz="3600" spc="-1" strike="noStrike">
                <a:solidFill>
                  <a:srgbClr val="00ff00"/>
                </a:solidFill>
                <a:latin typeface="Arial"/>
              </a:rPr>
              <a:t>R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s-ES_tradnl" sz="3600" spc="-1" strike="noStrike">
                <a:solidFill>
                  <a:srgbClr val="59c1ff"/>
                </a:solidFill>
                <a:latin typeface="Arial"/>
              </a:rPr>
              <a:t>A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 Ley </a:t>
            </a: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8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s-ES_tradnl" sz="2400" spc="-1" strike="noStrike">
                <a:solidFill>
                  <a:srgbClr val="00ff00"/>
                </a:solidFill>
                <a:latin typeface="Arial"/>
              </a:rPr>
              <a:t>9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de junio de 1990, el gobierno de Patricio Alywin, aprueba su primera Reforma Tributaria, con el objetivo central de  aumentar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"transitoriamente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el IVA de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16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 18 %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y aumentar el impuesto de 1era categoría de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10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 15 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esta misma ley, pero en secreto y sin discusión, se suprime el Impuesto a la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Renta Presunt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de las empresas de la gran minería y se le reemplaza por el Impuesto a la </a:t>
            </a:r>
            <a:r>
              <a:rPr b="1" lang="es-ES_tradnl" sz="2400" spc="-1" strike="noStrike">
                <a:solidFill>
                  <a:srgbClr val="ff00ff"/>
                </a:solidFill>
                <a:latin typeface="Arial"/>
              </a:rPr>
              <a:t>Renta Efectiva.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Esto quiere decir que el impuesto se paga solo si la empresa tiene 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CLAR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utilidades. ¿Qué hicieron las mineras?.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Nunca más declararon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util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Se inauguran las leyes voladores de lu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76212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s-CL" sz="3000" spc="-1" strike="noStrike">
                <a:solidFill>
                  <a:srgbClr val="ffffff"/>
                </a:solidFill>
                <a:latin typeface="Book Antiqua"/>
              </a:rPr>
              <a:t>                     </a:t>
            </a:r>
            <a:r>
              <a:rPr b="0" lang="es-CL" sz="3000" spc="-1" strike="noStrike">
                <a:solidFill>
                  <a:srgbClr val="ff3300"/>
                </a:solidFill>
                <a:latin typeface="Book Antiqua"/>
              </a:rPr>
              <a:t>CONSECUENCIA.</a:t>
            </a:r>
            <a:r>
              <a:rPr b="0" lang="es-CL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br>
              <a:rPr sz="3000"/>
            </a:br>
            <a:r>
              <a:rPr b="0" lang="es-CL" sz="3000" spc="-1" strike="noStrike">
                <a:solidFill>
                  <a:srgbClr val="ffffff"/>
                </a:solidFill>
                <a:latin typeface="Book Antiqua"/>
              </a:rPr>
              <a:t>                     Sobreproducci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es-CL" sz="3000" spc="-1" strike="noStrike">
                <a:solidFill>
                  <a:srgbClr val="ffffff"/>
                </a:solidFill>
                <a:latin typeface="Book Antiqua"/>
              </a:rPr>
              <a:t>n mundial de Cob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0" y="2527200"/>
          <a:ext cx="9144000" cy="304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27200"/>
                    <a:ext cx="914400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02:45:17Z</dcterms:created>
  <dc:creator>Maga</dc:creator>
  <dc:description/>
  <dc:language>en-US</dc:language>
  <cp:lastModifiedBy>María Asunción</cp:lastModifiedBy>
  <dcterms:modified xsi:type="dcterms:W3CDTF">2016-12-06T22:12:47Z</dcterms:modified>
  <cp:revision>152</cp:revision>
  <dc:subject/>
  <dc:title>Diapositiva 1</dc:title>
</cp:coreProperties>
</file>