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8F67-C713-4A7F-80E7-9D9D6FAA3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8C0B-51EE-428A-9D1C-26F1BD44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C559-EAAA-42B6-8745-0D41FDEDC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04DD-5E63-4705-BCA9-C7329D69D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D0CF-3771-4DC0-8B0E-2E2CB69D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5EE8-7677-4FFD-8285-19EA8332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F994-34CE-4B93-8CE2-7E15E2AA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C1EF-7520-4CCD-9CED-FA45B485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D1E4-B84B-4076-A09C-C208AB67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3DB8-EF72-4453-B9C1-435BC7AB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666B-ADCC-47E1-8647-62D2CB20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17EC-CB22-4563-B6EC-84BEEB8C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4C8A-DA95-47AA-B001-B3FAB2D3C51C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FUNDIR, REFINAR E INDUSTRIALIZAR EL COBRE EN CHI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ugo Latorre - Carlos To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rso Formació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lobalización, Economía minera y Nueva economí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iversidad de Ch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n tercer elemen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desarrollo tecnológico e industrial del cobre debe auspiciar  enlaces virtuo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.- Con industrias vinculadas a la minería (prestadoras de servicio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.- Con industrias derivadas (que usan insumos miner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.- Con universidades e institutos tecnológ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.- Con el desarrollo de las reg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 transnacionalización de CODELC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a política de transnacionalización  opuesta:  se usa el cobre para transnacionalizar empresas extranjeras, no para potenciar el desarrollo de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DELCO como empresa transna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Por qué transnacionalizar a CODELC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rque  desde esa posición define muchas potencialidades al desarrollo n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sicionamiento estratégico de Chile como gran poder productivo y de definición de mercados y precios, por tanto de utilidades may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rque un poder internacional como CODELCO a escala transnacional entrega al país capacidad de negociar  en buen pie diversos temas de interés para un desarrollo integral en otras ár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in embargo hay quienes desean privatizar  a CODEL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les son sus argument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.- Que el Estado no debe  intervenir en la economía (razón puramente ideológic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.- Que las inversiones privadas son necesarias (razón desvirtuad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3.- Que nos permite integrarnos a los mercados (razón supuest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.- Porque necesitamos los capitales externos (razón defraudad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5.- Que no tenemos capacidad para explotar solos el sector minero (razón no demostrad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Cuánto produce Chile en concentrad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hile está produciendo app. 6 millones de tons. de concentrado de co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nto se refina en Chi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rededor del 50% de la produc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 millones de t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nto se refina en el exterio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resto, app. 3 millones de t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Por qué no FyR la totalidad del mineral que se extrae en Chile?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que el Gobierno no quiere establecer una Política de Desarrollo Min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Por qué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que se cree en la libre iniciativa de los privados, como motor del desarrollo min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que se desea mantener buenas relaciones con los países consumidores de materias primas e inversionis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Cuánto pierde Chile por no refinar en el paí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re 1990-200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dejó de percibir: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US$ 3.500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mill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cio de la libra de cobre  a US$ 1,0. Cálculos  de Cochilc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*Desde el 2001 al 2010: se  habrá dejado de percibir US$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9.500 a 12.000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mill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otal de pérdidas para el período 1990-201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$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13.000 a 15.000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mill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Hugo Latorre, según cifras de Carlos Tomic. En “Royalty 2003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En qué más pierde Chi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empleos bien remuner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capacidad de negociación intern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rescate de los recursos incorporados a los concentrados (elevación de los costos): fletes, seguros, análisis químicos, créditos banca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integración productiva verti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desarrollo tecnológ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actividad productiva indust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Quién gana con no fundir ni refinar en Chi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accionistas de la empresa transnacional que es dueña de la Concesión (plena) minera, perpetua y gratu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ejecutivos de las empresas matrices transnacionales: bo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compañías aseguradoras de los embarques mineros (generalmente asociadas a las empresas matrices internacion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bancos que financian al fundidor extranjero (ide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empresas que exportan el producto, pues  imponen descuentos de hasta el 9% del valor real del min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refinerías extranjeras que reciben una sub-materia prima subsidiada desde Ch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empresas asociadas que extraen  el mineral  incorporado a los concentrados: molibdeno, oro, paladio, etc agregando valor en el extranj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DELCO ¿pública o privad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de el punto de vista de la producción de cobre, en 1971 CODELCO producía el 100% del cobre chileno (900.000 Toneladas año) y financiaba el 75% del presupuesto de la N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hora, después de la privatización, CODELCO produce el 26,5% del cobre chileno (1.300.000 Toneladas), pero aporta más de 25 mil millones de dólares en el período 2004-2008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FRAS PARA NO OLVI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Inversión Extranjera Directa, IED, y en particular las grandes mineras privadas, fundamentalmente extranjeras, que controlan el 72% de la producción de cobre de Chile, según el Banco Central, enviaron a sus casas matrices, SOLO por utilidades e intereses 81 mil millones de dólares, entre 2004 y 2008.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 se considera la “Depreciación Acelerada ”, el elevado costo de sus compras y servicios en el exterior y lo que se apropian por precios de transferencias entre filiales, el valor de lo enviado al exterior supera los 100 mil millones de dólares en este mismo período 2004-2008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dustrializar el cob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mplica dos  vertientes de desarrol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.- Corriente arriba: es el desarrollo de la investigación tecnológ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- Corriente abajo: es la aplicación productiva e industr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13:48:34Z</dcterms:created>
  <dc:creator>Hugo Latorre</dc:creator>
  <dc:description/>
  <dc:language>en-US</dc:language>
  <cp:lastModifiedBy>María Asunción</cp:lastModifiedBy>
  <dcterms:modified xsi:type="dcterms:W3CDTF">2016-12-06T22:18:39Z</dcterms:modified>
  <cp:revision>22</cp:revision>
  <dc:subject/>
  <dc:title>FUNDIR, REFINAR E INDUSTRIALIZAR EL COBRE EN CHILE.</dc:title>
</cp:coreProperties>
</file>