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A40E-144D-41BB-BB73-90DA31D74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519F-FB20-40F6-BE11-29466CFFF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6775-6082-4493-9B7E-A06406D42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ECF2-F84A-40AF-AF03-828AC0896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53E0-F3BE-4B5B-AF86-1A9E16A08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D2C6-22BC-4C90-9F1B-9D16AA65C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4177-41B3-44C7-8ABE-8BBA0C272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B90F-8E42-48AB-9EC6-AEF27C3AF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11B2-7CAB-4E68-90C0-BCC79F8DA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7904-865B-45B6-8271-F6110559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0522-1A3C-4262-B54C-38020DC8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6AE5-7185-4530-BC47-5C349E4D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8FB5E-615F-41E8-9E39-360663413D82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FUNDIR, REFINAR E INDUSTRIALIZAR EL COBRE EN CHI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ugo Latorre - Carlos To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rso Formación 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lobalización, Economía minera y Nueva economí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iversidad de Ch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0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Un tercer element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desarrollo tecnológico e industrial del cobre debe auspiciar  enlaces virtuos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.- Con industrias vinculadas a la minería (prestadoras de servicio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.- Con industrias derivadas (que usan insumos miner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.- Con universidades e institutos tecnológic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.- Con el desarrollo de las reg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 transnacionalización de CODELC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na política de transnacionalización  opuesta:  se usa el cobre para transnacionalizar empresas extranjeras, no para potenciar el desarrollo de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CODELCO como empresa transnac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Por qué transnacionalizar a CODELC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rque  desde esa posición define muchas potencialidades al desarrollo nac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sicionamiento estratégico de Chile como gran poder productivo y de definición de mercados y precios, por tanto de utilidades may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rque un poder internacional como CODELCO a escala transnacional entrega al país capacidad de negociar  en buen pie diversos temas de interés para un desarrollo integral en otras áre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in embargo hay quienes desean privatizar  a CODEL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uáles son sus argument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.- Que el Estado no debe  intervenir en la economía (razón puramente ideológic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2.- Que las inversiones privadas son necesarias (razón desvirtuad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3.- Que nos permite integrarnos a los mercados (razón supuest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4.- Porque necesitamos los capitales externos (razón defraudad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5.- Que no tenemos capacidad para explotar solos el sector minero (razón no demostrad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¿Cuánto produce Chile en concentrado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hile está produciendo app. 6 millones de tons. de concentrado de cob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uánto se refina en Chil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lrededor del 50% de la producc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3 millones de t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uánto se refina en el exterio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resto, app. 3 millones de t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¿Por qué no FyR la totalidad del mineral que se extrae en Chile?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orque el Gobierno no quiere establecer una Política de Desarrollo Min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Por qué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orque se cree en la libre iniciativa de los privados, como motor del desarrollo min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orque se desea mantener buenas relaciones con los países consumidores de materias primas e inversionist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¿Cuánto pierde Chile por no refinar en el paí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tre 1990-2000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dejó de percibir: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US$ 3.500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mill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cio de la libra de cobre  a US$ 1,0. Cálculos  de Cochilc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*Desde el 2001 al 2010: se  habrá dejado de percibir US$ 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9.500 a 12.000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mill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otal de pérdidas para el período 1990-201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S$ 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13.000 a 15.000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mill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Hugo Latorre, según cifras de Carlos Tomic. En “Royalty 2003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En qué más pierde Chi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empleos bien remuner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capacidad de negociación internac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rescate de los recursos incorporados a los concentrados (elevación de los costos): fletes, seguros, análisis químicos, créditos bancar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integración productiva vertic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desarrollo tecnológ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actividad productiva industr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¿Quién gana con no fundir ni refinar en Chi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os accionistas de la empresa transnacional que es dueña de la Concesión (plena) minera, perpetua y gratui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ejecutivos de las empresas matrices transnacionales: bon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compañías aseguradoras de los embarques mineros (generalmente asociadas a las empresas matrices internaciona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bancos que financian al fundidor extranjero (idem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empresas que exportan el producto, pues  imponen descuentos de hasta el 9% del valor real del mine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refinerías extranjeras que reciben una sub-materia prima subsidiada desde Ch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empresas asociadas que extraen  el mineral  incorporado a los concentrados: molibdeno, oro, paladio, etc agregando valor en el extranj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DELCO ¿pública o privad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sde el punto de vista de la producción de cobre, en 1971 CODELCO producía el 100% del cobre chileno (900.000 Toneladas año) y financiaba el 75% del presupuesto de la N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hora, después de la privatización, CODELCO produce el 26,5% del cobre chileno (1.300.000 Toneladas), pero aporta más de 25 mil millones de dólares en el período 2004-2008.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IFRAS PARA NO OLVID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Inversión Extranjera Directa, IED, y en particular las grandes mineras privadas, fundamentalmente extranjeras, que controlan el 72% de la producción de cobre de Chile, según el Banco Central, enviaron a sus casas matrices, SOLO por utilidades e intereses 81 mil millones de dólares, entre 2004 y 2008.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 se considera la “Depreciación Acelerada ”, el elevado costo de sus compras y servicios en el exterior y lo que se apropian por precios de transferencias entre filiales, el valor de lo enviado al exterior supera los 100 mil millones de dólares en este mismo período 2004-2008.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dustrializar el cob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mplica dos  vertientes de desarrol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1.- Corriente arriba: es el desarrollo de la investigación tecnológ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.- Corriente abajo: es la aplicación productiva e industr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13:48:34Z</dcterms:created>
  <dc:creator>Hugo Latorre</dc:creator>
  <dc:description/>
  <dc:language>en-US</dc:language>
  <cp:lastModifiedBy>María Asunción</cp:lastModifiedBy>
  <dcterms:modified xsi:type="dcterms:W3CDTF">2016-12-06T22:18:39Z</dcterms:modified>
  <cp:revision>22</cp:revision>
  <dc:subject/>
  <dc:title>FUNDIR, REFINAR E INDUSTRIALIZAR EL COBRE EN CHILE.</dc:title>
</cp:coreProperties>
</file>