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42FE0-2506-448B-8C4B-1FC8E7A381B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0048E-AEE7-4F09-AA3F-4A40E14C708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Word Development Indicators Bco Mundial 2003</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30338-D86A-4A62-9AF3-E1C71B0876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79771-523E-4AF5-A713-D0DBC1CD7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B2AB7-7CFD-4DAA-8484-02AF1BE37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F9F0F-E532-4B4D-AB82-D8A5C0416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6A84D-1192-43EB-BDB6-AE3C9DF85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21D8B-04AE-45AB-9B49-990576D2A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97AE8-4E54-4FA1-AA9A-1F42B3D49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B3F0D-B643-42A7-B0A4-B4A30FD00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0E44B-60E5-4AB2-B08E-530EE0D22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07EFA-AA47-425D-83DB-9F42151FC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C2898-218D-45EE-AA48-40F43E863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EF33B-F04C-4937-BE89-41E3BA6F8C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35C5F-546E-4700-970B-2D2569EC18C9}"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FESIONALES EN CHILE Y AMÉRICA LATINA.</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hile  sufre deficiencias  en términos cualitativos y cuantitativos respecto a los profesionales y técnicos, si se mira con su nivel de ingreso percápita y el nivel de desarrollo que  represen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IVEL DE REMUNERACIONES</a:t>
            </a:r>
            <a:br>
              <a:rPr sz="4000"/>
            </a:br>
            <a:r>
              <a:rPr b="0" lang="es-ES" sz="2800" spc="-1" strike="noStrike">
                <a:solidFill>
                  <a:srgbClr val="000000"/>
                </a:solidFill>
                <a:latin typeface="Arial"/>
              </a:rPr>
              <a:t>De los profesionales medidos por veces superior a la línea de pobreza.</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Chile           A.Lat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mu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medio           17.7             11.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ct. Product.    19.2             1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ct. Financi.     14.0             1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rv. Guberna.  10.6               7.8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asa de retorno de la 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hile             2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rgentina      1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olivia           14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rasil             19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lombia       18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éxico           13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co. Mundial 200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Déficit de profesionales en Chile.</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gún cálculos de Meller y Rappoport, Chile tendría  a 1999 un déficit de profesionales y técnicos, dentro del total  de la PEA, medido  a su nivel de desarrollo (ingreso percápita) del orden  del 14,3 % si se compara con países de desarrollo simil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r ello los profesionales  chilenos aparecen con un  más elevado nivel de productividad que sus pares en países de igual nivel de ingreso percápi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mparacion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se mide Chile  respecto a personas con E.S.(dentro de una población  entre 25 y 64 años, presenta un déficit de 14 % (inferi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ando se mide en base al Nº de  Graduados por cada 1000 Hbtes entre  24 y 35 años, el déficit de Chile es de 38,9%.</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se mide la población con ES entre 25 y 35 años, Chile presenta un déficit de 29.3 % respecto a países de igual desarroll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ume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odas las mediciones del capital humano proporcionan un déficit de capital huma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9 % de PyT ante  toda la fuerza labo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8% en la ES con pobla. entre 25 y 6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66 % si se mide el Nº de graduados por cada  1000 hbtes. Entre 24 y 35 añ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9 % si  se mide los de ES contra  población entre 25 y 35 añ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umen (cont.)</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altas tasas de retorno de la E.S. en Chile (mayores ingresos de profesionales) son  coherentes con la relación positiva estimada entre Ingreso e inversión en Educación Superi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a alta tasa de retorno, a su vez, es consistente con  el déficit de profesionales y técnicos que exhibe Chile, justamente en un período de expansión económ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Otras comparaciones.</a:t>
            </a:r>
            <a:br>
              <a:rPr sz="4000"/>
            </a:br>
            <a:r>
              <a:rPr b="0" lang="es-ES" sz="4000" spc="-1" strike="noStrike">
                <a:solidFill>
                  <a:srgbClr val="000000"/>
                </a:solidFill>
                <a:latin typeface="Arial"/>
              </a:rPr>
              <a:t>Población con educación superior completa (%)</a:t>
            </a:r>
            <a:endParaRPr b="0" lang="en-US" sz="4000" spc="-1" strike="noStrike">
              <a:solidFill>
                <a:srgbClr val="000000"/>
              </a:solidFill>
              <a:latin typeface="Arial"/>
            </a:endParaRPr>
          </a:p>
        </p:txBody>
      </p:sp>
      <p:sp>
        <p:nvSpPr>
          <p:cNvPr id="79"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rgentina, Chile, Uruguay, R. Checa, Malasia y Brasil:  (8 – 13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paña, Grecia:   (28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E.UU.,Corea y Bégica:  (33-35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nadá, Suecia:   (55 %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 desafío.</a:t>
            </a:r>
            <a:br>
              <a:rPr sz="4000"/>
            </a:b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cifras anteriores plantean el gran desafío  de los países de A.Latina, que deben dar un salto de más de  15 puntos  con los países de más inmediato estatus en la escala ascendente del desarrollo: (Grecia y Españ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OPCIÓN ESTRATÉGICA DE CHILE.</a:t>
            </a:r>
            <a:endParaRPr b="0" lang="en-US" sz="4400" spc="-1" strike="noStrike">
              <a:solidFill>
                <a:srgbClr val="000000"/>
              </a:solidFill>
              <a:latin typeface="Arial"/>
            </a:endParaRPr>
          </a:p>
        </p:txBody>
      </p:sp>
      <p:sp>
        <p:nvSpPr>
          <p:cNvPr id="51" name="PlaceHolder 2"/>
          <p:cNvSpPr>
            <a:spLocks noGrp="1"/>
          </p:cNvSpPr>
          <p:nvPr>
            <p:ph type="subTitle"/>
          </p:nvPr>
        </p:nvSpPr>
        <p:spPr>
          <a:xfrm>
            <a:off x="1402920" y="3573360"/>
            <a:ext cx="6697800" cy="247176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hile ha optado por una estrategia basada en la explotación de recursos naturales y  de baja remuneración de su mano de obra.</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 estrategia, que es la de la mayoría de A.Latina, requiere una dotación de mano de obra calificada que debe considerarse óptima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ál es esa dotación ópti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838080" algn="ct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TINA 1990-1999</a:t>
            </a:r>
            <a:br>
              <a:rPr sz="2400"/>
            </a:br>
            <a:r>
              <a:rPr b="0" lang="es-ES" sz="2400" spc="-1" strike="noStrike">
                <a:solidFill>
                  <a:srgbClr val="000000"/>
                </a:solidFill>
                <a:latin typeface="Arial"/>
              </a:rPr>
              <a:t>CALIFICACIÓN POBLACIÇON URBANA ENTRE 25-59 AÑOS (tasa crecimiento).</a:t>
            </a:r>
            <a:endParaRPr b="0" lang="en-US" sz="2400" spc="-1" strike="noStrike">
              <a:solidFill>
                <a:srgbClr val="000000"/>
              </a:solidFill>
              <a:latin typeface="Arial"/>
            </a:endParaRPr>
          </a:p>
        </p:txBody>
      </p:sp>
      <p:graphicFrame>
        <p:nvGraphicFramePr>
          <p:cNvPr id="53" name=""/>
          <p:cNvGraphicFramePr/>
          <p:nvPr/>
        </p:nvGraphicFramePr>
        <p:xfrm>
          <a:off x="395280" y="-7234200"/>
          <a:ext cx="8353440" cy="19399320"/>
        </p:xfrm>
        <a:graphic>
          <a:graphicData uri="http://schemas.openxmlformats.org/drawingml/2006/table">
            <a:tbl>
              <a:tblPr/>
              <a:tblGrid>
                <a:gridCol w="1658880"/>
                <a:gridCol w="1657440"/>
                <a:gridCol w="1657440"/>
                <a:gridCol w="1658880"/>
                <a:gridCol w="1720800"/>
              </a:tblGrid>
              <a:tr h="1229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Í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ÑO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OT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ÉCNICO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FESION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4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rgenti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90-9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rasi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90-9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5.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35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hi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90-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5.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lom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91-9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5.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7.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Ric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90-9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5.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7.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cuado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90-9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7.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7.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alvado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95-9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3.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éxic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89-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rugua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90-9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otal País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90-9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7.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1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4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3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cada de los 90.</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la década de los 90 se aprecia un acelerado incremento en la dotación de profesionales y técnicos en A. Lat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ritmo  de crecimiento agregado a sido del 6.6 %, a nivel desagregado ha sido de  6.3% y 7.3%. En Chile  las cifras han estado cerca del promedio con 5.4 para técnicos y 6.5% para  profesiona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lta demanda de calificació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s altas tasas de crecimiento de  calificación  significan que hay un incremento de la demanda de profesionales y técnicos, aunque más de la Educación Superior (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o  puede representar que la población percibe  mayores  ganancias salariales con mayor  nivel de califica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mayor productividad es un resultado  final pero no percibido necesariamente por la población (es una resultante, más no una condicionante  del incremento de la calific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ducación V/S Ingreso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los años 90 ha  habido una importante expansión del nivel educativo de la población laboral, pero el nivel de ingresos de esa población bajó de  4.0 a 3.8 líneas de pobreza (en promedio) durante los 9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cluso países más pobres que hicieron un gran esfuerzo en la calificación de su fuerza laboral,  se vieron frustrados a la hora de  evaluar sus ingresos.=&gt;(v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sos: Salvador y Paraguay.</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ís       años estudios      Remuneració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Salvador     6.6                 3.4 (li/p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aguay        7.2                 2.9 (li/p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sta Rica      8.0                 6.2 (li/p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999, años de estudio promedio)</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epal: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mentario.</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pesar que la brecha educativa de la población laboral  entre El Salvador y Costa Rica no supera los dos puntos, los ingresos ocupacionales se duplican entre un país y otr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o habla que la  sola estrategia educativa No garantiza  una distribución equitativa del ingreso en el trabaj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epal: 200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ectores de empleo de profesionales y técnicos (%)</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ctor                    Chile            A. Latin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úblico                    41.7               50.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ductivo               22.2               15.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inanciero               16.2                14.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2T15:14:14Z</dcterms:created>
  <dc:creator>valeria</dc:creator>
  <dc:description/>
  <dc:language>en-US</dc:language>
  <cp:lastModifiedBy>María Asunción</cp:lastModifiedBy>
  <dcterms:modified xsi:type="dcterms:W3CDTF">2014-11-24T18:12:13Z</dcterms:modified>
  <cp:revision>7</cp:revision>
  <dc:subject/>
  <dc:title>PROFESIONALES EN CHILE Y AMÉRICA LATINA.</dc:title>
</cp:coreProperties>
</file>