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3493-F2C4-451E-B928-BE8BB68F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33BE-FBD1-4899-9E14-A0712B39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C4CF-3D9B-4CAE-848A-127981BC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327E-1E33-4C1C-8CFC-E0C03698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4465-B2FB-4B63-B58F-74E88C38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76CD-50FF-4AA8-BDA1-359D27F4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ACF8-8845-48C5-8322-A81EE253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8DD1-32DE-4C27-9D4E-B6413359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A96B-ABDD-4BB7-A156-A4C177F6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AFB8-7F21-4826-9FD1-344283EA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C363-BCAB-40EE-9176-6592616B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C342-44EF-42C9-979E-2F507BB3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0F9C-231C-49EB-B7D2-1FCD93A9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761B-6042-4A34-9F65-3FEFA830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73C3-E2D6-4720-81EA-87331037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D509-DA4D-4109-B9B7-C3467EEB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A778-C51D-4F01-A126-DA2376FB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C520-7A04-47E8-A8D0-770EE251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6E4A-FA56-4302-847B-A19B1EB7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147B-7970-4602-A208-3F88EAB3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4B11-AF35-405D-8378-439CB7A8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A960-FB61-4AEA-95D5-C7D86FAD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8DB0-BB56-4B33-A3BD-C88E2B5F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D573-63A6-45D7-AFAD-654F4705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Rectangle 3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713240"/>
                <a:ext cx="9144000" cy="10440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817640"/>
                <a:ext cx="9144000" cy="103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52B8-4C8F-4D3F-B035-BEF79D1C1DB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Rectangle 3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0" y="3200400"/>
              <a:ext cx="9144000" cy="412560"/>
              <a:chOff x="0" y="3200400"/>
              <a:chExt cx="9144000" cy="41256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0" y="3200400"/>
                <a:ext cx="9144000" cy="1033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0" y="3303720"/>
                <a:ext cx="9144000" cy="1029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406680"/>
                <a:ext cx="9144000" cy="103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510000"/>
                <a:ext cx="9144000" cy="10296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8CB4-2601-41A5-A1D2-C9054E57ECE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71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ENLACES  VIRTUOSO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LA CAJA NEGRA DEL DESARROLLO 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EMPRESAS Y UNIVERSIDADE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humboldtian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.- El conocimiento universal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2.- La luz de la sociedad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3.- Profesionaliza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4.- También investiga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Object 4" descr=""/>
          <p:cNvPicPr/>
          <p:nvPr/>
        </p:nvPicPr>
        <p:blipFill>
          <a:blip r:embed="rId1"/>
          <a:stretch/>
        </p:blipFill>
        <p:spPr>
          <a:xfrm>
            <a:off x="5111640" y="2133720"/>
            <a:ext cx="288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A PROFESIONALIZAN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Corresponde  a la etapa de la industrialización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Cubre las necesidades de las actividades  laborales más demandadas socialment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Tiende a ser una formación de pautas y malla curricular rígida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Los docentes no tienen dedicación investigativa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Object 4" descr=""/>
          <p:cNvPicPr/>
          <p:nvPr/>
        </p:nvPicPr>
        <p:blipFill>
          <a:blip r:embed="rId1"/>
          <a:stretch/>
        </p:blipFill>
        <p:spPr>
          <a:xfrm>
            <a:off x="4648320" y="2722680"/>
            <a:ext cx="380988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PROGRAM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Se adscriben a un proyecto a desarrollar en un tiempo determinado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Su función es fundamentalmente de investigación y desarroll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Pueden vincularse a instituciones de gobierno o privadas quienes les financian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Object 1024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Sociedad  de la innovación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7" name="Object 0"/>
          <p:cNvGraphicFramePr/>
          <p:nvPr/>
        </p:nvGraphicFramePr>
        <p:xfrm>
          <a:off x="990720" y="1697040"/>
          <a:ext cx="7886520" cy="55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97040"/>
                    <a:ext cx="788652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Academia emprendedor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Surge de la crisis de financiamiento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Buscan alianzas económicas con sector oficial y privado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Sus investigadores actúan tanto en la academia como en la empres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Los descubrimiento  son patentados con derechos compartido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Object 0" descr=""/>
          <p:cNvPicPr/>
          <p:nvPr/>
        </p:nvPicPr>
        <p:blipFill>
          <a:blip r:embed="rId1"/>
          <a:stretch/>
        </p:blipFill>
        <p:spPr>
          <a:xfrm>
            <a:off x="4648320" y="2473200"/>
            <a:ext cx="38098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Academia emprendedor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1.- Forma parte de las estrategias de innovación nacional: parques tecnológicos,     ciudades industriales, institutos  de investigación, centros de desarrollo tecnológico, laboratorios   industriales, etc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2.- Comienza a cotizar la función de asesor en promoción y gestión innovativa. Esta es una fase  de intermediación especializada muy demandada en países en que la actividad empresa innovación se hace más exigente y prolífica. Su función es como el Know How de la era industrial, pero a la cual se incorpora el Know Why, es decir, diseñar anticipadamente un camino de desarrollo prometedor dentro del infinito  escenario  de posibilidades que ofrece la investigación genérica o básica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3  .- Alianzas y acuerdos contractuales entre universidades y equipos de investigación para patentar y sacar provecho económico de sus descubrimientos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 y socieda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La  relevancia social de las universidades depende de la evaluación  que los actores políticos  y sociales hacen de su desempeño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s dable observar que las universidades de la época de “cooperación”, son vistas como aportadores importantes al desarrollo económico y social del modelo dominante.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Pero cuando  asoman las crisis, tan propias de las fases del desarrollo en todas las sociedades de cambio constante, como es la sociedad capitalista contemporánea,  esta sociedad  dirige la mirada a las instituciones universitaria en busca de respuestas y salidas, las que habitualmente no se tienen, justamente por estar inmersos en un tiempo  tibio de funcionalidad aceptable  con el sistema vigente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y socieda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hora que la exigencia de nuevas estrategias y nuevas fuentes de generación de ventajas competitivas se hace urgente, los “policy makers” buscan respuestas en  el sector empresarial y en las universidades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Toda vez que las universidades no están preparadas para iniciar esa fase de emprendimiento, se convierten en una carga social y los presupuestos destinados a la academia son derivados o anulados, con lo cual la universidad comienza a perder “RELEVANCIA”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LA CONTRA-REACCIÓN :  ante esta realidad adversa, las universidades pueden continuar, por un tiempo, con sus políticas desfasadas y decaer lenta o aceleradamente o retoman el desafío de  recuperar “relevancia”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y socieda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Relevancia :  la recuperación de relevancia social la harán las universidades de la única manera posible…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Mediante la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) REDEFINICIÓN DE SUS PROPIOS ROLES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) MEJORAR LA CALIDAD Y PERTINENCIA DE SU OFERTA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) Y PONERSE A LA CABEZA DE LA NUEVA FASE DE DESARROLLO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e esta forma, las universidades  logran  recuperar  la relevancia y el aprecio social acerca de su rol, lo cual redundará en aportaciones de recursos y el reinicio de una nueva fase de “COOPERACIÓN”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  y socieda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Las formas de operar de las universidades pasan por dos fases alternas: una de “COOPERACIÓN” y otra de “COMPETENCIA”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) LA FASE DE COMPETENCIA: se caracteriza porque las universidades deben salir a buscar sus alternativas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De FINANCIAMIENTO (la sociedad se resiste a refinanciar sus déficit)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De ORGANIZACIÓN : debe alterar su esquema organizacional para hacerla más ágil y apta a las nuevas exigencias (debe reorientar su esfuerzo muscular)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De priorización:  donde se cambia el esquema de objetivos y de recursos destinados a cada uno de sus estamentos o áreas de acción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Grandes Modelos Culturales de Universida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.- niversidades escolástica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2.- niversidades Humboldtiana y Napoleónic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3.- Academia emprendedor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Object 4" descr=""/>
          <p:cNvPicPr/>
          <p:nvPr/>
        </p:nvPicPr>
        <p:blipFill>
          <a:blip r:embed="rId1"/>
          <a:stretch/>
        </p:blipFill>
        <p:spPr>
          <a:xfrm>
            <a:off x="4648320" y="2241720"/>
            <a:ext cx="3809880" cy="38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y socieda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B) La fase de cooperación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Una vez  que las universidades logran recuperar  su relevancia social como actores que generan un aporte importante al conocimiento, la innovación y la producción, la sociedad vuelve a integrarse  al quehacer universitario, mediante un nuevo espíritu de cooperación, que en el fondo implica la entrega de nuevos recurso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Las  reformas universitarias del 68 a nivel mundial: la sociedad manifiesta a través de sus estudiantes la inconformidad con el esquema organizativo de las instituciones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Una década más tarde, la revolución del Accountability en Inglaterra de la señora Thatcher (se inicia las fases de “COMPETENCIA”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y socieda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Dos décadas más tarde, con la era de la Unión Europea,  se da inicio a otra etapa de COOPERACIÓN entre universidad y desarrollo en el escenario  comunitario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n Chile se reproducen, igualmente, la crisis de la reforma universitaria en 1968  ( reformas organizativas demandadas por el estudiantado en nombre de la sociedad) y la reformas de la educación superior a partir de mediados  de la década de los 70 con las privatizaciones en las universidades y la reducción presupuestaria en las universidades públicas (COMPETENCIA Y ACCOUNTABILITY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Chile no ha  alcanzado aún una nueva fase de COOPERACIÓN, pues no se ha dado con un modelo de desarrollo nacional y con un modelo de universidad ad-hoc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STE ES EL GRAN TEMA A DISCUTIR EN ESTE SEMESTRE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Y EMPRES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1.-  De  la Universidad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2.- De la Empres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3.- Cooperación Universidad-Sector productiv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Importancia  de la Relación Universidad Empres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La  Universidad y la empresa,  símbolos del  saber  especulativo y del saber práctico, se hayan envueltas en el torbellino de los cambios con que se inicia el siglo XXI. Las dos  instituciones necesitan reflexionar sobre su propia identidad y tomar conciencia de los lazos que  inevitablemente les unirán en el futuro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IMPORTANCIA........(CONT)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En 1919, el parlamento de Canadá, lo definió como  el pilar de la política CIENTÍFICA; hoy se le define como uno de los pilares más sólidos de la política ECONÓMICA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 Black"/>
              </a:rPr>
              <a:t>La  ciencia se ha hecho económica y la economía se soporta en la ciencia</a:t>
            </a: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Black"/>
              </a:rPr>
              <a:t>CHILE: Gasto en ciencia y tecnologí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AÑO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96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98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51280" y="2205000"/>
            <a:ext cx="3673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Porc.(%) PIB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0.25   PIB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0.46   PIB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0.65  PIB          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Importancia..........(Cont.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1.-La importancia de la ciencia y tecnología en la economía mundial, ha derivado en cambios en la empresa.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 Black"/>
              </a:rPr>
              <a:t>Realizar investigación, adaptación y reingeniería; también instalar cursos permanentes de capacitación y actualización de personal; cambios en las jerarquías del personal y  de las evaluaciones curriculares  así como de los destinos de los operarios y gerent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Impòrtancia.....(cont.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La complejización del conocimiento, ha obligado a las universidades a  instalar  postgrados de diversa  intensidad: especialización, actualización, master, magister, doctorado, postdoctorado, etc, lo que ha derivado que las universidades se transformen en las depositarias de la investigación de más largo plazo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Black"/>
              </a:rPr>
              <a:t>Fondos centrales de investigación de las universidades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Año       Mill. $  (1988)     Indi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978     806                      10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980     667                        8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981     872                       10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982    1.097                     13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984    1.047                     12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985       873                     10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987       672                       84  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Importancia........(cont.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La aparición de nuevas generaciones de saberes y tecnologías, ha obligado a las universidades a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.- abrir nuevos contenidos,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2.-Establecer nuevos medios y estrategias de aprendizaj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3.-Incorporar   diversos tipos de estudiantes, con formalización de nuevos nexos con la academi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TEMA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1.- universidad para el sXX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2.- la academia emprendedora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3.- los modelos de universidad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4.- estrategias de joint-ven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Importancia...(cont.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La internacionalización de la economía obliga a  los países a revaluar su “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 Black"/>
              </a:rPr>
              <a:t>capital humano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” como verdadero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 Black"/>
              </a:rPr>
              <a:t>capital “social”,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como real inversión productiva. El financia-miento de la ciencia y tecnología, por los gobiernos y las empresas, es otro factor asociado a las universi-dades que la sociedad comienza a valorar en el mundo present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.- DE LA UNIVERSIDA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La producción de doctores    es la base de  cambios en la forma de enfrentar el reto del futuro en las universidad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En los países de desarrollo acelerado , los docentes  deben ser doctores, es decir docentes  e investigador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En Chile sólo 1 de cada 5 docentes universitarios es doctor (investigador).  Chile produjo sólo  181 doctores entre  1965 y 1985, con promedio de  21  doctores por año. Esta cifra es dramática, pues  no alcanza a ser 1/3  de lo que el país necesita para  reemplazar los 4000  investigadores que se retiran  (130  anualmente). (J. Allende: Los Postgrados en Chile 1992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De la Universida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Datos de la Unesco señalan que  la proporción de alumnos del nivel 7 (posgrado) equivale al 1.3 de  los alumnos de educación superior.. Esta cifra  es la mitad de lo que muestra un país como Brasil, casi  1/3  de México, 1/4 de Corea y 1/5 de Finlandia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De las universidade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Hasta comienzo de los 90, los países de A.Latina  exhiben un promedio de 17,3 % de estudiantes en el nivel  superior, mientras que los países desarrollados muestran  un % superior al 40 %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De las universidade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Los países desarrollados registran 20.000 estudiantes en  la educación superior por cada 100.000habitante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A.Latina, llega a 2.000 estudiantes de la educación superior por cada 100.000 habitante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Desde la Universida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En los comienzo de los 70 las instituciones de Ed. Superior eran  20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Al comenzar los 90, las instituciones de Ed. Superior superan  llegan a 300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Ya hacia 1990, la oferta y demanda de cupos en la educación superior estaban a niveles de igualdad. 163.000 vacantes y 114.000 inscritos en la PA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De las Universidade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Los aportes fiscales a las universidades han caído en relación a 1970 en un 30 % (1990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Son 22 instituciones que reciben aportes directos del Estado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La UC., ha disminuido el aporte fiscal  en un 60 % entre 1980 y 1990</a:t>
            </a: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La externalización del conocimiento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Las empresas al crecer a dimensiones transnacional y acumular grandes excedentes económicos, no sólo han cerrado el círculo </a:t>
            </a:r>
            <a:r>
              <a:rPr b="0" i="1" lang="es-ES" sz="3200" spc="-1" strike="noStrike">
                <a:solidFill>
                  <a:srgbClr val="000000"/>
                </a:solidFill>
                <a:latin typeface="Arial Black"/>
              </a:rPr>
              <a:t>productor-distribuidor-financiero</a:t>
            </a: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, sino que también han hecho desarrollo corriente arriba (investigación)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La competencia empresarial en el conocimiento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Las grandes empresas dependieron en su desarrollo del saber generado en las universidades; para ello hicieron joint-venture. Pero ahora han adquirido autonomía suficiente para prescindir de las universidades en los grandes desarrollos de investigación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El robo de los huevo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Ahora sucede que el saber más trascendental en tecnología y ciencia está siendo generado en institutos financiado por grandes empresa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Las universidades se han transformado en proveedoras de calificaciones, pero tempranamente el personal es cooptado por los institutos de investigación que desarrollan sus propios programa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EN EL SIGLO XX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1913040" y="2133720"/>
            <a:ext cx="1355760" cy="4114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Cada tiempo histórico                  ( económico y cultural) contiene un modelo de universidad (concentrador y elaborador de saberes) que le es propio y característic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La avariciosa desclasad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Nietzsche acusaba a las universidades decimonónicas de avaricia en el saber, pues querían concentrar todos los saberes en ella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Ahora el saco de la avaricia se ha roto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Bibliografí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La crisis no moderna de la universidad moderna”. Willy Thaye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Los profesionales en Chile” Brunner, compilado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El porvenir de nuestros centros de enseñanza”. F.Nietzsch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Informe sobre la educación superior en Chile” J.J. Brunn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El ocaso de las universidades” . Mayz Vallenill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 S.XX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La academia emprendedora, contiene características  diferentes a las universidades  existentes históricamente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Las diferencias  son de objetivos, de  estilo organizativo y de su relación con la sociedad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Correspondencia sociedad -Universida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Sociedad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.-IDEOLÓGIC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2.- Industrial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3.- Innovativ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Universidad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.- Escolástic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2.- Humboltiana y Napoleónic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3 Academia emprendedor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.- Ideológica-Escolástic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685800" y="2173320"/>
          <a:ext cx="7753320" cy="521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73320"/>
                    <a:ext cx="7753320" cy="52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2.- Sociedad Industria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5266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Expansión productiva  técnic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1042920" y="2425680"/>
          <a:ext cx="7489800" cy="41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425680"/>
                    <a:ext cx="748980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4"/>
          <p:cNvGraphicFramePr/>
          <p:nvPr/>
        </p:nvGraphicFramePr>
        <p:xfrm>
          <a:off x="9334440" y="3086280"/>
          <a:ext cx="8089920" cy="1087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34440" y="3086280"/>
                    <a:ext cx="8089920" cy="10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contemporáne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.- Universidad humboldtian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2.- Universidad profesionalizant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3.- Universidad program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4.- Universidad emprendedor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Object 4" descr=""/>
          <p:cNvPicPr/>
          <p:nvPr/>
        </p:nvPicPr>
        <p:blipFill>
          <a:blip r:embed="rId1"/>
          <a:stretch/>
        </p:blipFill>
        <p:spPr>
          <a:xfrm>
            <a:off x="4648320" y="2832120"/>
            <a:ext cx="38098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1T04:41:48Z</dcterms:created>
  <dc:creator>Hugo Latorre</dc:creator>
  <dc:description/>
  <dc:language>en-US</dc:language>
  <cp:lastModifiedBy>María Asunción</cp:lastModifiedBy>
  <dcterms:modified xsi:type="dcterms:W3CDTF">2014-11-24T18:11:11Z</dcterms:modified>
  <cp:revision>32</cp:revision>
  <dc:subject/>
  <dc:title>ENLACES  VIRTUOSOS</dc:title>
</cp:coreProperties>
</file>