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A9C34-36FF-41D2-B7A0-A921DC4FA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4E33-58E0-4A6D-9571-5114E55D8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7687F-964D-4046-A853-0B839B9D0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60C58-C748-4935-B418-8ABF193BC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C71E5-214A-41AD-8F74-84443B98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8938-85D3-43ED-B3B2-24EC70C47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0992F-40B8-4D00-BFF7-A61DEEFB8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080E3-7508-4438-A1FE-37C4CE1D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4AE7-7030-4CAC-AE99-889C51935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6AB3-B2FA-4ABA-ACCE-0CF74C8A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3F86-C35B-4DFE-A50C-5240DCA6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E577-9691-45CD-949B-051CF2296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3F0B-0980-4483-AF90-FFD50989892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a:t>
            </a:r>
            <a:r>
              <a:rPr b="1" i="1" lang="es-ES" sz="1400" spc="-1" strike="noStrike">
                <a:solidFill>
                  <a:srgbClr val="000000"/>
                </a:solidFill>
                <a:latin typeface="Arial"/>
              </a:rPr>
              <a:t>Kan</a:t>
            </a:r>
            <a:r>
              <a:rPr b="0" lang="es-ES" sz="1400" spc="-1" strike="noStrike">
                <a:solidFill>
                  <a:srgbClr val="000000"/>
                </a:solidFill>
                <a:latin typeface="Arial"/>
              </a:rPr>
              <a:t>t, el concepto de Universidad se da en el contexto de los tiempos modernos de la ciencia.  Corresponde entonces al concepto de tratar industrialmente todo el conjunto de la ciencia, como lo exige el proyecto de la modernidad.</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a:t>
            </a:r>
            <a:r>
              <a:rPr b="1" i="1" lang="es-ES" sz="1400" spc="-1" strike="noStrike">
                <a:solidFill>
                  <a:srgbClr val="000000"/>
                </a:solidFill>
                <a:latin typeface="Arial"/>
              </a:rPr>
              <a:t>Derrida</a:t>
            </a:r>
            <a:r>
              <a:rPr b="0" lang="es-ES" sz="1400" spc="-1" strike="noStrike">
                <a:solidFill>
                  <a:srgbClr val="000000"/>
                </a:solidFill>
                <a:latin typeface="Arial"/>
              </a:rPr>
              <a:t>, la institución universitaria se inscribe en una política del saber que se ejerce desde el gobierno (poder político).</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universidad, por ser una institución  artificial, auxiliar al poder de lo administrativo, se ha puesto a prueba en diversas modalidades: Escolástica, Napoleónica, Humbolteana, Universidad programa,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sde el Gobiern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GOBIE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interesa por aquello que le otorga una mayor influencia sobre las masas (Las Facultades superiores). En consecuencia esta división de las Facultades, obedece a un interés externo (división política) y es lo que va a incidir en el modelo de universidad moderna  que desarrolla K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francesa.</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odelo de universidad moderna en Francia es de origen </a:t>
            </a:r>
            <a:r>
              <a:rPr b="1" i="1" lang="es-ES" sz="2800" spc="-1" strike="noStrike">
                <a:solidFill>
                  <a:srgbClr val="000000"/>
                </a:solidFill>
                <a:latin typeface="Arial"/>
              </a:rPr>
              <a:t>“napoleónico</a:t>
            </a:r>
            <a:r>
              <a:rPr b="0" lang="es-ES" sz="2800" spc="-1" strike="noStrike">
                <a:solidFill>
                  <a:srgbClr val="000000"/>
                </a:solidFill>
                <a:latin typeface="Arial"/>
              </a:rPr>
              <a:t>”. Se le denomina así pues es en tiempos de Napoleón que se difunde como una experiencia social ligada al proyecto modernizador e imperi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también se le denomina Universidad “</a:t>
            </a:r>
            <a:r>
              <a:rPr b="1" i="1" lang="es-ES" sz="2800" spc="-1" strike="noStrike">
                <a:solidFill>
                  <a:srgbClr val="000000"/>
                </a:solidFill>
                <a:latin typeface="Arial"/>
              </a:rPr>
              <a:t>cartesiana” y “compteana</a:t>
            </a:r>
            <a:r>
              <a:rPr b="0" lang="es-ES" sz="2800" spc="-1" strike="noStrike">
                <a:solidFill>
                  <a:srgbClr val="000000"/>
                </a:solidFill>
                <a:latin typeface="Arial"/>
              </a:rPr>
              <a:t>”, pues son estos dos pensadores quienes dan el nuevo paradigma del pensamiento moderno</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scartes y el saber moderno.</a:t>
            </a:r>
            <a:endParaRPr b="0" lang="en-US" sz="4400" spc="-1" strike="noStrike">
              <a:solidFill>
                <a:srgbClr val="000000"/>
              </a:solidFill>
              <a:latin typeface="Arial"/>
            </a:endParaRPr>
          </a:p>
        </p:txBody>
      </p:sp>
      <p:sp>
        <p:nvSpPr>
          <p:cNvPr id="64" name=""/>
          <p:cNvSpPr txBox="1"/>
          <p:nvPr/>
        </p:nvSpPr>
        <p:spPr>
          <a:xfrm>
            <a:off x="0" y="1844640"/>
            <a:ext cx="91440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es desecha el saber “</a:t>
            </a:r>
            <a:r>
              <a:rPr b="1" lang="es-ES" sz="2800" spc="-1" strike="noStrike">
                <a:solidFill>
                  <a:srgbClr val="000000"/>
                </a:solidFill>
                <a:latin typeface="Arial"/>
              </a:rPr>
              <a:t>heterónomo</a:t>
            </a:r>
            <a:r>
              <a:rPr b="0" lang="es-ES" sz="2800" spc="-1" strike="noStrike">
                <a:solidFill>
                  <a:srgbClr val="000000"/>
                </a:solidFill>
                <a:latin typeface="Arial"/>
              </a:rPr>
              <a:t>” y lo reemplaza por el saber </a:t>
            </a:r>
            <a:r>
              <a:rPr b="1" lang="es-ES" sz="2800" spc="-1" strike="noStrike">
                <a:solidFill>
                  <a:srgbClr val="000000"/>
                </a:solidFill>
                <a:latin typeface="Arial"/>
              </a:rPr>
              <a:t>“autónom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a el </a:t>
            </a:r>
            <a:r>
              <a:rPr b="1" lang="es-ES" sz="2800" spc="-1" strike="noStrike">
                <a:solidFill>
                  <a:srgbClr val="000000"/>
                </a:solidFill>
                <a:latin typeface="Arial"/>
              </a:rPr>
              <a:t>saber absoluto </a:t>
            </a:r>
            <a:r>
              <a:rPr b="0" lang="es-ES" sz="2800" spc="-1" strike="noStrike">
                <a:solidFill>
                  <a:srgbClr val="000000"/>
                </a:solidFill>
                <a:latin typeface="Arial"/>
              </a:rPr>
              <a:t>y propone el </a:t>
            </a:r>
            <a:r>
              <a:rPr b="1" lang="es-ES" sz="2800" spc="-1" strike="noStrike">
                <a:solidFill>
                  <a:srgbClr val="000000"/>
                </a:solidFill>
                <a:latin typeface="Arial"/>
              </a:rPr>
              <a:t>saber limitado y progresivo</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imina el saber desde la </a:t>
            </a:r>
            <a:r>
              <a:rPr b="1" lang="es-ES" sz="2800" spc="-1" strike="noStrike">
                <a:solidFill>
                  <a:srgbClr val="000000"/>
                </a:solidFill>
                <a:latin typeface="Arial"/>
              </a:rPr>
              <a:t>metafísica</a:t>
            </a:r>
            <a:r>
              <a:rPr b="0" lang="es-ES" sz="2800" spc="-1" strike="noStrike">
                <a:solidFill>
                  <a:srgbClr val="000000"/>
                </a:solidFill>
                <a:latin typeface="Arial"/>
              </a:rPr>
              <a:t> y postula el saber desde </a:t>
            </a:r>
            <a:r>
              <a:rPr b="1" lang="es-ES" sz="2800" spc="-1" strike="noStrike">
                <a:solidFill>
                  <a:srgbClr val="000000"/>
                </a:solidFill>
                <a:latin typeface="Arial"/>
              </a:rPr>
              <a:t>la físic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a el saber desde </a:t>
            </a:r>
            <a:r>
              <a:rPr b="1" lang="es-ES" sz="2800" spc="-1" strike="noStrike">
                <a:solidFill>
                  <a:srgbClr val="000000"/>
                </a:solidFill>
                <a:latin typeface="Arial"/>
              </a:rPr>
              <a:t>la religión </a:t>
            </a:r>
            <a:r>
              <a:rPr b="0" lang="es-ES" sz="2800" spc="-1" strike="noStrike">
                <a:solidFill>
                  <a:srgbClr val="000000"/>
                </a:solidFill>
                <a:latin typeface="Arial"/>
              </a:rPr>
              <a:t>y lo reemplaza por el saber desde </a:t>
            </a:r>
            <a:r>
              <a:rPr b="1" lang="es-ES" sz="2800" spc="-1" strike="noStrike">
                <a:solidFill>
                  <a:srgbClr val="000000"/>
                </a:solidFill>
                <a:latin typeface="Arial"/>
              </a:rPr>
              <a:t>la razón</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ula el reemplazo de la creencia por la comprob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odo debe ser sospechado.</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plantea también que todo saber es provisorio, nada debe permanecer si no se sustenta en comprobación reiterad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ólo </a:t>
            </a:r>
            <a:r>
              <a:rPr b="1" lang="es-ES" sz="3200" spc="-1" strike="noStrike">
                <a:solidFill>
                  <a:srgbClr val="000000"/>
                </a:solidFill>
                <a:latin typeface="Arial"/>
              </a:rPr>
              <a:t>el objeto </a:t>
            </a:r>
            <a:r>
              <a:rPr b="0" lang="es-ES" sz="3200" spc="-1" strike="noStrike">
                <a:solidFill>
                  <a:srgbClr val="000000"/>
                </a:solidFill>
                <a:latin typeface="Arial"/>
              </a:rPr>
              <a:t>de estudio debe ser analizado, también </a:t>
            </a:r>
            <a:r>
              <a:rPr b="1" lang="es-ES" sz="3200" spc="-1" strike="noStrike">
                <a:solidFill>
                  <a:srgbClr val="000000"/>
                </a:solidFill>
                <a:latin typeface="Arial"/>
              </a:rPr>
              <a:t>el sujeto </a:t>
            </a:r>
            <a:r>
              <a:rPr b="0" lang="es-ES" sz="3200" spc="-1" strike="noStrike">
                <a:solidFill>
                  <a:srgbClr val="000000"/>
                </a:solidFill>
                <a:latin typeface="Arial"/>
              </a:rPr>
              <a:t>que estudia es meritorio de escrutarse: el ojo, la percepción, la posición del observador debe tomarse como factor de estudio. La objetividad per se no existe como garantía absol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materia debe ser fragmentada hasta su límite máximo</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e conocerse la materia hasta su mínimo detalle y luego debe recomponerse en su totalida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arte el estudio de lo particular a lo general y no desde </a:t>
            </a:r>
            <a:r>
              <a:rPr b="1" lang="es-ES" sz="3200" spc="-1" strike="noStrike">
                <a:solidFill>
                  <a:srgbClr val="000000"/>
                </a:solidFill>
                <a:latin typeface="Arial"/>
              </a:rPr>
              <a:t>el concepto  (teoría) </a:t>
            </a:r>
            <a:r>
              <a:rPr b="0" lang="es-ES" sz="3200" spc="-1" strike="noStrike">
                <a:solidFill>
                  <a:srgbClr val="000000"/>
                </a:solidFill>
                <a:latin typeface="Arial"/>
              </a:rPr>
              <a:t>al experimento (método antiaristotélico).</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iencia se vuelve entonces pragmática. La universidad cartesiana será esencialmente técnica, práctica y aplic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aber Anti-Latíno.</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postula el conocimiento expresado en lenguaje univers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nguaje universal debe ser esencialmente </a:t>
            </a:r>
            <a:r>
              <a:rPr b="1" lang="es-ES" sz="3200" spc="-1" strike="noStrike">
                <a:solidFill>
                  <a:srgbClr val="000000"/>
                </a:solidFill>
                <a:latin typeface="Arial"/>
              </a:rPr>
              <a:t>matemático</a:t>
            </a:r>
            <a:r>
              <a:rPr b="0" lang="es-ES" sz="3200" spc="-1" strike="noStrike">
                <a:solidFill>
                  <a:srgbClr val="000000"/>
                </a:solidFill>
                <a:latin typeface="Arial"/>
              </a:rPr>
              <a:t>, en base a símbolos lógico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elimina en sus trabajos el Latín. Escribe en francés, pero más tarde desecha las lenguas vernáculas por su sesgo particularista y anti univer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s universidades técnica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corrientes pragmáticas del saber aplicado, diseñadas por Descartes en las ciencias generales y Comte en las ciencias sociales, definirán, junto al empeño del imperio belicista de Napoleón por obtener ventajas tecnológicas en los albores del industrialismo, un modelo  de universidad tecnológica, que luego se difunde por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idealista alemana.</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ontraposición a la universidad técnica francesa, los alemanes desarrollan un modelo diferente de universida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e modelo se forja desde la concepción del saber crítico que se impone por sobre el saber práctico.</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conjunto de pensadores alemanes están detrás de este modelo de universidad idealista; Kant, Humboldt, Fichte y Schleierm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ichte: sólo el saber superior.</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 No se debe ajustar la universidad a la pragmática, sino a la invers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El saber se debe orientar por la búsqueda desinteresad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Subordinar el interés profesional al interés crítico-reflexiv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 El Estado y la humanidad común están ajenos a la búsqueda libre del conocimient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 La vida científica debe derivar todo su actuar de un saber unitario-universal y debe aspirar a ser guiado por una ética idealist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 Con todo, el conocimiento mantiene vínculos estrechos con la vida moral y polític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 Según Fichte y Humboldt, de no matener absoluta autonomía del poder político y estatal, la universidad debe ser abolida de inmedi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umboldt: la separación.</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a:t>
            </a:r>
            <a:r>
              <a:rPr b="0" lang="es-ES" sz="2400" spc="-1" strike="noStrike">
                <a:solidFill>
                  <a:srgbClr val="000000"/>
                </a:solidFill>
                <a:latin typeface="Arial"/>
              </a:rPr>
              <a:t>.- La ciencia no debe considerarse nunca como algo ya descubierto a firme, sino como algo que jamás podrá descubrirse por entero y que debe ser incesantemente objeto de investig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Sin el Estado, las cosas universitarias caminarían mej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El Estado tiene el deber de organizar las escuelas superiores profes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Pero el Estado  debe mantener en toda su pureza la separación y diferencia entre  las universidades y las escuelas profes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OCURREN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lantea en la Universidad dos momentos, que representan dos cualidades diferentes de las mismas: 1) la universidad “OCURRENTE”, que corresponde a la fase inicial de inocencia creativa, espontánea y desarticulada; el segundo momento se denomin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RAGMÁTICO” y corresponde al tiempo en que el saber se hace útil al poder, entonces comienza el tiempo de la realización política de la universidad y, al mismo tiempo la universidad llega a representar un momento de la realización de la polí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chleiermacher: una postura mixta.</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a:t>
            </a:r>
            <a:r>
              <a:rPr b="0" lang="es-ES" sz="2000" spc="-1" strike="noStrike">
                <a:solidFill>
                  <a:srgbClr val="000000"/>
                </a:solidFill>
                <a:latin typeface="Arial"/>
              </a:rPr>
              <a:t>.- Reconoce que el Estado moderno y progresista requiere de la universidad como industria de profesionales. Esta  inclinación a instrumentalizar a la universidad de parte del Estado debe ser reconocida como exigencia de una nueva etapa del desarrollom de las sociedad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El Estado alemán demanda ahora de las universidades una vocación de acción concreta y no sólo la pura teorización especulativ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No se deben separar, a priori, las profesiones prácticas de las filosóficas (de los que son aptos de los que no lo son, como plantea Fich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 La universidad debe educar a todos por igual, sin distinciones, pero bajo el predominio del horizonte teleológico espiritual de la ciencia conducido por la filosof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Kant: el conflicto de las facultades.</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Para Kant, la universidad moderna se desarrolla dentro de </a:t>
            </a:r>
            <a:r>
              <a:rPr b="1" lang="es-ES" sz="3200" spc="-1" strike="noStrike">
                <a:solidFill>
                  <a:srgbClr val="000000"/>
                </a:solidFill>
                <a:latin typeface="Arial"/>
              </a:rPr>
              <a:t>un conflicto</a:t>
            </a:r>
            <a:r>
              <a:rPr b="0" lang="es-ES" sz="3200" spc="-1" strike="noStrike">
                <a:solidFill>
                  <a:srgbClr val="000000"/>
                </a:solidFill>
                <a:latin typeface="Arial"/>
              </a:rPr>
              <a:t>: conflicto entre la función independiente y el rol funcionari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a primera función se refiere a la </a:t>
            </a:r>
            <a:r>
              <a:rPr b="1" lang="es-ES" sz="3200" spc="-1" strike="noStrike">
                <a:solidFill>
                  <a:srgbClr val="000000"/>
                </a:solidFill>
                <a:latin typeface="Arial"/>
              </a:rPr>
              <a:t>autonomía</a:t>
            </a:r>
            <a:r>
              <a:rPr b="0" lang="es-ES" sz="3200" spc="-1" strike="noStrike">
                <a:solidFill>
                  <a:srgbClr val="000000"/>
                </a:solidFill>
                <a:latin typeface="Arial"/>
              </a:rPr>
              <a:t> frente al Estado y la socie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 La segunda se refiere a la universidad como </a:t>
            </a:r>
            <a:r>
              <a:rPr b="1" lang="es-ES" sz="3200" spc="-1" strike="noStrike">
                <a:solidFill>
                  <a:srgbClr val="000000"/>
                </a:solidFill>
                <a:latin typeface="Arial"/>
              </a:rPr>
              <a:t>institución dependiente </a:t>
            </a:r>
            <a:r>
              <a:rPr b="0" lang="es-ES" sz="3200" spc="-1" strike="noStrike">
                <a:solidFill>
                  <a:srgbClr val="000000"/>
                </a:solidFill>
                <a:latin typeface="Arial"/>
              </a:rPr>
              <a:t>financieramente del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y Conflictos.</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onflicto entre facultades: de “derecha” y de “izquierda”. Facultades “superiores” e “inferiore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onflicto del propio académico Kant, por ser un filósofo (pensamiento libre) y un funcionario del Estado (control ideológico).</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La ley del Estado concede a las universidades el pensamiento libre, crítico y especulativo, pero sólo para ser expuesto al interior de la univer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demandada.</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versidad actúa (Kant) como intermediaria entre el Estado y la socie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requiere legitimarse ante su sociedad; la universidad ayuda al Estado en ese propósito, legitimando un discurso sobre bases filosóficas y científicas; entregando los recursos humanos formados que el Estado requiere en sus tareas de modernizació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ndo su opinión experta para los desafíos del Es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olidando una formación teórica ideológicamente amistosa con los valores del Estado o sus poderes dominantes (Hegemonía so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ietzsche: la genealogía del conocimiento.</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verdad y el conocimiento, en Nietzsche, no reconoce origen ni tampoco fin….Sólo genealogía. La vida misma es una especie rara y excepcional de lo muerto.</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genialidad en el conocimiento, sino la simple resultante de una historia en que capa tras capa se ha agregado dosis de saber.</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zar tampoco existe, pues de existir  aceptaríamos la finalidad.</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niversal”, es la acumulación de conocimiento extensible a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ietzsche y la genealogía.</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usa, origen y meta o fin del conocimiento sólo se aplica en los pequeños mecanismos. En cambio en los grandes bosquejos universales, origen y meta  desaparecen como puras solemnidades metafísicas. (</a:t>
            </a:r>
            <a:r>
              <a:rPr b="0" lang="es-ES" sz="1600" spc="-1" strike="noStrike">
                <a:solidFill>
                  <a:srgbClr val="000000"/>
                </a:solidFill>
                <a:latin typeface="Arial"/>
              </a:rPr>
              <a:t>Humano demasiado humano).</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pequeñez en pequeñez se van montando empíricamente los saberes, hasta forjar “universal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stitucionalidad que encarna los universales, son “purificaciones” puntuales de hibridajes más extenso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historia universal, es contentiva de anterioridades sustantivas y posterioridades prometidas. Genera condensaciones internas (hegemonías) y expansiones externas (conquistas) de lenguas y estados imperial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las pequeñas “verdades” lugareñas se abren los brazos conquistadores de “verdad”, de “Estados” y de “cultura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nealogía histórica del saber.</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de Sócrates se vienen formando escuelas filosóficas, luego se hermana con el pensamiento de observación de la realidad, la codificación. Nunca más la ciencia pudo ser separada de la filosifía.</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onces la ciencia, así hermanada con el pensamiento universal, adquirió universalidad, tradición, ritos y personalida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los sedentarismos profesionales adquieren estatus y poder, y mandan a establecer lo que es  y lo que no es verda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universidades son espacios de fina capa de hábitos que intentan desconocer los intereses extra universitarios que las sostie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sorprendente” del saber.</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ber suele ser inesperado, por lo tanto debe ser “filtrado” por la sociedad de científicos, la academia o el poder político.</a:t>
            </a:r>
            <a:endParaRPr b="0" lang="en-US" sz="28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se acepta como “saber” es el conocimiento “purificado”, filtrado como conocimiento “positivo” por la costumbre, y avalado por la sociedad con poder de definición.</a:t>
            </a:r>
            <a:endParaRPr b="0" lang="en-US" sz="20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impuro” es lo que llama la atención, lo que rompe el tedio del saber convencional</a:t>
            </a:r>
            <a:r>
              <a:rPr b="0" lang="es-E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El lenguaje legitimado por las élites conforma la cultura dominante, pero llega a ser necesariamente conocimiento de consenso.</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orma, entonces el Estado nacional, profesional, ilustrado, utilitario y regente del saber acept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igualación-universal.</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gualación de lo desigual es lo que logra el Estado mediante el sistema curricular normalizado. Se deshace de la alteridad y quita del medio la singularidad. Sólo quedan los hábitos profes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l conocimiento ilustrado es universalizado, desindividualizado, desparticularizado. El emparejamiento, el tono único y sin ruidos, la neutralidad técnica es lo que queda del saber original. La lengua se hace universal en la ciencia. La ilustración exige una estricta disciplina del idi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aristocratico del conocimiento.</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ber como “nuevo espíritu”. Ser capaz de poner resistencia al estímulo, dar pausa a la razón, diferir la decisión, no ser instrumento, la acción sin finalidad, reposada y capaz de contemplar detenidamente todas las aristas del probl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cio filosófico y la no eficacia del saber conforman el sello de la “Universidad geneaológ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versidad idealista kantiana se diferencia en que es teleológica y teológica, mientras que la nietzscheana es atea, y sin finalidades reconocibles (a-te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Pragmátic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encuentro entre poder y saber viene a  condicionar la división del saber y las relevancias del poder en el saber. Las </a:t>
            </a:r>
            <a:r>
              <a:rPr b="0" lang="es-ES" sz="2800" spc="-1" strike="noStrike" u="sng">
                <a:solidFill>
                  <a:srgbClr val="000000"/>
                </a:solidFill>
                <a:uFillTx/>
                <a:latin typeface="Arial"/>
              </a:rPr>
              <a:t>“facultades pragmáticas</a:t>
            </a:r>
            <a:r>
              <a:rPr b="0" lang="es-ES" sz="2800" spc="-1" strike="noStrike">
                <a:solidFill>
                  <a:srgbClr val="000000"/>
                </a:solidFill>
                <a:latin typeface="Arial"/>
              </a:rPr>
              <a:t>” se llamarán “</a:t>
            </a:r>
            <a:r>
              <a:rPr b="1" i="1" lang="es-ES" sz="2800" spc="-1" strike="noStrike">
                <a:solidFill>
                  <a:srgbClr val="000000"/>
                </a:solidFill>
                <a:latin typeface="Arial"/>
              </a:rPr>
              <a:t>Facultades superiores</a:t>
            </a:r>
            <a:r>
              <a:rPr b="0" lang="es-ES" sz="2800" spc="-1" strike="noStrike">
                <a:solidFill>
                  <a:srgbClr val="000000"/>
                </a:solidFill>
                <a:latin typeface="Arial"/>
              </a:rPr>
              <a:t>” porque se ponen al servicio del poder  efectivo, desde una perspectiva jerárquica de sumisión o aquiescencia. Entonces son llamadas superiores porque son las de mayor interés para la realización del poder polític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acultades superiores e inferior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a:t>
            </a:r>
            <a:r>
              <a:rPr b="0" lang="es-ES" sz="2400" spc="-1" strike="noStrike" u="sng">
                <a:solidFill>
                  <a:srgbClr val="000000"/>
                </a:solidFill>
                <a:uFillTx/>
                <a:latin typeface="Arial"/>
              </a:rPr>
              <a:t>“facultad Inferior</a:t>
            </a:r>
            <a:r>
              <a:rPr b="0" lang="es-ES" sz="2400" spc="-1" strike="noStrike">
                <a:solidFill>
                  <a:srgbClr val="000000"/>
                </a:solidFill>
                <a:latin typeface="Arial"/>
              </a:rPr>
              <a:t>” será esencialmente la “Facultad de filosofía”, puesto que representa una ciencia menor, respecto de las necesidades  del poder, además es un lugar crítico y que pretende autonomía y superior estatus dentro de los sabe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onsecuencia, se llamará INFERIOR a esta Facultad de Filosofía, desde la perspectiva del gobierno justamente por su autonomía respecto a las tareas propias de la ciencia, no del poder. Pero las Facultades de Filosofía pueden tener un interés  relevante en las relaciones no sólo de la propia ciencia, sino del poder mismo (períodos de cambios en los paradigmas glob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visión del saber en la época técnica.</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como la sociedad científica, industrial y moderna fue autorizando una “DIVISIÓN DEL TRABAJO”,  en el espacio universitario se fue generando una “DIVISIÓN DEL SABER”, entre las Facultades técnicas o prácticas y la facultad de filosof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acultad de filosofía tiene libertad para proponer a su agrado sus posiciones. Solo vela por el interés de la ciencia (por la libertad del conoc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s facultades técn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Las facultades técnicas</a:t>
            </a:r>
            <a:r>
              <a:rPr b="0" lang="es-ES" sz="3200" spc="-1" strike="noStrike">
                <a:solidFill>
                  <a:srgbClr val="000000"/>
                </a:solidFill>
                <a:latin typeface="Arial"/>
              </a:rPr>
              <a:t>, en cambio,  deben adecuar sus enseñanzas al examen del poder (de los gobiernos) el cual exige su revisión pública. Hay una especie de subordinación práctica del saber al Gobierno (subordinación fác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facultades técnicas han sido tradicionalmente: derecho, medicina, ingenie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flicto de las facultad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l origen de la universidad como institución del conflicto entre el SABER y el PO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Kant lo titula “CONFLICTO DE LAS FACULTA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que plantea Kant es la relación conflictiva entre lo que llama la “</a:t>
            </a:r>
            <a:r>
              <a:rPr b="0" lang="es-ES" sz="2800" spc="-1" strike="noStrike" u="sng">
                <a:solidFill>
                  <a:srgbClr val="000000"/>
                </a:solidFill>
                <a:uFillTx/>
                <a:latin typeface="Arial"/>
              </a:rPr>
              <a:t>autonomía de la razón”</a:t>
            </a:r>
            <a:r>
              <a:rPr b="0" lang="es-ES" sz="2800" spc="-1" strike="noStrike">
                <a:solidFill>
                  <a:srgbClr val="000000"/>
                </a:solidFill>
                <a:latin typeface="Arial"/>
              </a:rPr>
              <a:t> y el “</a:t>
            </a:r>
            <a:r>
              <a:rPr b="0" lang="es-ES" sz="2800" spc="-1" strike="noStrike" u="sng">
                <a:solidFill>
                  <a:srgbClr val="000000"/>
                </a:solidFill>
                <a:uFillTx/>
                <a:latin typeface="Arial"/>
              </a:rPr>
              <a:t>automatismo</a:t>
            </a:r>
            <a:r>
              <a:rPr b="0" lang="es-ES" sz="2800" spc="-1" strike="noStrike">
                <a:solidFill>
                  <a:srgbClr val="000000"/>
                </a:solidFill>
                <a:latin typeface="Arial"/>
              </a:rPr>
              <a:t>” de las funciones y estructuras sociopolíticas en la socie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decir, en la sociedad se aprecia una “</a:t>
            </a:r>
            <a:r>
              <a:rPr b="0" lang="es-ES" sz="2800" spc="-1" strike="noStrike" u="sng">
                <a:solidFill>
                  <a:srgbClr val="000000"/>
                </a:solidFill>
                <a:uFillTx/>
                <a:latin typeface="Arial"/>
              </a:rPr>
              <a:t>función maquínica</a:t>
            </a:r>
            <a:r>
              <a:rPr b="0" lang="es-ES" sz="2800" spc="-1" strike="noStrike">
                <a:solidFill>
                  <a:srgbClr val="000000"/>
                </a:solidFill>
                <a:latin typeface="Arial"/>
              </a:rPr>
              <a:t>” o “automatismos procedimentales”, que también puede denominarse “automatismo irreflex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espíritu crítico: la razón inacabad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otro lado debe existir lo que se denomina una “</a:t>
            </a:r>
            <a:r>
              <a:rPr b="1" lang="es-ES" sz="3200" spc="-1" strike="noStrike">
                <a:solidFill>
                  <a:srgbClr val="000000"/>
                </a:solidFill>
                <a:latin typeface="Arial"/>
              </a:rPr>
              <a:t>autonomía del saber</a:t>
            </a:r>
            <a:r>
              <a:rPr b="0" lang="es-ES" sz="3200" spc="-1" strike="noStrike">
                <a:solidFill>
                  <a:srgbClr val="000000"/>
                </a:solidFill>
                <a:latin typeface="Arial"/>
              </a:rPr>
              <a:t>”, que es una figura crítica y que representa el “</a:t>
            </a:r>
            <a:r>
              <a:rPr b="0" lang="es-ES" sz="3200" spc="-1" strike="noStrike" u="sng">
                <a:solidFill>
                  <a:srgbClr val="000000"/>
                </a:solidFill>
                <a:uFillTx/>
                <a:latin typeface="Arial"/>
              </a:rPr>
              <a:t>Thelos racional</a:t>
            </a:r>
            <a:r>
              <a:rPr b="0" lang="es-ES" sz="3200" spc="-1" strike="noStrike">
                <a:solidFill>
                  <a:srgbClr val="000000"/>
                </a:solidFill>
                <a:latin typeface="Arial"/>
              </a:rPr>
              <a:t>”, es decir aquel espíritu que anida en el espíritu humano y que permite entender la historia como inacabada y los procesos como flujos histór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cultad de Filosofí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lación entre “autonomía del saber” y función “maquínica” del poder se da de manera polém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función autonómica  queda a cargo de la “Facultad de filosofía”(Facultad inferior) que representa la “figura crítica” y expresa a la “izquierda” dentro del pensamiento universi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23:10:55Z</dcterms:created>
  <dc:creator>Hugo Latorre</dc:creator>
  <dc:description/>
  <dc:language>en-US</dc:language>
  <cp:lastModifiedBy>María Asunción</cp:lastModifiedBy>
  <dcterms:modified xsi:type="dcterms:W3CDTF">2014-11-24T18:01:51Z</dcterms:modified>
  <cp:revision>48</cp:revision>
  <dc:subject/>
  <dc:title>UNIVERSIDAD.</dc:title>
</cp:coreProperties>
</file>