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0D8-5D7B-4748-857F-39BFE931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58D-5DD0-45B3-B7F9-418BBEF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B35-187A-4070-895B-2450314A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52E-703A-4CFA-862A-BCE1168E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E263-E5FE-4732-9B9B-1F16F648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5166-EF98-4C4F-865B-55ECB1C9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BC3-3432-40C0-8845-88A04184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64C2-8D3C-4E85-AEA5-B25E939F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D240-74AD-4A8A-A854-49C85488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018-DD0D-4567-8E41-BEDEA5A0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2C4-B314-4E0F-A8FE-5498106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EE6-616A-451D-A6D2-C18EEF7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ED8-4FC5-4360-97C1-9DE1B45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54D-2776-4F1E-9A48-9D389E8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E27-D75A-4FE5-A406-EDE9C6F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9FE2-AAD0-4A8B-956D-7D43D349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79F-B378-4A4B-BE56-AA209E24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6E9-6A66-47C1-B2C5-BEBFF28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8A9-7FC5-4FC4-A1B4-DBE0C67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92B-F195-450D-BE02-4CA6EA70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417-0DAA-4AB1-9350-C9B29E2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4D7-5530-4D93-B008-15E77567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596-0772-4931-B011-6BCDB4B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A78-43DE-4524-AA94-6790173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B912-C3DA-44F7-8B18-A50A85680F3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48FA-4AAC-4639-8B94-011CE54A7E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ENLACES  VIRTUOS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CAJA NEGRA DEL DESARROLLO 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MPRESAS Y UNIVERSIDAD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humboldtia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l conocimiento univers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La luz de la 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Profesionaliz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También investiga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5111640" y="213372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A PROFESIONALIZAN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rresponde  a la etapa de la industrializa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ubre las necesidades de las actividades  laborales más demandadas socialme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iende a ser una formación de pautas y malla curricular rígid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ocentes no tienen dedicación investigativ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4648320" y="272268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PROGR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e adscriben a un proyecto a desarrollar en un tiempo determin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 función es fundamentalmente de investigación y desarroll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ueden vincularse a instituciones de gobierno o privadas quienes les financia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Object 1024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Sociedad  de la innovació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Object 0"/>
          <p:cNvGraphicFramePr/>
          <p:nvPr/>
        </p:nvGraphicFramePr>
        <p:xfrm>
          <a:off x="990720" y="1697040"/>
          <a:ext cx="788652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8865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rge de la crisis de financiamient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uscan alianzas económicas con sector oficial y priv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s investigadores actúan tanto en la academia como en la empres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escubrimiento  son patentados con derechos compartid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Object 0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1.- Forma parte de las estrategias de innovación nacional: parques tecnológicos,     ciudades industriales, institutos  de investigación, centros de desarrollo tecnológico, laboratorios   industriales, etc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2.- Comienza a cotizar la función de asesor en promoción y gestión innovativa. Esta es una fase  de intermediación especializada muy demandada en países en que la actividad empresa innovación se hace más exigente y prolífica. Su función es como el Know How de la era industrial, pero a la cual se incorpora el Know Why, es decir, diseñar anticipadamente un camino de desarrollo prometedor dentro del infinito  escenario  de posibilidades que ofrece la investigación genérica o básic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3  .- Alianzas y acuerdos contractuales entre universidades y equipos de investigación para patentar y sacar provecho económico de sus descubrimiento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 relevancia social de las universidades depende de la evaluación  que los actores políticos  y sociales hacen de su desempeñ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s dable observar que las universidades de la época de “cooperación”, son vistas como aportadores importantes al desarrollo económico y social del modelo dominante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o cuando  asoman las crisis, tan propias de las fases del desarrollo en todas las sociedades de cambio constante, como es la sociedad capitalista contemporánea,  esta sociedad  dirige la mirada a las instituciones universitaria en busca de respuestas y salidas, las que habitualmente no se tienen, justamente por estar inmersos en un tiempo  tibio de funcionalidad aceptable  con el sistema vigen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hora que la exigencia de nuevas estrategias y nuevas fuentes de generación de ventajas competitivas se hace urgente, los “policy makers” buscan respuestas en  el sector empresarial y en las universidades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oda vez que las universidades no están preparadas para iniciar esa fase de emprendimiento, se convierten en una carga social y los presupuestos destinados a la academia son derivados o anulados, con lo cual la universidad comienza a perde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CONTRA-REACCIÓN :  ante esta realidad adversa, las universidades pueden continuar, por un tiempo, con sus políticas desfasadas y decaer lenta o aceleradamente o retoman el desafío de  recupera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levancia :  la recuperación de relevancia social la harán las universidades de la única manera posible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diante l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) REDEFINICIÓN DE SUS PROPIOS ROL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) MEJORAR LA CALIDAD Y PERTINENCIA DE SU OFERT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) Y PONERSE A LA CABEZA DE LA NUEVA FASE DE DESARROLL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esta forma, las universidades  logran  recuperar  la relevancia y el aprecio social acerca de su rol, lo cual redundará en aportaciones de recursos y el reinicio de una nueva fase de “COOPERACIÓN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s formas de operar de las universidades pasan por dos fases alternas: una de “COOPERACIÓN” y otra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) LA FASE DE COMPETENCIA: se caracteriza porque las universidades deben salir a buscar sus alternativa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FINANCIAMIENTO (la sociedad se resiste a refinanciar sus déficit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ORGANIZACIÓN : debe alterar su esquema organizacional para hacerla más ágil y apta a las nuevas exigencias (debe reorientar su esfuerzo muscular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priorización:  donde se cambia el esquema de objetivos y de recursos destinados a cada uno de sus estamentos o áreas de ac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Grandes Modelos Culturales de 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niversidades escolástica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niversidades Humbold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Academia emprendedo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4648320" y="2241720"/>
            <a:ext cx="380988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) La fase de cooperación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Una vez  que las universidades logran recuperar  su relevancia social como actores que generan un aporte importante al conocimiento, la innovación y la producción, la sociedad vuelve a integrarse  al quehacer universitario, mediante un nuevo espíritu de cooperación, que en el fondo implica la entrega de nuevos recurs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Las  reformas universitarias del 68 a nivel mundial: la sociedad manifiesta a través de sus estudiantes la inconformidad con el esquema organizativo de las institucion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Una década más tarde, la revolución del Accountability en Inglaterra de la señora Thatcher (se inicia las fases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os décadas más tarde, con la era de la Unión Europea,  se da inicio a otra etapa de COOPERACIÓN entre universidad y desarrollo en el escenario  comunitario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n Chile se reproducen, igualmente, la crisis de la reforma universitaria en 1968  ( reformas organizativas demandadas por el estudiantado en nombre de la sociedad) y la reformas de la educación superior a partir de mediados  de la década de los 70 con las privatizaciones en las universidades y la reducción presupuestaria en las universidades públicas (COMPETENCIA Y ACCOUNTABILITY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ile no ha  alcanzado aún una nueva fase de COOPERACIÓN, pues no se ha dado con un modelo de desarrollo nacional y con un modelo de universidad ad-hoc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STE ES EL GRAN TEMA A DISCUTIR EN ESTE SEMESTRE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1.-  De  la Universi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2.- De la Empre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3.- Cooperación Universidad-Sector productiv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  de la Relación Universidad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 Universidad y la empresa,  símbolos del  saber  especulativo y del saber práctico, se hayan envueltas en el torbellino de los cambios con que se inicia el siglo XXI. Las dos  instituciones necesitan reflexionar sobre su propia identidad y tomar conciencia de los lazos que  inevitablemente les unirán en el futur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)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n 1919, el parlamento de Canadá, lo definió como  el pilar de la política CIENTÍFICA; hoy se le define como uno de los pilares más sólidos de la política ECONÓMIC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La  ciencia se ha hecho económica y la economía se soporta en la ciencia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CHILE: Gasto en ciencia y tecnologí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6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51280" y="2205000"/>
            <a:ext cx="367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orc.(%)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25  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46   PIB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65  PIB     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1.-La importancia de la ciencia y tecnología en la economía mundial, ha derivado en cambios en la empresa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 Black"/>
              </a:rPr>
              <a:t>Realizar investigación, adaptación y reingeniería; también instalar cursos permanentes de capacitación y actualización de personal; cambios en las jerarquías del personal y  de las evaluaciones curriculares  así como de los destinos de los operarios y ger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òrtancia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complejización del conocimiento, ha obligado a las universidades a  instalar  postgrados de diversa  intensidad: especialización, actualización, master, magister, doctorado, postdoctorado, etc, lo que ha derivado que las universidades se transformen en las depositarias de la investigación de más largo plaz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Fondos centrales de investigación de las universidad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       Mill. $  (1988)     Indi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78     806                      1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0     667                        8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1     872  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2    1.097                     13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4    1.047                     12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       873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7       672                       84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aparición de nuevas generaciones de saberes y tecnologías, ha obligado a las universidades 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abrir nuevos contenidos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Establecer nuevos medios y estrategias de aprendizaj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Incorporar   diversos tipos de estudiantes, con formalización de nuevos nexos con la academi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TEM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1.- universidad para el sXX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2.- la academia emprendedor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3.- los modelos de universida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4.- estrategias de joint-ven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internacionalización de la economía obliga a  los países a revaluar su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humano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” como verdadero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“social”,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como real inversión productiva. El financia-miento de la ciencia y tecnología, por los gobiernos y las empresas, es otro factor asociado a las universi-dades que la sociedad comienza a valorar en el mundo prese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producción de doctores    es la base de  cambios en la forma de enfrentar el reto del futuro en las universid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los países de desarrollo acelerado , los docentes  deben ser doctores, es decir docentes  e investigado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Chile sólo 1 de cada 5 docentes universitarios es doctor (investigador).  Chile produjo sólo  181 doctores entre  1965 y 1985, con promedio de  21  doctores por año. Esta cifra es dramática, pues  no alcanza a ser 1/3  de lo que el país necesita para  reemplazar los 4000  investigadores que se retiran  (130  anualmente). (J. Allende: Los Postgrados en Chile 1992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Datos de la Unesco señalan que  la proporción de alumnos del nivel 7 (posgrado) equivale al 1.3 de  los alumnos de educación superior.. Esta cifra  es la mitad de lo que muestra un país como Brasil, casi  1/3  de México, 1/4 de Corea y 1/5 de Finlandi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Hasta comienzo de los 90, los países de A.Latina  exhiben un promedio de 17,3 % de estudiantes en el nivel  superior, mientras que los países desarrollados muestran  un % superior al 40 %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os países desarrollados registran 20.000 estudiantes en  la educación superior por cada 100.000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A.Latina, llega a 2.000 estudiantes de la educación superior por cada 100.000 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s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 los comienzo de los 70 las instituciones de Ed. Superior eran  2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comenzar los 90, las instituciones de Ed. Superior superan  llegan a 30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a hacia 1990, la oferta y demanda de cupos en la educación superior estaban a niveles de igualdad. 163.000 vacantes y 114.000 inscritos en la PA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os aportes fiscales a las universidades han caído en relación a 1970 en un 30 % (1990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n 22 instituciones que reciben aportes directos del Estad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UC., ha disminuido el aporte fiscal  en un 60 % entre 1980 y 1990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externalización d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empresas al crecer a dimensiones transnacional y acumular grandes excedentes económicos, no sólo han cerrado el círculo </a:t>
            </a:r>
            <a:r>
              <a:rPr b="0" i="1" lang="es-ES" sz="3200" spc="-1" strike="noStrike">
                <a:solidFill>
                  <a:srgbClr val="000000"/>
                </a:solidFill>
                <a:latin typeface="Arial Black"/>
              </a:rPr>
              <a:t>productor-distribuidor-financiero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, sino que también han hecho desarrollo corriente arriba (investigación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competencia empresarial en 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grandes empresas dependieron en su desarrollo del saber generado en las universidades; para ello hicieron joint-venture. Pero ahora han adquirido autonomía suficiente para prescindir de las universidades en los grandes desarrollos de investigació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El robo de los huevo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hora sucede que el saber más trascendental en tecnología y ciencia está siendo generado en institutos financiado por grandes empres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s universidades se han transformado en proveedoras de calificaciones, pero tempranamente el personal es cooptado por los institutos de investigación que desarrollan sus propios program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EN EL SIGLO 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913040" y="2133720"/>
            <a:ext cx="135576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ada tiempo histórico                  ( económico y cultural) contiene un modelo de universidad (concentrador y elaborador de saberes) que le es propio y característ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avariciosa desclasa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Nietzsche acusaba a las universidades decimonónicas de avaricia en el saber, pues querían concentrar todos los saberes en ell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hora el saco de la avaricia se ha rot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Bibliografí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 crisis no moderna de la universidad moderna”. Willy Thay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profesionales en Chile” Brunner, compilad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porvenir de nuestros centros de enseñanza”. F.Nietzsch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nforme sobre la educación superior en Chile” J.J. Brunn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ocaso de las universidades” . Mayz Vallenill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S.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academia emprendedora, contiene características  diferentes a las universidades  existentes históricament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s diferencias  son de objetivos, de  estilo organizativo y de su relación con la socie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Correspondencia sociedad -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IDEOLÓGI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Industr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Innovativ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Universi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scolást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Humbol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 Academia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Ideológica-Escolást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2173320"/>
          <a:ext cx="775332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3320"/>
                    <a:ext cx="775332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- Sociedad Industri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526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xpansión productiva  téc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1042920" y="2425680"/>
          <a:ext cx="748980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5680"/>
                    <a:ext cx="7489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9334440" y="3086280"/>
          <a:ext cx="8089920" cy="108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440" y="3086280"/>
                    <a:ext cx="80899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contemporán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Universidad humboldtian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Universidad profesionaliza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Universidad program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Universidad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4648320" y="2832120"/>
            <a:ext cx="3809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1T04:41:48Z</dcterms:created>
  <dc:creator>Hugo Latorre</dc:creator>
  <dc:description/>
  <dc:language>en-US</dc:language>
  <cp:lastModifiedBy>María Asunción</cp:lastModifiedBy>
  <dcterms:modified xsi:type="dcterms:W3CDTF">2014-11-24T18:11:11Z</dcterms:modified>
  <cp:revision>32</cp:revision>
  <dc:subject/>
  <dc:title>ENLACES  VIRTUOSOS</dc:title>
</cp:coreProperties>
</file>