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EE9-ED23-497A-A617-AC983ECB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32C-433F-4CD4-B048-73EFB053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7AA-E527-42DE-82A0-53C6EBD4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A44-49A3-4F11-AA3B-2296B48F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F0B9F-D744-4BFC-8B16-AB433EF5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80E7E-F712-4462-97D5-C568F28B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77751-F4A1-43BA-830C-397F16BB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F8652-B989-4C2B-A5B6-2B28138C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39E21-C0AF-4759-B321-CCDBD14E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D2EBA-FCB2-4588-8F63-1F0EEF6B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96A3D-B3FB-4062-B6AA-E04FE886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20C-302F-4CD2-90D8-B1B62039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D5FC6-F26A-455E-B97A-D39C7FE6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97D55-CAC0-44D6-811D-7268CED9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CEC23-71EC-4462-A713-20393C8A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4626A-C979-49F2-A689-1511A21D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DF717-84C3-4C77-87B9-26A5EB87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92F-DDFC-4629-961A-010711CF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ACA-F1B1-47E2-81FB-42D3671B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F9D-C62B-4D5E-8D3A-2363B956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DB1-B1ED-4176-A401-BCBC2EB6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DBC-1A0A-423F-AC92-C2E85861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F7E-0F0C-49A9-A8A5-886AA2C5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0C7-9FEC-4392-88C0-79BBC63F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6E16-EE31-4087-B4D3-B0D8703082B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5004-DCB4-41D4-A06B-270350E201B9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La Tributación en Chil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Arial"/>
              </a:rPr>
              <a:t>Julián Alcayaga 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Arial"/>
              </a:rPr>
              <a:t>Economi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Arial"/>
              </a:rPr>
              <a:t>CFG Globalización, economía min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Arial"/>
              </a:rPr>
              <a:t>Nueva econom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Universidad de C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antiago, mayo de 20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El secreto, la clave en la evasión y la elus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12503"/>
                </a:solidFill>
                <a:latin typeface="Arial"/>
              </a:rPr>
              <a:t>Inc. 4º art. 35 DL 830 desde 1980 hasta 19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tas listas se indicará, además la renta imponible de los impuestos de categoría, global complementario y adicional, como asimismo el impuesto anual que por los referidos tributos le ha correspondido a cada contribuyente. Podrá indicarse también en estas listas el monto de las rentas exentas del Impuesto Global Complementario: pero si así no se hiciere, la información respectiva se proporcionará a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ualquiera persona que lo solicite.</a:t>
            </a:r>
            <a:r>
              <a:rPr b="0" lang="es-ES" sz="2400" spc="-1" strike="noStrike" u="sng">
                <a:solidFill>
                  <a:srgbClr val="e9ef05"/>
                </a:solidFill>
                <a:uFillTx/>
                <a:latin typeface="Arial"/>
              </a:rPr>
              <a:t>(Derogado por art. 5 letra b ley 19.398 de 199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Políticas, deshonestidades, negligencias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 evidente que l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us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tributaria es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olític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( es el poder político que aprueba las leyes que permiten esas exencion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o l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vas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e efectúa al margen de las leyes, y ella podría ser culpa de contribuyentes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shonest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que no cumplen con sus obligaciones tributa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o en los hechos la evasión también es autorizada por un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istema tributario concebido para ser evadid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y por la falta de voluntad política para aplicar la legislación apropia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Las carretelas e internet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280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apariencia, o para la galería, Chile tiene un eficiente sistema contra la evasión tributaria po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obligación de timbrar en el SII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las facturas, boletas y todos los demás documentos comerciales y contab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ste timbraje que data de la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era de la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carretela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 fue suprimido hace muchas décadas en los países desarroll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Chile, en cambio, la carretela transita  por la más moderna de las autopistas: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Intern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0" y="0"/>
          <a:ext cx="229536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9536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Sólo para pob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21844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xon dueña durante 24 años d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Disputada de Las Conde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jamás pagó un solo peso de impuesto a la renta. Al contrario, dejó perdidas tributarias por US$700 millones , y la vendió en US$1.300 mill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timbraje de facturas, vigente en todo ese período, fue mudo testigo de esta multimillonaria evasión tributa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¿Entonces sirve el timbraj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í … para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torneros y peluquer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entre otros, que han sido clausurados por no dar bole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estos mini evasores les cae el peso de una ley absolutamente ineficiente cuando se trata de verdaderos evasores de impuest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6253200" y="260280"/>
          <a:ext cx="289080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0" y="260280"/>
                    <a:ext cx="28908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¿Y si nos pusiéramos serio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Hay medidas de muy fácil aplicación que desde hace décadas han permitido a los países desarrollados luchar contra la evasión tributaria, por lo que parece increíble que con la mundialización de las comunicaciones y de la economía, ellos no se conozcan y no se implementen en Ch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1) La limitación de las pérdidas con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2) Plan Contable Unico y Oblig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3) Supresión del secreto bancario y con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Límite a las pérdid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915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os países modernos, cuando las empresas tienen pérdidas que sobrepasan de 25 % a 50 % del capital social, existe la obligación legal de aumentar el capital de la empresas o ponerle término de gi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o debe ser así, porque si una empresa, año tras año acumula pérdidas y aún así sigue funcionando, significa que lo hace con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ingresos no declara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que han evadido el pago de impuestos, o son dineros de más dudosa proced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0" y="0"/>
          <a:ext cx="258588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58588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No a los sacos rot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 Chile,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no existen límites a las pérdidas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, lo que se convierte en un verdadero saco roto donde los contribuyentes pueden echar sin límites, ventas sin factura, compras con facturas falsas, gastos o pérdidas no justific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ara terminar con este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aco roto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, ante lo cual el timbraje de facturas de nada sirve, toda empresa que tenga pérdidas superiores a un tercio del capital social,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debe obligatoriamente aumentar su capital, o terminar su giro por determinacion del S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12503"/>
                </a:solidFill>
                <a:latin typeface="Arial"/>
              </a:rPr>
              <a:t>Plan contable único y obligatori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 la U.E. existe un Plan Contable que es obligatorio para todos los contribuyentes de la Unión, y en base a esa plan se deben obligatoriamente presentar los balances, inventarios y Estados de Resultados, junto a la declaración de la ren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l Plan Contable Unico, permite establecer estructuras de gastos por sector y tamaño de empresas, que en la comparación permite el autocontrol y la autofiscal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A río revuelto, pérdidas para el Fisc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tado de Resultado Panader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34920" y="2836800"/>
            <a:ext cx="90010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Sin inventar la rue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62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ada justifica que en Chile no se haya implementado un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lan Contable Unico Nacional y Obligatori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para todos los contribuyentes obligados de llevar contabilidad, salvo el de deliberadamente NO QUERER frenar la evasión tributar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no tener de nuevo qu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ntar la rued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y evitar largas discusiones sobre el tema, lo más lógico sería adaptar directamente el Plan Contable Europeo, el cuál se encuentra traducido al castellano, puesto que se usa en Españ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324000" y="0"/>
          <a:ext cx="174600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1746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El Impuesto a la Ren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odos los ingresos que perciben las empresas o los particulares deben pagar impuesto a la renta, ya sea que esta renta esté representada por ganancias, utilidades, salarios, honorarios, arriendos, dividendo de acciones, u otros ingresos monetar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 un impuesto directo, porque el monto o tasa que se paga está en directa relación con el monto del ingreso percibi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uesto de 1era Catego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uesto de 2da Catego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uesto Global Complementario o Adicion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¡PERO SOLO SE PAGA IMPUESTO SI LA GANANCIA ES DECLARADA</a:t>
            </a:r>
            <a:r>
              <a:rPr b="0" lang="es-ES_tradnl" sz="2400" spc="-1" strike="noStrike">
                <a:solidFill>
                  <a:srgbClr val="ff6600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Suprimir el secreto bancar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2492280"/>
            <a:ext cx="79214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oderoso caballero es Don Dinero ,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i hasta la fecha ningún Presidente se atreve a terminar con el secreto banc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os países avanzados las declaraciones de impuestos y los balances son públicos y no exist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l secreto bancari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para los fiscalizadores tributarios. Suprimir el secreto bancario y el tributario, son medidas muy importantes contra la evasión tributaria, y evidentemente contra el lavado de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0" y="981000"/>
          <a:ext cx="248436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248436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3e3ff"/>
                </a:solidFill>
                <a:latin typeface="Arial"/>
              </a:rPr>
              <a:t>Ventas en Mercados de Futuro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l art. 31 inciso primero de la ley de la Renta establece: “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No se deducirán los gastos incurridos en la adquisición, mantención o explotación de bienes no destinados al giro del negocio o empres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539640" y="2997360"/>
            <a:ext cx="216072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372360" y="2997360"/>
            <a:ext cx="216036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2771640" y="3645000"/>
            <a:ext cx="3529080" cy="0"/>
          </a:xfrm>
          <a:prstGeom prst="line">
            <a:avLst/>
          </a:prstGeom>
          <a:ln w="5724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03640" y="3284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es me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372360" y="2997360"/>
            <a:ext cx="19429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pra Op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0.000 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U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$ 1,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39640" y="2997360"/>
            <a:ext cx="194328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enta Op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0.000 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U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$ 0,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611280" y="5157720"/>
            <a:ext cx="770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gregar: “ incluidas las pérdidas en los mercados de futuro de metales, o del mercado de futuros de cualquier otro producto, o mercados similares que determine el Servicio” </a:t>
            </a:r>
            <a:r>
              <a:rPr b="0" lang="es-ES" sz="1600" spc="-1" strike="noStrike">
                <a:solidFill>
                  <a:srgbClr val="3399ff"/>
                </a:solidFill>
                <a:latin typeface="Arial"/>
              </a:rPr>
              <a:t>(Proposición del FM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3e3ff"/>
                </a:solidFill>
                <a:latin typeface="Arial"/>
              </a:rPr>
              <a:t>Los Precios de Transferenci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l paso de transformar el concentrado en cobre refinado, se van cargando “más costos” a los procesos, que pasan a ser  transferencia de utilidades para las empresas relacionadas que realizan estos procesos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84360" y="3429000"/>
            <a:ext cx="2160360" cy="1079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227640" y="3429000"/>
            <a:ext cx="2160720" cy="1079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3708360" y="3429000"/>
            <a:ext cx="1871640" cy="1224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684360" y="3429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0.000 T Concentrado 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851280" y="3500280"/>
            <a:ext cx="1871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letes seguros fundición, refina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ticipación en el pre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6372360" y="3429000"/>
            <a:ext cx="22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2.000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bre Refin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2916360" y="400536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5724360" y="3933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683360" y="5783400"/>
            <a:ext cx="5808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Agregar inciso 3° en el art. 38 del DL 824: que el valor promedio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cargos sea autorizado por el P. de la R. en base promedio industr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val 2"/>
          <p:cNvSpPr/>
          <p:nvPr/>
        </p:nvSpPr>
        <p:spPr>
          <a:xfrm>
            <a:off x="3124080" y="990720"/>
            <a:ext cx="2592360" cy="143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5580000" y="3357720"/>
            <a:ext cx="2592360" cy="143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826920" y="3429000"/>
            <a:ext cx="2592720" cy="1440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 flipH="1">
            <a:off x="2339640" y="1773360"/>
            <a:ext cx="863640" cy="151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5867280" y="1844640"/>
            <a:ext cx="936720" cy="1297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3348000" y="4581360"/>
            <a:ext cx="2376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 rot="18026400">
            <a:off x="1721520" y="231876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Aporte de capital 2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 rot="17993400">
            <a:off x="2253240" y="2434680"/>
            <a:ext cx="145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mpuesto 3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 rot="3432000">
            <a:off x="5608440" y="21751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tilidad, sin impues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780000" y="421020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éditos 80%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uesto 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3635280" y="1125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sa Matr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125892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nera Chil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6012000" y="3500280"/>
            <a:ext cx="2160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iliales Financie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ermudas, Baha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. Virge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1219320" y="228600"/>
            <a:ext cx="69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O CICLO ELUSIÓN-EVA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1783080" y="6051600"/>
            <a:ext cx="587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Modificar art. 2 DL 600, para que créditos no superen 20%, y en N°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de art. 59 DL 824, que Impto. Adic. Int. Pase de 4 a 20%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La gran falla: la evasión y la elus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a de las razones que explica que un país tan rico como Chile sea pobre, es el mal funcionamiento de su sistema tributario, que permite qu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evasión tributar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alcance a los US$ 4.500 millones anuales, y qu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elus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es decir las exenciones tributarias en favor de los sectores más pudientes de la sociedad alcance a otros US$ 4.500 millones anu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evasión y la elusión tributaria representan alrededor d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n terci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de los actuales ingresos tributarios del Estad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¡ES MAS QUE DEMASIADO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3e3ff"/>
                </a:solidFill>
                <a:latin typeface="Arial"/>
              </a:rPr>
              <a:t>Impuesto 1ª Categoría – Caso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576680"/>
        </p:xfrm>
        <a:graphic>
          <a:graphicData uri="http://schemas.openxmlformats.org/drawingml/2006/table">
            <a:tbl>
              <a:tblPr/>
              <a:tblGrid>
                <a:gridCol w="2274840"/>
                <a:gridCol w="2082960"/>
                <a:gridCol w="1935000"/>
                <a:gridCol w="1936800"/>
              </a:tblGrid>
              <a:tr h="6015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re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o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o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to. 1era C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Gl. Com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édito So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9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olu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Fis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8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3e3ff"/>
                </a:solidFill>
                <a:latin typeface="Arial"/>
              </a:rPr>
              <a:t>Impuesto 1ª Categoría – Caso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765680"/>
        </p:xfrm>
        <a:graphic>
          <a:graphicData uri="http://schemas.openxmlformats.org/drawingml/2006/table">
            <a:tbl>
              <a:tblPr/>
              <a:tblGrid>
                <a:gridCol w="2058840"/>
                <a:gridCol w="2151360"/>
                <a:gridCol w="2009520"/>
                <a:gridCol w="2009880"/>
              </a:tblGrid>
              <a:tr h="56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r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o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o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to. 1era C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Gl. Com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lobal a pag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édito So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lobal pa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Fis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3,296,8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ES_tradn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.697.4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3e3ff"/>
                </a:solidFill>
                <a:latin typeface="Arial"/>
              </a:rPr>
              <a:t>Tabla Impto. Global Complementari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398680"/>
                <a:gridCol w="2097000"/>
                <a:gridCol w="1635120"/>
                <a:gridCol w="209880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12503"/>
                          </a:solidFill>
                          <a:latin typeface="Arial"/>
                          <a:ea typeface="Arial"/>
                        </a:rPr>
                        <a:t>DESD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12503"/>
                          </a:solidFill>
                          <a:latin typeface="Arial"/>
                          <a:ea typeface="Arial"/>
                        </a:rPr>
                        <a:t>HAST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12503"/>
                          </a:solidFill>
                          <a:latin typeface="Arial"/>
                          <a:ea typeface="Arial"/>
                        </a:rPr>
                        <a:t>Ta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12503"/>
                          </a:solidFill>
                          <a:latin typeface="Arial"/>
                          <a:ea typeface="Arial"/>
                        </a:rPr>
                        <a:t>Reba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 $               0,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   6.605.054,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EN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              0,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  6.605.054,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627.9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4.202,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 14.627.920,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.463.20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1.319,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22.117.80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964.9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68.014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30.964.92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.812.04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164.506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39.812.04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.082.7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3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951.349,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 58.711.68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3.389.60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3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703.194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73.389.60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 M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005.726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¿Quienes pagan impuestos ?</a:t>
            </a:r>
            <a:br>
              <a:rPr sz="4400"/>
            </a:br>
            <a:r>
              <a:rPr b="1" lang="es-ES_tradnl" sz="2400" spc="-1" strike="noStrike">
                <a:solidFill>
                  <a:srgbClr val="e3e3ff"/>
                </a:solidFill>
                <a:latin typeface="Arial"/>
              </a:rPr>
              <a:t>(En millones de dólares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340000" y="53046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¡Los mismos de siemp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Object 9"/>
          <p:cNvGraphicFramePr/>
          <p:nvPr/>
        </p:nvGraphicFramePr>
        <p:xfrm>
          <a:off x="457200" y="2244600"/>
          <a:ext cx="8229600" cy="32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44600"/>
                    <a:ext cx="8229600" cy="32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42920" y="620640"/>
          <a:ext cx="6985080" cy="4969080"/>
        </p:xfrm>
        <a:graphic>
          <a:graphicData uri="http://schemas.openxmlformats.org/drawingml/2006/table">
            <a:tbl>
              <a:tblPr/>
              <a:tblGrid>
                <a:gridCol w="1879560"/>
                <a:gridCol w="1878120"/>
                <a:gridCol w="1879560"/>
                <a:gridCol w="1347840"/>
              </a:tblGrid>
              <a:tr h="38268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O DE CONTRIBUYENTES SEGÚN INGRES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TRIBUTARIO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as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° Cont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 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4.19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65.45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,1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4.19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87.1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5.82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2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87.1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78.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.59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4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78.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69.9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.67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4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69.9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61.3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68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7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61.3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48.4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42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48.4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35.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03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35.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 MA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88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213.59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95280" y="549360"/>
          <a:ext cx="8137440" cy="5189400"/>
        </p:xfrm>
        <a:graphic>
          <a:graphicData uri="http://schemas.openxmlformats.org/drawingml/2006/table">
            <a:tbl>
              <a:tblPr/>
              <a:tblGrid>
                <a:gridCol w="2195640"/>
                <a:gridCol w="2241360"/>
                <a:gridCol w="1763640"/>
                <a:gridCol w="1936800"/>
              </a:tblGrid>
              <a:tr h="323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lobal complementario con refor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refor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UE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IVA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ja e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05.0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677.92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.91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463.2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05.737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2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.248.48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26.74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086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033.76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77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62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.711.68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139.45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567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389.68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76.72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45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38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73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59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0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39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9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,71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,85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.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20:00:51Z</dcterms:created>
  <dc:creator>ACJR</dc:creator>
  <dc:description/>
  <dc:language>en-US</dc:language>
  <cp:lastModifiedBy>HP</cp:lastModifiedBy>
  <dcterms:modified xsi:type="dcterms:W3CDTF">2014-06-10T20:58:44Z</dcterms:modified>
  <cp:revision>91</cp:revision>
  <dc:subject/>
  <dc:title>Diapositiva 1</dc:title>
</cp:coreProperties>
</file>