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74F-FC86-4333-B363-7BF83ABB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5BB-D150-4490-BF1C-D6EBA43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0B3-6F8F-457E-A4B2-3E38A4E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741-6C49-4991-B7A6-F221B779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642-6210-4899-96DF-F4E937A0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75C-C640-4D12-BE41-2618CD1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D14-52A4-4C7B-819B-A3E42F4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CB9-B322-42F0-9301-196F9FD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5F7-AE27-4A65-96D5-FBF63CA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652-8E69-418D-A2BF-C446262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87A-8EFC-4C36-A90C-DF8EFA9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DA6-D696-4911-ABC1-B98BA52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2105-DE0D-4900-92E7-7D739982BD5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q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minera perpetua,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4-10-24T01:44:38Z</dcterms:modified>
  <cp:revision>19</cp:revision>
  <dc:subject/>
  <dc:title>FUNDIR, REFINAR E INDUSTRIALIZAR EL COBRE EN CHILE.</dc:title>
</cp:coreProperties>
</file>