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9B98-C02C-4DA7-BFD2-5274B75BC9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oy por hoy, la recuperación de ingresos por otros minerales debe estar por sobre el 5%, dada la aplicación de nuevas tecnologí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5392-E90C-490E-89C0-A83308C448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59F3F-B114-41DD-ADD7-D8E5E7BC0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8C32-8DA5-4336-BF4D-D9EF23DE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AD178-3FD4-4ABF-8BDF-46C53EC64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67BB9-BE2D-49DF-9AF9-75BD69BAD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52E4-B49E-4B24-80A8-4E0CE85D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93211-B303-4D15-BFAF-A00E91068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DC3E0-10A8-4FDA-91BC-4CF60F0BE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FC48-32EF-4A72-A9CD-D48D77F9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7D27-BCDE-4B13-9B77-37FB2931A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2090-ABE9-4D93-94C1-3213F1DA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2C59-993E-413C-A2F0-00613043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D216-8E84-4396-BA74-7486ADEE9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0F73-156C-4162-9AB0-BC0A53DE209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 la GM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MC ocupa un lugar relevante en la economía chile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sector de la GMC es el principal foco de la inversión y del control foráneo en la economía. Representa el rubro individual   más importante  del producto nacional, de las exportaciones y del servicio de capital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años 60: la estabilizac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partir de 1965 se hace una reforma tributaria progresiva que aumenta los ingresos del fisco de manera autónoma a los ingresos de la GM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la recuperación de los precios del internacionales del cobre, permitió una buena recaudación por parte del Fisco nacional, a pesar de los errores cometidos en la “chilenización” del cobr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ciente de la carga tributaria aumentó en un 48% entre 1965 y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oducción de cobre se elevó en un 41% entre 1952 y 1971, lo que representa un  crecimiento anual de apenas un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pobre desempeño hizo que Chile pasará  de ser responsable del 13% de la producción mundial de cobre, al 9% en el perío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 producción de la pequeña y mediana minería  crecía al 10% interanual, llegando a  ser responsable de la cuarta parte de la producción de cobre en Chi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de “chilenización” (1966) del cobre estableció que Codelco (que reemplazó al Departamento del Cobre creado en…1955, adquiriría el 51% de la Braden Copper Company, la que pasó a denominarse “Sociedad Minera El Teni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duce la tributación del 50% vigente a 44%; igualmente elimina la sobretasa establecida en el “Nuevo Trato”, así como los recargos establecidos en 1961.</a:t>
            </a:r>
            <a:endParaRPr b="0" lang="en-US" sz="2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1961 se establecieron dos tributos adicionales: uno de 8 puntos de la tributos y un recargo de 5% adicional al cálculo así efectu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tributación de las otras dos subsidiarias de Anaconda no se alteraron. Se redujo algo la de Chilex (Chuquicamata) y se incrementó un poco la de Andes Copper (El Salvador). A El Salvador se la redujo la franquicia de depreciación acelerada.</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de la reducción  de las tasas y del alza de los precios del mineral, se produjo una situación sorprendente y similar a lo acontecido en 1955 con el “Nuevo Trato”. Permitió que los ingresos anuales obtenidos por la Kennecott y por la Braden más que duplicaran los excedentes obtenidos antes de la chileniz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4.</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sa  del 44% correspondería a 20% de impuesto a la renta y 30% por remesas de utilidades (luego de impues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tajas tributarias concedidas fueron de tal magnitud que antes de iniciarse la producción derivada del programa de expansión y con un precio de 29 ctvos de dólar la libra, las utilidades de la Kennecott (correspondiente al 49%), excedería la que obtenía cuando era dueña del 100% de la empresa.</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1800" spc="-1" strike="noStrike">
                <a:solidFill>
                  <a:srgbClr val="000000"/>
                </a:solidFill>
                <a:latin typeface="Arial"/>
              </a:rPr>
              <a:t>Curiosamente, el diseño tributario para Chiltex, hizo posible que para ciertos tramos de producción la tasa efectiva de tributación resultara neg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ent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ran riqueza del cobre ha representado beneficios y problemas para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 incrementado los ingresos del fisco, pero ha generado una gran inestabilidad y dependencia  de la economía nac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no se deben a una condición natural de la explotación primaria, sino a una deficiencia en la planificación de políticas en el área del cobre. En verdad durante todo el período ( 1952-1971) Chile no tuvo una política del co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icardo  Ffrench Dav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fluctuacion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gnitud de las fluctuaciones provenientes del cobre han alcanzado un promedio equivalente al 8% del PI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esviaciones bruscas se ubican en 1953 (dificultad para colocar en el mercado la producción); 1957-58 (deterioro fuerte de los precios); 1955-56 y1969 (brusca alza de los pre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causa de inestabilid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ncipal causa de inestabilidad de los ingresos se encuentra en la gran variación de los precios de los minerales en los mercados internacional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sector de las exportaciones representa el segmento que provoca mayor inestabilidad en la economía exterior de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ó en promedio, por sí sola, más del 60% de los ingresos por exportaciones del paí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años 50, el ingreso tributario minero llegó a ser la principal fuente de ingresos para el fisco chil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subproducto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cifras solo incluyen las exportaciones de cobre, pero las empresas de la GMC produjeron además subproductos tales como molibdeno, plata y oro. Su monto alcanzó en 1970 a exportaciones por 18 millones de dólares y ventas de molibdeno en el mercado interno por  US$ 4,7 millones. Estos subproductos ya alcanzaban entonces un equivalente al 3% de las ventas totales del cob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rvicios de la inversión miner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depreciación y pago de intereses por el capital propio destinado a inversión en Chile, la GMC se ha llevado más de 1/5 (20%) del valor exportado de cobre, llegando a representar  un 2% del PIB y entre un 6% y un 18 % de las exportaciones totales del pa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gracias a que en 1969 se concreta la participación de Chile del 51%  en la propiedad y en las utilidades de Anaconda, y al impuesto al sobreprecio, es que Chile logra captar mayores ingresos para el Esta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rubro representa la mayor salida de capitales de toda la historia, originadas desde fuentes nacionales de producción (hasta 1970). Es el precio que Chile ha debido pagar por el aporte del capital extranjero en la gran min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tro oportunidades el Estado a cambiado las reglas del juego para intentar revertir o aminorar las fugas de recursos en la GM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51 </a:t>
            </a:r>
            <a:r>
              <a:rPr b="0" lang="es-ES_tradnl" sz="2800" spc="-1" strike="noStrike">
                <a:solidFill>
                  <a:srgbClr val="000000"/>
                </a:solidFill>
                <a:latin typeface="Arial"/>
              </a:rPr>
              <a:t>se restringen los envíos de remesas y mediante la aplicación de un impuesto adicional cada vez que el precio del cobre sobrepasara los US$ 24,5 centavos la Libra, más otro impuesto sobre gastos realizados en moneda na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o en 1955 (Nuevo Trato), </a:t>
            </a:r>
            <a:r>
              <a:rPr b="0" lang="es-ES_tradnl" sz="2800" spc="-1" strike="noStrike">
                <a:solidFill>
                  <a:srgbClr val="000000"/>
                </a:solidFill>
                <a:latin typeface="Arial"/>
              </a:rPr>
              <a:t>se eliminaron ambos gravámenes, con lo cual se incrementaron las utilidades líquidas de las empresas y también las remesas al exteri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67 </a:t>
            </a:r>
            <a:r>
              <a:rPr b="0" lang="es-ES_tradnl" sz="2800" spc="-1" strike="noStrike">
                <a:solidFill>
                  <a:srgbClr val="000000"/>
                </a:solidFill>
                <a:latin typeface="Arial"/>
              </a:rPr>
              <a:t>se redujo nuevamente la tasa de impuestos y la Braden Copper redujo a la mitad sus pagos  tributarios y el Fisco chileno mermó enormemente en sus ingr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 situación sólo se corrigió con los cambios tributarios de 1969 y de participación de Chile en el 51% de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inestables años 50.-</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écada de los 50 fue muy inestable debido a las fluctuaciones de los precios del cobre como por las formas  y reformas  de la tributación sobre exportaciones e importaciones. El ingreso fiscal fue la gran víctima de esta fase incoherente de aplicación de polít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57-58 hubo fuerte baja de los precios del cobre, luego subió y se mantuvo estable hasta 1963. No obstante la producción de la GMC se mantenía estanc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2:23:30Z</dcterms:created>
  <dc:creator>María Asunción</dc:creator>
  <dc:description/>
  <dc:language>en-US</dc:language>
  <cp:lastModifiedBy>María Asunción</cp:lastModifiedBy>
  <dcterms:modified xsi:type="dcterms:W3CDTF">2014-10-24T02:26:15Z</dcterms:modified>
  <cp:revision>12</cp:revision>
  <dc:subject/>
  <dc:title>Importancia de la GMC.</dc:title>
</cp:coreProperties>
</file>