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8C4-8127-4276-AEC4-03442B78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998-DC59-428F-A220-79CB10A2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516-4238-4492-AD68-AC867DEB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FD5-73FE-4F07-BDD7-DB8B1824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4E1-FCB3-40A3-A8B0-EB81D58E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715-A91C-4861-80BB-3F4084AB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2A8-89F1-4C70-A5D2-25EA1B8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7ED-B1FA-4B6F-B6B4-D1D4F8E4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56F-CC4C-4D51-8577-71EA7E7A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3C7-2D29-40A0-BB32-FA8B311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563-0C98-4DA2-93D7-17816B55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C54-6E38-46F5-AD2C-8F022B46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7254-A1AA-43D0-A9CF-63D70FBD460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DIR, REFINAR E INDUSTRIALIZAR EL COBRE EN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go Latorre - Carlos 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ización, Economía minera y Nueva economí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tercer ele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sarrollo tecnológico e industrial del cobre debe auspiciar  enlaces virtuo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Con industrias vinculadas a la minería (prestadoras de servic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- Con industrias derivadas (que usan insumos mine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- Con universidades e institutos tecn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.- Con el desarrollo de l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ransnacionalización de CODEL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política de transnacionalización  opuesta:  se usa el cobre para transnacionalizar empresas extranjeras, no para potenciar el desarrollo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DELCO como empresa trans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Por qué transnacionalizar a CODEL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 desde esa posición define muchas potencialidades al desarrollo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stratégico de Chile como gran poder productivo y de definición de mercados y precios, por tanto de utilidades may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un poder internacional como CODELCO a escala transnacional entrega al país capacidad de negociar  en buen pie diversos temas de interés para un desarrollo integral en o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 embargo hay quienes desean privatizar  a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argu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Que el Estado no debe  intervenir en la economía (razón puramente ide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Que las inversiones privadas son necesarias (razón desvirtu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Que nos permite integrarnos a los mercados (razón supues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Porque necesitamos los capitales externos (razón defraud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Que no tenemos capacidad para explotar solos el sector minero (razón no demostr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roduce Chile en concentr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ile está produciendo app. 6 millones de tons. de concentrado de c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Chi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rededor del 50% de la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el exteri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sto, app. 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no FyR la totalidad del mineral que se extrae en Chile?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el Gobierno no quiere establecer una Política de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qu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cree en la libre iniciativa de los privados, como motor del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desea mantener buenas relaciones con los países consumidores de materias primas e inversion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ierde Chile por no refinar en el paí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1990-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ó de percibir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S$ 3.5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de la libra de cobre  a US$ 1,0. Cálculos  de Cochil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Desde el 2001 al 2010: se  habrá dejado de percibir 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9.500 a 12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 de pérdidas para el período 1990-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13.000 a 15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ugo Latorre, según cifras de Carlos Tomic. En “Royalty 2003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n qué más pierde Chi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mpleos bien remu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acidad de negociación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rescate de los recursos incorporados a los concentrados (elevación de los costos): fletes, seguros, análisis químicos, créditos banc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tegración productiva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desarrollo tecn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idad productiv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gana con no fundir ni refinar en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accionistas de la empresa transnacional que es dueña de la Concesión minera perpetua,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jecutivos de las empresas matrices transnacionales: b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añías aseguradoras de los embarques mineros (generalmente asociadas a las empresas matrices 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bancos que financian al fundidor extranjero (i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que exportan el producto, pues  imponen descuentos de hasta el 9% del valor real del mi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finerías extranjeras que reciben una sub-materia prima subsidiada des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asociadas que extraen  el mineral  incorporado a los concentrados: molibdeno, oro, paladio, etc agregando valor en 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DELCO ¿pública o priv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punto de vista de la producción de cobre, en 1971 CODELCO producía el 100% del cobre chileno (900.000 Toneladas año) y financiaba el 75% del presupuesto de la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hora, después de la privatización, CODELCO produce el 26,5% del cobre chileno (1.300.000 Toneladas), pero aporta más de 25 mil millones de dólares en el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FRAS PARA NO OLV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 Extranjera Directa, IED, y en particular las grandes mineras privadas, fundamentalmente extranjeras, que controlan el 72% de la producción de cobre de Chile, según el Banco Central, enviaron a sus casas matrices, SOLO por utilidades e intereses 81 mil millones de dólares, entre 2004 y 2008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idera la “Depreciación Acelerada ”, el elevado costo de sus compras y servicios en el exterior y lo que se apropian por precios de transferencias entre filiales, el valor de lo enviado al exterior supera los 100 mil millones de dólares en este mismo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izar el co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 dos  vertientes de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Corriente arriba: es el desarrollo de la investigación tecnoló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Corriente abajo: es la aplicación productiva e 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8:34Z</dcterms:created>
  <dc:creator>Hugo Latorre</dc:creator>
  <dc:description/>
  <dc:language>en-US</dc:language>
  <cp:lastModifiedBy>María Asunción</cp:lastModifiedBy>
  <dcterms:modified xsi:type="dcterms:W3CDTF">2014-10-24T01:44:38Z</dcterms:modified>
  <cp:revision>19</cp:revision>
  <dc:subject/>
  <dc:title>FUNDIR, REFINAR E INDUSTRIALIZAR EL COBRE EN CHILE.</dc:title>
</cp:coreProperties>
</file>