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48B-4E0C-429C-A082-59869C68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19F-1458-4313-9A32-C436D215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E92-E594-493C-B4D6-FCB005A9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3AE-9BD9-45AE-A846-DAA7CE1B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9DD53-795D-40E3-AA11-5FE89D17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1256C-0F21-4321-B9FE-453AFF8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0C27-2DE4-47DE-B74F-8BD7FC9F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EAAC6-D30D-4664-8F8D-9EAEAEB1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8854C-CB17-4536-913B-2C449E41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B487-8AB9-412C-90D2-FF8D3CAF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F88C7-CF1D-40E2-9316-C6C42D4D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64E-99B3-4DD8-89D3-0539B789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90E42-868F-4A9A-A5AC-C3DFB2C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5EB3-252D-4E24-8D4E-795EED1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B042C-246F-4EA0-9157-AD6F9CE5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6C97B-A87E-4CEB-AB41-D0ECCDD9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BC33-872A-46AD-A6C6-3942318F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3D2-109A-4207-BF8C-4CC3FEA3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809-6CC6-442E-9415-FB043D3F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2A7-A8B6-4387-86DE-4AF71E30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674-AEA4-4EF8-8C9F-5CC9B12D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9E2-6923-4F00-95AB-34CF30FA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5FE-AF5C-4455-B232-B9ADCA6B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0AD-D7CA-48EC-93EB-08BEE563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8F92-3A3B-4339-9F8A-454B7C165C2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4464-292E-46B7-830A-E27F2C43DF79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La Tributación en Chi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Julián Alcayaga 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Econom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CFG Globalización, economía mi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Nueva econom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antiago, mayo de 20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l secreto, la clave en la evasión y la elus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12503"/>
                </a:solidFill>
                <a:latin typeface="Arial"/>
              </a:rPr>
              <a:t>Inc. 4º art. 35 DL 830 desde 1980 hasta 19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s listas se indicará, además la renta imponible de los impuestos de categoría, global complementario y adicional, como asimismo el impuesto anual que por los referidos tributos le ha correspondido a cada contribuyente. Podrá indicarse también en estas listas el monto de las rentas exentas del Impuesto Global Complementario: pero si así no se hiciere, la información respectiva se proporcionará a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ualquiera persona que lo solicite.</a:t>
            </a:r>
            <a:r>
              <a:rPr b="0" lang="es-ES" sz="2400" spc="-1" strike="noStrike" u="sng">
                <a:solidFill>
                  <a:srgbClr val="e9ef05"/>
                </a:solidFill>
                <a:uFillTx/>
                <a:latin typeface="Arial"/>
              </a:rPr>
              <a:t>(Derogado por art. 5 letra b ley 19.398 de 19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Políticas, deshonestidades, negligencias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evidente que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u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tributaria 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lític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( es el poder político que aprueba las leyes que permiten esas exencio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o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va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efectúa al margen de las leyes, y ella podría ser culpa de contribuyent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shonest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que no cumplen con sus obligaciones tributa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o en los hechos la evasión también es autorizada por u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 tributario concebido para ser evadid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por la falta de voluntad política para aplicar la legislación apropi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Las carretelas e interne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80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apariencia, o para la galería, Chile tiene un eficiente sistema contra la evasión tributaria po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obligación de timbrar en el SII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as facturas, boletas y todos los demás documentos comerciales y conta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e timbraje que data de la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era de l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rretel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 fue suprimido hace muchas décadas en los países desarroll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Chile, en cambio, la carretela transita  por la más moderna de las autopistas: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Intern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0" y="0"/>
          <a:ext cx="229536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953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ólo para pob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xon dueña durante 24 años d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Disputada de Las Conde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jamás pagó un solo peso de impuesto a la renta. Al contrario, dejó perdidas tributarias por US$700 millones , y la vendió en US$1.300 mill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imbraje de facturas, vigente en todo ese período, fue mudo testigo de esta multimillonaria evasión tribut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¿Entonces sirve el timbraj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… par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orneros y peluquer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entre otros, que han sido clausurados por no dar bol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estos mini evasores les cae el peso de una ley absolutamente ineficiente cuando se trata de verdaderos evasores de impues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6253200" y="260280"/>
          <a:ext cx="289080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260280"/>
                    <a:ext cx="28908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¿Y si nos pusiéramos serio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Hay medidas de muy fácil aplicación que desde hace décadas han permitido a los países desarrollados luchar contra la evasión tributaria, por lo que parece increíble que con la mundialización de las comunicaciones y de la economía, ellos no se conozcan y no se implementen en Ch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) La limitación de las pérdidas con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) Plan Contable Unico y Oblig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) Supresión del secreto bancario y con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Límite a las pérdid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915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os países modernos, cuando las empresas tienen pérdidas que sobrepasan de 25 % a 50 % del capital social, existe la obligación legal de aumentar el capital de la empresas o ponerle término de gi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o debe ser así, porque si una empresa, año tras año acumula pérdidas y aún así sigue funcionando, significa que lo hace con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ingresos no declar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que han evadido el pago de impuestos, o son dineros de más dudosa proced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0" y="0"/>
          <a:ext cx="258588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5858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No a los sacos ro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Chile,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existen límites a las pérdida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lo que se convierte en un verdadero saco roto donde los contribuyentes pueden echar sin límites, ventas sin factura, compras con facturas falsas, gastos o pérdidas no justific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ra terminar con este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aco rot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ante lo cual el timbraje de facturas de nada sirve, toda empresa que tenga pérdidas superiores a un tercio del capital social,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debe obligatoriamente aumentar su capital, o terminar su giro por determinacion del S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12503"/>
                </a:solidFill>
                <a:latin typeface="Arial"/>
              </a:rPr>
              <a:t>Plan contable único y obligator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la U.E. existe un Plan Contable que es obligatorio para todos los contribuyentes de la Unión, y en base a esa plan se deben obligatoriamente presentar los balances, inventarios y Estados de Resultados, junto a la declaración de la r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 Plan Contable Unico, permite establecer estructuras de gastos por sector y tamaño de empresas, que en la comparación permite el autocontrol y la autofiscal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A río revuelto, pérdidas para el Fisc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ado de Resultado Panad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34920" y="2836800"/>
            <a:ext cx="9001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in inventar la rue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ada justifica que en Chile no se haya implementado un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lan Contable Unico Nacional y Obligator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todos los contribuyentes obligados de llevar contabilidad, salvo el de deliberadamente NO QUERER frenar la evasión tributar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no tener de nuevo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ntar la rued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y evitar largas discusiones sobre el tema, lo más lógico sería adaptar directamente el Plan Contable Europeo, el cuál se encuentra traducido al castellano, puesto que se usa en Españ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324000" y="0"/>
          <a:ext cx="174600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1746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El Impuesto a la Ren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ingresos que perciben las empresas o los particulares deben pagar impuesto a la renta, ya sea que esta renta esté representada por ganancias, utilidades, salarios, honorarios, arriendos, dividendo de acciones, u otros ingresos moneta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un impuesto directo, porque el monto o tasa que se paga está en directa relación con el monto del ingreso percib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de 1era Categ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de 2da Categ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Global Complementario o Adicio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¡PERO SOLO SE PAGA IMPUESTO SI LA GANANCIA ES DECLARADA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uprimir el secreto bancar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79214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deroso caballero es Don Dinero ,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i hasta la fecha ningún Presidente se atreve a terminar con el secreto banc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os países avanzados las declaraciones de impuestos y los balances son públicos y no exist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l secreto bancar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los fiscalizadores tributarios. Suprimir el secreto bancario y el tributario, son medidas muy importantes contra la evasión tributaria, y evidentemente contra el lavado de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0" y="981000"/>
          <a:ext cx="248436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248436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3e3ff"/>
                </a:solidFill>
                <a:latin typeface="Arial"/>
              </a:rPr>
              <a:t>Ventas en Mercados de Futur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art. 31 inciso primero de la ley de la Renta establece: “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39640" y="2997360"/>
            <a:ext cx="216072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372360" y="2997360"/>
            <a:ext cx="21603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2771640" y="364500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03640" y="328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es me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372360" y="2997360"/>
            <a:ext cx="1942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ra Op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0.000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U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$ 1,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39640" y="2997360"/>
            <a:ext cx="19432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enta Op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0.000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U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$ 0,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611280" y="515772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gregar: “ incluidas las pérdidas en los mercados de futuro de metales, o del mercado de futuros de cualquier otro producto, o mercados similares que determine el Servicio” </a:t>
            </a:r>
            <a:r>
              <a:rPr b="0" lang="es-ES" sz="1600" spc="-1" strike="noStrike">
                <a:solidFill>
                  <a:srgbClr val="3399ff"/>
                </a:solidFill>
                <a:latin typeface="Arial"/>
              </a:rPr>
              <a:t>(Proposición del FM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3e3ff"/>
                </a:solidFill>
                <a:latin typeface="Arial"/>
              </a:rPr>
              <a:t>Los Precios de Transferenc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paso de transformar el concentrado en cobre refinado, se van cargando “más costos” a los procesos, que pasan a ser  transferencia de utilidades para las empresas relacionadas que realizan estos procesos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4360" y="3429000"/>
            <a:ext cx="216036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227640" y="3429000"/>
            <a:ext cx="216072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3708360" y="3429000"/>
            <a:ext cx="1871640" cy="12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84360" y="3429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.000 T Concentrado 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851280" y="3500280"/>
            <a:ext cx="1871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letes seguros fundición, refin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ticipación en el pre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372360" y="342900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2.000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bre Ref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916360" y="400536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5724360" y="3933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683360" y="5783400"/>
            <a:ext cx="5808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Agregar inciso 3° en el art. 38 del DL 824: que el valor promedi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cargos sea autorizado por el P. de la R. en base promedio industr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3124080" y="990720"/>
            <a:ext cx="259236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580000" y="3357720"/>
            <a:ext cx="259236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826920" y="3429000"/>
            <a:ext cx="2592720" cy="1440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 flipH="1">
            <a:off x="2339640" y="1773360"/>
            <a:ext cx="863640" cy="151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867280" y="184464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3348000" y="4581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 rot="18026400">
            <a:off x="1721520" y="2318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porte de capital 2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 rot="17993400">
            <a:off x="2253240" y="2434680"/>
            <a:ext cx="14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mpuesto 3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 rot="3432000">
            <a:off x="5608440" y="21751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tilidad, sin impues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780000" y="421020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éditos 80%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esto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635280" y="1125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sa Matr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25892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nera Chil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012000" y="3500280"/>
            <a:ext cx="2160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iliales Financi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ermudas, Baha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. Virge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219320" y="228600"/>
            <a:ext cx="69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O CICLO ELUSIÓN-EVA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1783080" y="6051600"/>
            <a:ext cx="587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Modificar art. 2 DL 600, para que créditos no superen 20%, y en N°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e art. 59 DL 824, que Impto. Adic. Int. Pase de 4 a 20%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La gran falla: la evasión y la elus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a de las razones que explica que un país tan rico como Chile sea pobre, es el mal funcionamiento de su sistema tributario, que permite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evasión tributar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alcance a los US$ 4.500 millones anuales, y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elu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es decir las exenciones tributarias en favor de los sectores más pudientes de la sociedad alcance a otros US$ 4.500 millones anu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vasión y la elusión tributaria representan alrededor d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n terc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los actuales ingresos tributarios del Estad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¡ES MAS QUE DEMASIAD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Impuesto 1ª Categoría – Caso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76680"/>
        </p:xfrm>
        <a:graphic>
          <a:graphicData uri="http://schemas.openxmlformats.org/drawingml/2006/table">
            <a:tbl>
              <a:tblPr/>
              <a:tblGrid>
                <a:gridCol w="2274840"/>
                <a:gridCol w="2082960"/>
                <a:gridCol w="1935000"/>
                <a:gridCol w="1936800"/>
              </a:tblGrid>
              <a:tr h="6015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to. 1era 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Gl. Co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So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9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olu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F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Impuesto 1ª Categoría – Caso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2058840"/>
                <a:gridCol w="2151360"/>
                <a:gridCol w="2009520"/>
                <a:gridCol w="2009880"/>
              </a:tblGrid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to. 1era 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Gl. Co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lobal a pag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So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lobal pa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F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3,296,8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.697.4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3e3ff"/>
                </a:solidFill>
                <a:latin typeface="Arial"/>
              </a:rPr>
              <a:t>Tabla Impto. Global Complementar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398680"/>
                <a:gridCol w="2097000"/>
                <a:gridCol w="1635120"/>
                <a:gridCol w="20988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DESD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HA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Ta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Reba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 $               0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   6.605.054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EN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              0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  6.605.054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627.9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4.202,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 14.627.920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463.20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1.319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22.117.80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964.9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68.014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30.964.92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.812.04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164.506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39.812.04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.082.7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51.349,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 58.711.68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3.389.60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703.194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73.389.60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 M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05.726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¿Quienes pagan impuestos ?</a:t>
            </a:r>
            <a:br>
              <a:rPr sz="4400"/>
            </a:br>
            <a:r>
              <a:rPr b="1" lang="es-ES_tradnl" sz="2400" spc="-1" strike="noStrike">
                <a:solidFill>
                  <a:srgbClr val="e3e3ff"/>
                </a:solidFill>
                <a:latin typeface="Arial"/>
              </a:rPr>
              <a:t>(En millones de dólares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340000" y="53046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¡Los mismos de siemp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9"/>
          <p:cNvGraphicFramePr/>
          <p:nvPr/>
        </p:nvGraphicFramePr>
        <p:xfrm>
          <a:off x="457200" y="2244600"/>
          <a:ext cx="8229600" cy="32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44600"/>
                    <a:ext cx="8229600" cy="32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42920" y="620640"/>
          <a:ext cx="6985080" cy="4969080"/>
        </p:xfrm>
        <a:graphic>
          <a:graphicData uri="http://schemas.openxmlformats.org/drawingml/2006/table">
            <a:tbl>
              <a:tblPr/>
              <a:tblGrid>
                <a:gridCol w="1879560"/>
                <a:gridCol w="1878120"/>
                <a:gridCol w="1879560"/>
                <a:gridCol w="1347840"/>
              </a:tblGrid>
              <a:tr h="3826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O DE CONTRIBUYENTES SEGÚN INGRE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TRIBUTARIO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° Con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4.19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65.45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1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4.19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7.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5.82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7.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78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.59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78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69.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.67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69.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61.3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68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61.3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8.4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42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8.4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35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03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35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MA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88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213.59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549360"/>
          <a:ext cx="8137440" cy="5189400"/>
        </p:xfrm>
        <a:graphic>
          <a:graphicData uri="http://schemas.openxmlformats.org/drawingml/2006/table">
            <a:tbl>
              <a:tblPr/>
              <a:tblGrid>
                <a:gridCol w="2195640"/>
                <a:gridCol w="2241360"/>
                <a:gridCol w="1763640"/>
                <a:gridCol w="1936800"/>
              </a:tblGrid>
              <a:tr h="323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lobal complementario con refor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refor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E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IVA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 e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05.0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677.9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.91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463.2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5.73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248.4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26.74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8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033.76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77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62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711.6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39.45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56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89.6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76.72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45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8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73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59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0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39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9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,7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,85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0:00:51Z</dcterms:created>
  <dc:creator>ACJR</dc:creator>
  <dc:description/>
  <dc:language>en-US</dc:language>
  <cp:lastModifiedBy>HP</cp:lastModifiedBy>
  <dcterms:modified xsi:type="dcterms:W3CDTF">2014-06-10T20:58:44Z</dcterms:modified>
  <cp:revision>91</cp:revision>
  <dc:subject/>
  <dc:title>Diapositiva 1</dc:title>
</cp:coreProperties>
</file>