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573-CA73-4767-91FF-B00748D9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171-137B-4F26-9F1A-ABF978CE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903D7-7DC8-47CD-9EBF-7BF3630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DCEB4-1CCC-4028-A872-9EE4FDE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67F63-FAC0-448F-B9E6-87627DD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5E1AA-6AE2-42FD-AB6C-54D45C1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17793-662A-4EA5-8300-A1F827D8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24CCB-41D8-4C2B-8157-7B08483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8E302-5A2E-4DEF-A841-CCA63318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18159-FDC8-4D6B-8075-F7CD63ED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C84D3-9B8C-4B88-B68E-E0A0E2F1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1114-6AA8-47BB-90F5-F2653336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532-7AF3-4981-9CDE-D6188D6D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AD31-42C1-4ED1-9603-A80547AA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AFBC9-8760-4B42-A80B-3432274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91F95-AD0C-49CD-B831-69DEC9C2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212E4-2169-4888-852B-DF9FACE7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DC787-D5CD-433C-99BC-2643350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F9FBE-96A4-4EC4-8E9D-83ED94D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00A6-A1FD-465B-A2B2-5ACC66B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CAD19-F80B-429C-82D4-CB02D16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8976B-F911-4280-9052-1774BE0B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23E14-9DC8-4F46-9E65-9D23EE91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805-7A74-4617-ADE3-11DBD1DB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087FC-1EE2-402C-8302-F878EBEE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9BAF2-BAC7-4A6D-8A11-F42E26FC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B6E3-9E5E-4A68-B92D-7A82684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8313D-977C-4BE5-BE27-C32E540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AAC31-4779-4975-B701-4B7397F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65F9D-B63B-4A83-AE89-1406496D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BD1CA-5BC6-48E3-8D76-CFF79A1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BC075-009A-4FE8-B9D8-898309F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93B26-8724-4D3A-826F-9697C00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533F5-C5C6-4626-A7A1-D1F8AFE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E2CE-FCF1-40A6-AAF9-3600DDA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266EB-D7C4-44AA-B5B6-6AABEF29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59DAC-611C-47C4-A2FC-C48C30A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6722B-FE97-422B-8E26-F93BC321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204AC-3D96-4C79-9F5B-74DFA43A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5ABAE-4BB7-4C82-B489-287DB42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4C64A-8F48-4336-894D-0D59773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99E66-4451-4BEF-AA9D-5BB72E94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BAE59-A8AE-4E58-9729-3A18EA2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250C8-DC00-4D56-88E9-EC54FD4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B1394-0221-4CE0-B2C4-EF0BF2D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7B62-AA1C-4CD9-AEA8-CA650673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D4A9A-FD74-41C7-A721-8C9AE6F4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EB75B-8B51-4E11-942F-7BDF78B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E5AEA-0728-45E8-BD43-516E2B3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54AB7-79A0-47F6-9E9A-CD68084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7A561-6D3A-4BD5-A088-8507A15F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3C0E-49F6-4E6F-8DE8-04645FC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728-B5DE-4519-995D-4AB08EFA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5024-2D13-421C-A004-A1BDCC7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74C5-4957-4250-A8C7-93D8C89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D6CD-ABC4-4766-8895-322B6EE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193-1D1E-41ED-B43B-68B00F48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28C-A9C0-4642-ACE5-796318E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079A-0AAE-4A77-A988-9986FC67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B38-013C-4F86-86B4-5539A08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D99C-5554-434C-BDB5-E7B69A7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531C-EE5A-4761-813E-69C937D2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9D79-11C5-47D8-B249-20055732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C477-01CF-4612-8EE7-6D488ED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990D-9E5C-47AE-8CD1-5C390F4F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B28A-3592-46FC-80A3-4BD0AE08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B5EFE-D825-4934-8026-EAA197F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012-1D6B-41D3-BE97-CD006EC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7CAF-F857-4719-B88C-74C9B63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BD75-25E2-412D-8FA8-0693715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69EC-9827-472D-B5A0-5E2BA71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191E-6C7D-443F-9A05-A311D1B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4079-C303-42C8-8F35-DC9B10E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4256-B46E-483D-A1ED-75EBA7D7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A48E-D27D-451B-AA70-5E5B205B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3A23B-513A-40B3-9C23-20409A44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A7DC-740A-477B-AB22-F047325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4A49-E882-409C-997E-D5749D7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29F-92AF-41A3-BF1E-BF7B747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D4C0-90CE-48C3-B8B3-6B9797B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02A14-BAF9-4F6A-ACBF-D4C95EFF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4AE3-E4E1-4430-A927-65D2F94C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7B92-4FC0-425F-AA51-3B026B5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4CD4-A7CD-49EE-965D-3914722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6833-1017-40A5-8BB3-2B30468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6B79-EC1A-4564-855D-81CC2CA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9332-C616-4EC1-8BE5-E572F5A6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39C2-3F38-4E93-9B1E-09A948C3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794F-00E5-4C62-84E4-E96E368B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2A2-720B-4477-B4F3-B22B32E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05D6-8CDC-4AFA-8B75-0820DF8D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4FCD-18B4-4BCC-8E8B-2CA83C75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6230-A8DF-43F4-9342-7B6857C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AA3B-D69F-4DFF-8B1A-B7F5BE2F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9C52-BD4C-45C7-BFB2-E32A2F87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0854-BE88-40ED-9FBD-E27C457C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CFBE-0D25-40C5-9F0A-28F7CFD9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B0334-1943-4E37-B8C5-12D494FC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93AB-BF3C-4170-83BC-1914FCE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E6CA-A6C7-42F6-BE87-39DC22AB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9E1-1C97-4F8F-B74B-01C103F9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E19A-7B36-4949-B615-408C6D6C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6DCE-11FF-4AA8-8F2E-69C6FC2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F501-FF9B-4606-8042-9852103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3C20-2E34-40CF-B397-CDA3E556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4D94-0928-49D1-9A14-7E38CC7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E7FF1-F57F-4DAC-A185-93E0C99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A717-79F5-4E07-88A9-4A2FA06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139F2-95B6-41F0-B407-1E7AA0E3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793A-BA26-454E-B3DD-2F4EE32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3D09-B421-426B-9337-D5C92B9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F54-3BC5-4167-B2DC-A95EE1F1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207E-058E-463A-A8C1-E8D376D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B2BA-10C8-46EA-9AC3-1B921F21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52E3-B42D-4D19-A266-8C0D4E0F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B3B6D-BBE2-4EDF-87FC-7B4506FB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FAE7A-118F-47B6-83B4-860ABB26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E30A-401A-4C04-8666-059562A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0557-4AF8-494B-869F-A88E45F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FFEF-7417-414B-9D6A-70CE9F84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D927-F5B7-46A6-BE70-E4836DC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5EBE4-FF2A-4ECA-BAFB-F03DA9F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602-D3E9-4229-A465-0CA00C3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C21D-6834-45B7-B918-A2F3CBE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F5F7-74E9-4966-A3FF-EC4C8019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9060-7541-4986-9598-D6CAC67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2936-6594-4B4B-9A38-4242039F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0EB5-07C1-4EFC-B941-6EEA5A09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9724-C2A5-4AC2-B784-61834E4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F0AE-247F-46C6-8A42-4DAD46F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9EAD3-B811-4088-BE18-138B578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E20E6-84C4-4500-BF43-A4B4521E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E7696-2C52-4115-A116-79210F3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9FB-E9FD-4852-A5E8-61A4525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3D151-B69A-4A69-9CCD-60614A2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A18C3-24C0-4E91-BE32-DE5064F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2D7AF-BB90-4016-96CF-3C989EA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0BD55-F594-4019-B7BF-FDB2AE1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9B36-9F2B-4847-BE55-F86F2E8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80759-B287-4EEA-B10B-6613DF68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90EA-01F9-4076-93CA-8A8C78A0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8A911-0F4E-4551-BB81-FC4EE048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8E8AC-6108-4253-9EAC-998F856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E3BE1-D0FB-4E61-9B51-9C5D9C35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BCF-CED7-4273-9AFB-DBBF8321B098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119-1583-4CEB-9274-2DB47906C82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5BD7-F7C8-482E-A899-9966FEC57D7E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244-9397-4FAE-9639-E1B898718DAA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96D-042C-4D78-9CD7-782FC7FC634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26F-A3B2-4793-963C-ED77AC8D1F9E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8246-5333-40F6-AC72-F11AFE72B9CC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EB8F-059C-4B91-9410-39AAAAF836B7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8c3bc"/>
              </a:gs>
              <a:gs pos="100000">
                <a:srgbClr val="ada5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A93-EC6C-4BEA-B167-873016C513B4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2598-E1B8-490A-8605-AD33E1298B5C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D79B-367E-406A-B577-64FFDC2A8745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DFC-739F-48BC-AB6A-6C9453365DD3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ed9a7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D47-331A-491F-AE8A-4DFCD688C9D9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06C0-F95E-4460-933A-542175A5BD48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A35-BCB9-453D-81A1-59F33D207A71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F93-58E7-48DC-9F53-B80A6BCD9CF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201E-0987-4A3E-A904-502365FCE6C8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E5E2-0EC0-40EB-874E-D4A212DAB174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91A3-CDA0-4EEA-82B9-78A6047DCA69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BB0-4DDF-4FC4-9AEF-2DCB4556D5C5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885F-8B63-48F5-BD45-88EEE2C0DD8D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FDC-ED04-4750-B0DD-23069EB694DF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4598-0F91-435F-B437-FFAD2DC4AFAD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A7B-BC06-44D6-A78E-4398723785EE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ASO CLÍNICO ENDODONCI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Gill Sans MT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5280" y="260280"/>
            <a:ext cx="772920" cy="1601640"/>
            <a:chOff x="395280" y="260280"/>
            <a:chExt cx="772920" cy="1601640"/>
          </a:xfrm>
        </p:grpSpPr>
        <p:sp>
          <p:nvSpPr>
            <p:cNvPr id="581" name="Freeform 8"/>
            <p:cNvSpPr/>
            <p:nvPr/>
          </p:nvSpPr>
          <p:spPr>
            <a:xfrm>
              <a:off x="620280" y="446760"/>
              <a:ext cx="326160" cy="2228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716040" y="376560"/>
              <a:ext cx="129600" cy="370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713880" y="372600"/>
              <a:ext cx="133560" cy="3740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>
              <a:off x="610560" y="445320"/>
              <a:ext cx="332280" cy="2307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582120" y="557640"/>
              <a:ext cx="404640" cy="360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780840" y="260280"/>
              <a:ext cx="1440" cy="585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479160" y="460440"/>
              <a:ext cx="601200" cy="1886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591480" y="313560"/>
              <a:ext cx="410400" cy="5241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557280" y="315360"/>
              <a:ext cx="414000" cy="522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475200" y="465840"/>
              <a:ext cx="607320" cy="181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8"/>
            <p:cNvSpPr/>
            <p:nvPr/>
          </p:nvSpPr>
          <p:spPr>
            <a:xfrm flipV="1">
              <a:off x="395280" y="833760"/>
              <a:ext cx="385560" cy="493560"/>
            </a:xfrm>
            <a:prstGeom prst="rect">
              <a:avLst/>
            </a:prstGeom>
            <a:solidFill>
              <a:srgbClr val="00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 flipV="1">
              <a:off x="780840" y="833760"/>
              <a:ext cx="385560" cy="493560"/>
            </a:xfrm>
            <a:prstGeom prst="rect">
              <a:avLst/>
            </a:prstGeom>
            <a:solidFill>
              <a:srgbClr val="ff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0"/>
            <p:cNvSpPr/>
            <p:nvPr/>
          </p:nvSpPr>
          <p:spPr>
            <a:xfrm>
              <a:off x="395280" y="1328400"/>
              <a:ext cx="387360" cy="531720"/>
            </a:xfrm>
            <a:prstGeom prst="pie">
              <a:avLst/>
            </a:prstGeom>
            <a:solidFill>
              <a:srgbClr val="ff0000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"/>
            <p:cNvSpPr/>
            <p:nvPr/>
          </p:nvSpPr>
          <p:spPr>
            <a:xfrm>
              <a:off x="780840" y="1328400"/>
              <a:ext cx="387360" cy="533520"/>
            </a:xfrm>
            <a:prstGeom prst="pie">
              <a:avLst/>
            </a:prstGeom>
            <a:solidFill>
              <a:srgbClr val="0000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Group 22"/>
            <p:cNvGrpSpPr/>
            <p:nvPr/>
          </p:nvGrpSpPr>
          <p:grpSpPr>
            <a:xfrm>
              <a:off x="840240" y="902880"/>
              <a:ext cx="266400" cy="390600"/>
              <a:chOff x="840240" y="902880"/>
              <a:chExt cx="266400" cy="390600"/>
            </a:xfrm>
          </p:grpSpPr>
          <p:sp>
            <p:nvSpPr>
              <p:cNvPr id="596" name="Freeform 23"/>
              <p:cNvSpPr/>
              <p:nvPr/>
            </p:nvSpPr>
            <p:spPr>
              <a:xfrm>
                <a:off x="1000080" y="1156680"/>
                <a:ext cx="78120" cy="136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>
                <a:off x="840240" y="902880"/>
                <a:ext cx="266400" cy="3866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>
                <a:off x="894960" y="937440"/>
                <a:ext cx="102960" cy="167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26"/>
              <p:cNvSpPr/>
              <p:nvPr/>
            </p:nvSpPr>
            <p:spPr>
              <a:xfrm flipV="1">
                <a:off x="946440" y="957240"/>
                <a:ext cx="5760" cy="7560"/>
              </a:xfrm>
              <a:prstGeom prst="ellips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48600" y="1087920"/>
                <a:ext cx="81360" cy="64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Oval 28"/>
            <p:cNvSpPr/>
            <p:nvPr/>
          </p:nvSpPr>
          <p:spPr>
            <a:xfrm flipV="1">
              <a:off x="563040" y="1519920"/>
              <a:ext cx="148680" cy="148680"/>
            </a:xfrm>
            <a:prstGeom prst="ellipse">
              <a:avLst/>
            </a:prstGeom>
            <a:solidFill>
              <a:srgbClr val="0080ff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>
              <a:off x="574920" y="1520640"/>
              <a:ext cx="89280" cy="14688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>
              <a:off x="675720" y="1553400"/>
              <a:ext cx="37800" cy="7812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1"/>
            <p:cNvSpPr/>
            <p:nvPr/>
          </p:nvSpPr>
          <p:spPr>
            <a:xfrm>
              <a:off x="475200" y="1589400"/>
              <a:ext cx="74160" cy="83880"/>
            </a:xfrm>
            <a:prstGeom prst="pie">
              <a:avLst/>
            </a:prstGeom>
            <a:solidFill>
              <a:srgbClr val="dfa659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32"/>
            <p:cNvSpPr/>
            <p:nvPr/>
          </p:nvSpPr>
          <p:spPr>
            <a:xfrm flipV="1">
              <a:off x="498240" y="1590480"/>
              <a:ext cx="22680" cy="22680"/>
            </a:xfrm>
            <a:prstGeom prst="ellipse">
              <a:avLst/>
            </a:prstGeom>
            <a:noFill/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488520" y="1435320"/>
              <a:ext cx="63000" cy="1616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34"/>
            <p:cNvSpPr/>
            <p:nvPr/>
          </p:nvSpPr>
          <p:spPr>
            <a:xfrm>
              <a:off x="490680" y="1438560"/>
              <a:ext cx="68400" cy="135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35"/>
            <p:cNvSpPr/>
            <p:nvPr/>
          </p:nvSpPr>
          <p:spPr>
            <a:xfrm>
              <a:off x="492480" y="1435320"/>
              <a:ext cx="75960" cy="116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36"/>
            <p:cNvSpPr/>
            <p:nvPr/>
          </p:nvSpPr>
          <p:spPr>
            <a:xfrm>
              <a:off x="498240" y="1438560"/>
              <a:ext cx="87840" cy="932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37"/>
            <p:cNvSpPr/>
            <p:nvPr/>
          </p:nvSpPr>
          <p:spPr>
            <a:xfrm>
              <a:off x="502200" y="1438560"/>
              <a:ext cx="105120" cy="82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505800" y="1423440"/>
              <a:ext cx="122040" cy="89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39"/>
            <p:cNvSpPr/>
            <p:nvPr/>
          </p:nvSpPr>
          <p:spPr>
            <a:xfrm>
              <a:off x="456120" y="1385280"/>
              <a:ext cx="66960" cy="6264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40"/>
            <p:cNvSpPr/>
            <p:nvPr/>
          </p:nvSpPr>
          <p:spPr>
            <a:xfrm>
              <a:off x="465840" y="1669680"/>
              <a:ext cx="244440" cy="95040"/>
            </a:xfrm>
            <a:prstGeom prst="pie">
              <a:avLst/>
            </a:prstGeom>
            <a:solidFill>
              <a:srgbClr val="ffff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1"/>
            <p:cNvSpPr/>
            <p:nvPr/>
          </p:nvSpPr>
          <p:spPr>
            <a:xfrm>
              <a:off x="941040" y="1419480"/>
              <a:ext cx="72720" cy="97200"/>
            </a:xfrm>
            <a:prstGeom prst="pie">
              <a:avLst/>
            </a:pr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42"/>
            <p:cNvSpPr/>
            <p:nvPr/>
          </p:nvSpPr>
          <p:spPr>
            <a:xfrm>
              <a:off x="822960" y="1595160"/>
              <a:ext cx="301680" cy="1620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838080" y="1652400"/>
              <a:ext cx="257400" cy="51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1034640" y="1622160"/>
              <a:ext cx="57240" cy="817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"/>
            <p:cNvSpPr/>
            <p:nvPr/>
          </p:nvSpPr>
          <p:spPr>
            <a:xfrm>
              <a:off x="1044000" y="1656000"/>
              <a:ext cx="60840" cy="990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46"/>
            <p:cNvSpPr/>
            <p:nvPr/>
          </p:nvSpPr>
          <p:spPr>
            <a:xfrm>
              <a:off x="870480" y="1688760"/>
              <a:ext cx="756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47"/>
            <p:cNvSpPr/>
            <p:nvPr/>
          </p:nvSpPr>
          <p:spPr>
            <a:xfrm>
              <a:off x="879840" y="1650600"/>
              <a:ext cx="540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48"/>
            <p:cNvSpPr/>
            <p:nvPr/>
          </p:nvSpPr>
          <p:spPr>
            <a:xfrm>
              <a:off x="910800" y="1654560"/>
              <a:ext cx="3600" cy="262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9"/>
            <p:cNvSpPr/>
            <p:nvPr/>
          </p:nvSpPr>
          <p:spPr>
            <a:xfrm>
              <a:off x="962280" y="1661760"/>
              <a:ext cx="3600" cy="2880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50"/>
            <p:cNvSpPr/>
            <p:nvPr/>
          </p:nvSpPr>
          <p:spPr>
            <a:xfrm>
              <a:off x="992520" y="1671480"/>
              <a:ext cx="3600" cy="248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51"/>
            <p:cNvSpPr/>
            <p:nvPr/>
          </p:nvSpPr>
          <p:spPr>
            <a:xfrm>
              <a:off x="898920" y="169416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2"/>
            <p:cNvSpPr/>
            <p:nvPr/>
          </p:nvSpPr>
          <p:spPr>
            <a:xfrm>
              <a:off x="950400" y="170604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3"/>
            <p:cNvSpPr/>
            <p:nvPr/>
          </p:nvSpPr>
          <p:spPr>
            <a:xfrm>
              <a:off x="981360" y="1715400"/>
              <a:ext cx="3600" cy="244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4"/>
            <p:cNvSpPr/>
            <p:nvPr/>
          </p:nvSpPr>
          <p:spPr>
            <a:xfrm>
              <a:off x="1082520" y="1629360"/>
              <a:ext cx="3240" cy="324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5"/>
            <p:cNvSpPr/>
            <p:nvPr/>
          </p:nvSpPr>
          <p:spPr>
            <a:xfrm>
              <a:off x="1101600" y="1659960"/>
              <a:ext cx="1440" cy="417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56"/>
            <p:cNvSpPr/>
            <p:nvPr/>
          </p:nvSpPr>
          <p:spPr>
            <a:xfrm>
              <a:off x="868680" y="1492200"/>
              <a:ext cx="198000" cy="142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7"/>
            <p:cNvSpPr/>
            <p:nvPr/>
          </p:nvSpPr>
          <p:spPr>
            <a:xfrm>
              <a:off x="882000" y="1511280"/>
              <a:ext cx="1440" cy="1238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58"/>
            <p:cNvSpPr/>
            <p:nvPr/>
          </p:nvSpPr>
          <p:spPr>
            <a:xfrm>
              <a:off x="1046160" y="1509480"/>
              <a:ext cx="1440" cy="123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59"/>
            <p:cNvSpPr/>
            <p:nvPr/>
          </p:nvSpPr>
          <p:spPr>
            <a:xfrm>
              <a:off x="88200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60"/>
            <p:cNvSpPr/>
            <p:nvPr/>
          </p:nvSpPr>
          <p:spPr>
            <a:xfrm>
              <a:off x="96408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61"/>
            <p:cNvSpPr/>
            <p:nvPr/>
          </p:nvSpPr>
          <p:spPr>
            <a:xfrm>
              <a:off x="964080" y="1501920"/>
              <a:ext cx="2160" cy="1256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Group 62"/>
            <p:cNvGrpSpPr/>
            <p:nvPr/>
          </p:nvGrpSpPr>
          <p:grpSpPr>
            <a:xfrm>
              <a:off x="898920" y="1507320"/>
              <a:ext cx="54720" cy="109800"/>
              <a:chOff x="898920" y="1507320"/>
              <a:chExt cx="54720" cy="109800"/>
            </a:xfrm>
          </p:grpSpPr>
          <p:sp>
            <p:nvSpPr>
              <p:cNvPr id="636" name="Freeform 63"/>
              <p:cNvSpPr/>
              <p:nvPr/>
            </p:nvSpPr>
            <p:spPr>
              <a:xfrm>
                <a:off x="89892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>
                <a:off x="89892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>
                <a:off x="89892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>
                <a:off x="898920" y="1539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>
                <a:off x="89892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>
                <a:off x="89892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>
                <a:off x="89892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>
                <a:off x="898920" y="15814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>
                <a:off x="89892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>
                <a:off x="898920" y="1602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3"/>
            <p:cNvGrpSpPr/>
            <p:nvPr/>
          </p:nvGrpSpPr>
          <p:grpSpPr>
            <a:xfrm>
              <a:off x="983160" y="1507320"/>
              <a:ext cx="54720" cy="108360"/>
              <a:chOff x="983160" y="1507320"/>
              <a:chExt cx="54720" cy="108360"/>
            </a:xfrm>
          </p:grpSpPr>
          <p:sp>
            <p:nvSpPr>
              <p:cNvPr id="647" name="Freeform 74"/>
              <p:cNvSpPr/>
              <p:nvPr/>
            </p:nvSpPr>
            <p:spPr>
              <a:xfrm>
                <a:off x="98316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>
                <a:off x="98316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>
                <a:off x="98316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>
                <a:off x="983160" y="15379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>
                <a:off x="98316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>
                <a:off x="98316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>
                <a:off x="98316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>
                <a:off x="983160" y="158112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>
                <a:off x="98316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>
                <a:off x="983160" y="160236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4"/>
            <p:cNvGrpSpPr/>
            <p:nvPr/>
          </p:nvGrpSpPr>
          <p:grpSpPr>
            <a:xfrm>
              <a:off x="461880" y="889200"/>
              <a:ext cx="272520" cy="369360"/>
              <a:chOff x="461880" y="889200"/>
              <a:chExt cx="272520" cy="369360"/>
            </a:xfrm>
          </p:grpSpPr>
          <p:sp>
            <p:nvSpPr>
              <p:cNvPr id="658" name="Rectangle 85"/>
              <p:cNvSpPr/>
              <p:nvPr/>
            </p:nvSpPr>
            <p:spPr>
              <a:xfrm flipV="1">
                <a:off x="503640" y="934920"/>
                <a:ext cx="192600" cy="115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>
                <a:off x="583920" y="889200"/>
                <a:ext cx="30240" cy="2725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>
                <a:off x="461880" y="1051200"/>
                <a:ext cx="80280" cy="41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>
                <a:off x="654480" y="1051200"/>
                <a:ext cx="79920" cy="439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9"/>
              <p:cNvSpPr/>
              <p:nvPr/>
            </p:nvSpPr>
            <p:spPr>
              <a:xfrm flipV="1">
                <a:off x="555120" y="1157760"/>
                <a:ext cx="87480" cy="2088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0"/>
              <p:cNvSpPr/>
              <p:nvPr/>
            </p:nvSpPr>
            <p:spPr>
              <a:xfrm flipV="1">
                <a:off x="585720" y="1178280"/>
                <a:ext cx="28440" cy="457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>
                <a:off x="568440" y="1224720"/>
                <a:ext cx="60840" cy="338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Freeform 92"/>
            <p:cNvSpPr/>
            <p:nvPr/>
          </p:nvSpPr>
          <p:spPr>
            <a:xfrm>
              <a:off x="461880" y="937440"/>
              <a:ext cx="82080" cy="116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93"/>
            <p:cNvSpPr/>
            <p:nvPr/>
          </p:nvSpPr>
          <p:spPr>
            <a:xfrm>
              <a:off x="654840" y="939240"/>
              <a:ext cx="78120" cy="114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94"/>
            <p:cNvGrpSpPr/>
            <p:nvPr/>
          </p:nvGrpSpPr>
          <p:grpSpPr>
            <a:xfrm>
              <a:off x="658800" y="1202400"/>
              <a:ext cx="243360" cy="252360"/>
              <a:chOff x="658800" y="1202400"/>
              <a:chExt cx="243360" cy="252360"/>
            </a:xfrm>
          </p:grpSpPr>
          <p:sp>
            <p:nvSpPr>
              <p:cNvPr id="668" name="Oval 95"/>
              <p:cNvSpPr/>
              <p:nvPr/>
            </p:nvSpPr>
            <p:spPr>
              <a:xfrm flipV="1">
                <a:off x="671760" y="1218960"/>
                <a:ext cx="219600" cy="22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9" name="Group 96"/>
              <p:cNvGrpSpPr/>
              <p:nvPr/>
            </p:nvGrpSpPr>
            <p:grpSpPr>
              <a:xfrm>
                <a:off x="658800" y="1202400"/>
                <a:ext cx="243360" cy="252360"/>
                <a:chOff x="658800" y="1202400"/>
                <a:chExt cx="243360" cy="252360"/>
              </a:xfrm>
            </p:grpSpPr>
            <p:sp>
              <p:nvSpPr>
                <p:cNvPr id="670" name="Freeform 97"/>
                <p:cNvSpPr/>
                <p:nvPr/>
              </p:nvSpPr>
              <p:spPr>
                <a:xfrm>
                  <a:off x="658800" y="1202400"/>
                  <a:ext cx="243360" cy="2523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Oval 98"/>
                <p:cNvSpPr/>
                <p:nvPr/>
              </p:nvSpPr>
              <p:spPr>
                <a:xfrm flipV="1">
                  <a:off x="784440" y="1211040"/>
                  <a:ext cx="7200" cy="540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99"/>
                <p:cNvSpPr/>
                <p:nvPr/>
              </p:nvSpPr>
              <p:spPr>
                <a:xfrm>
                  <a:off x="692640" y="1234440"/>
                  <a:ext cx="178560" cy="1479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00"/>
                <p:cNvSpPr/>
                <p:nvPr/>
              </p:nvSpPr>
              <p:spPr>
                <a:xfrm>
                  <a:off x="726840" y="1306440"/>
                  <a:ext cx="112680" cy="2268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01"/>
                <p:cNvSpPr/>
                <p:nvPr/>
              </p:nvSpPr>
              <p:spPr>
                <a:xfrm>
                  <a:off x="726840" y="1327680"/>
                  <a:ext cx="112680" cy="3204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02"/>
                <p:cNvSpPr/>
                <p:nvPr/>
              </p:nvSpPr>
              <p:spPr>
                <a:xfrm>
                  <a:off x="759240" y="1310400"/>
                  <a:ext cx="13320" cy="471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03"/>
                <p:cNvSpPr/>
                <p:nvPr/>
              </p:nvSpPr>
              <p:spPr>
                <a:xfrm>
                  <a:off x="768960" y="1353960"/>
                  <a:ext cx="32400" cy="57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04"/>
                <p:cNvSpPr/>
                <p:nvPr/>
              </p:nvSpPr>
              <p:spPr>
                <a:xfrm>
                  <a:off x="797760" y="1310400"/>
                  <a:ext cx="11160" cy="453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Oval 105"/>
                <p:cNvSpPr/>
                <p:nvPr/>
              </p:nvSpPr>
              <p:spPr>
                <a:xfrm flipV="1">
                  <a:off x="778320" y="1326960"/>
                  <a:ext cx="5760" cy="324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Freeform 106"/>
            <p:cNvSpPr/>
            <p:nvPr/>
          </p:nvSpPr>
          <p:spPr>
            <a:xfrm>
              <a:off x="662040" y="428040"/>
              <a:ext cx="240480" cy="23256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CuadroTexto 105"/>
          <p:cNvSpPr/>
          <p:nvPr/>
        </p:nvSpPr>
        <p:spPr>
          <a:xfrm>
            <a:off x="1175040" y="83808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Facultad de Odont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106 Grupo"/>
          <p:cNvGrpSpPr/>
          <p:nvPr/>
        </p:nvGrpSpPr>
        <p:grpSpPr>
          <a:xfrm>
            <a:off x="468360" y="3068640"/>
            <a:ext cx="3311640" cy="2211480"/>
            <a:chOff x="468360" y="3068640"/>
            <a:chExt cx="3311640" cy="2211480"/>
          </a:xfrm>
        </p:grpSpPr>
        <p:sp>
          <p:nvSpPr>
            <p:cNvPr id="682" name="105 Elipse"/>
            <p:cNvSpPr/>
            <p:nvPr/>
          </p:nvSpPr>
          <p:spPr>
            <a:xfrm>
              <a:off x="2556000" y="4581360"/>
              <a:ext cx="503640" cy="36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3" name="Picture 2" descr="http://www.clinicadentalmahfoud.com/wp-content/uploads/2010/12/Endodoncia-21.jpg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3311640" cy="22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RATAMIENT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28760" y="9284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Necropulpectomía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de Instrumentación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Corono-Apical Universidad de Chile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metría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D: 16mm (se restaron 3mm a la LAD de la R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nicial debido al seccionamiento coronario realizad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vio a la cavidad de acceso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I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vestibular (lima 20) : 16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palatino (lima 25): 15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ferencias: pared V y P respectivament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D:  X = 1mm en ambo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T: Equivalentes a las LRI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3 Imagen" descr="SAM_0439.JPG"/>
          <p:cNvPicPr/>
          <p:nvPr/>
        </p:nvPicPr>
        <p:blipFill>
          <a:blip r:embed="rId2"/>
          <a:srcRect l="38283" t="27087" r="38283" b="7291"/>
          <a:stretch/>
        </p:blipFill>
        <p:spPr>
          <a:xfrm>
            <a:off x="6000840" y="1428840"/>
            <a:ext cx="2143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MEN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9280" y="155088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rrigación: Hipoclorito de Sodio 5,25%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flare: Lima #10 hasta #2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rown Down: Gates 1-2-1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Maestra: Instrumentar con Lima #3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Pasaje:  #8 para limpiar conducto cementari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vado con EDTA por 30 segundos para remover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l barro dentinario (mejor penetracion CaOH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Medicar una semana con Hidróxido de Calci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tirar medicación (con irrigación abundante 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 limas 1 a 2 números menores a lima maestra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 Instrumentar hasta Lima #35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Step Back: llegar hasta Lima #50 (Diámetro Gates #1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capitulación constante con Lima Maestr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5" name="Picture 7" descr="http://1.bp.blogspot.com/_UUEdEiseN2M/TH3N4P11hYI/AAAAAAAAACw/_miyrH5_aHQ/s200/endodoncia.jpg"/>
          <p:cNvPicPr/>
          <p:nvPr/>
        </p:nvPicPr>
        <p:blipFill>
          <a:blip r:embed="rId2"/>
          <a:stretch/>
        </p:blipFill>
        <p:spPr>
          <a:xfrm>
            <a:off x="6035760" y="1494000"/>
            <a:ext cx="2779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9528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6000"/>
          </a:bodyPr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Hipoclorito de sodio al 5,25%: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Tiene un rango de actividad contra bacterias Gram + y Gram –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el irrigante  endodóntico con mayor efecto anti fúng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único irrigante endodóntico capas de destruir efectivamente el biofilm microbiano dentro del SC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Agente proteolítico no especif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xcelente disolvente de tejidos orgánicos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Rápida acción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Lubricante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Combinar con Clorhexidina al 2%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Debido a la posibilidad de M.O. resistentes, tales como E. Faecali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Se debe irrigar por lo menos 3 jeringas de suero para lavar el hipoclorito antes de irrigar con clorhexidina.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Zahed Mohammadi.; Sodium Hypochorite in endodontics: an update review; international dental journal(2008) 58, 329-34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ill Sans MT"/>
              </a:rPr>
              <a:t>IRRIGACIÓN DE SISTEMA DE                     CONDUCTOS RADICULARES (SRC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8" name="Picture 2" descr="http://www.dentalartigas.exactpages.com/FOTOS/farmadental/HIPOCLORITO%20DE%20SODIO.jpg"/>
          <p:cNvPicPr/>
          <p:nvPr/>
        </p:nvPicPr>
        <p:blipFill>
          <a:blip r:embed="rId2"/>
          <a:stretch/>
        </p:blipFill>
        <p:spPr>
          <a:xfrm>
            <a:off x="6791400" y="328680"/>
            <a:ext cx="2127240" cy="3146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http://t2.gstatic.com/images?q=tbn:ANd9GcTH6PeHwdyzMhentRQTlZgPtl5qUxdK8UsyOF1kMKk5yFMOI8Cf"/>
          <p:cNvPicPr/>
          <p:nvPr/>
        </p:nvPicPr>
        <p:blipFill>
          <a:blip r:embed="rId3"/>
          <a:stretch/>
        </p:blipFill>
        <p:spPr>
          <a:xfrm>
            <a:off x="6443640" y="3024360"/>
            <a:ext cx="2316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¿POR QUÉ LIMA MAESTRA #35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da023"/>
                </a:solidFill>
                <a:latin typeface="Gill Sans MT"/>
              </a:rPr>
              <a:t>Anatomí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006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Gill Sans MT"/>
              </a:rPr>
              <a:t>Patología de la piez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2209320"/>
            <a:ext cx="365760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8006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presenta lesión apic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         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Necropulpectom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cxnSp>
        <p:nvCxnSpPr>
          <p:cNvPr id="735" name="9 Conector recto de flecha"/>
          <p:cNvCxnSpPr/>
          <p:nvPr/>
        </p:nvCxnSpPr>
        <p:spPr>
          <a:xfrm>
            <a:off x="6443280" y="2997000"/>
            <a:ext cx="1080" cy="432360"/>
          </a:xfrm>
          <a:prstGeom prst="straightConnector1">
            <a:avLst/>
          </a:prstGeom>
          <a:ln w="1584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36" name="10 CuadroTexto"/>
          <p:cNvSpPr/>
          <p:nvPr/>
        </p:nvSpPr>
        <p:spPr>
          <a:xfrm>
            <a:off x="104292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adiográficamente, el canal el tercio apical de ambos canales es de calibre f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7" name="12 Conector recto de flecha"/>
          <p:cNvCxnSpPr/>
          <p:nvPr/>
        </p:nvCxnSpPr>
        <p:spPr>
          <a:xfrm>
            <a:off x="2646000" y="3645000"/>
            <a:ext cx="1080" cy="79272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  <p:sp>
        <p:nvSpPr>
          <p:cNvPr id="738" name="13 CuadroTexto"/>
          <p:cNvSpPr/>
          <p:nvPr/>
        </p:nvSpPr>
        <p:spPr>
          <a:xfrm>
            <a:off x="826920" y="46134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Lima Maestra # 30 / #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9" name="15 Conector recto de flecha"/>
          <p:cNvCxnSpPr/>
          <p:nvPr/>
        </p:nvCxnSpPr>
        <p:spPr>
          <a:xfrm>
            <a:off x="6443280" y="3860280"/>
            <a:ext cx="1080" cy="289440"/>
          </a:xfrm>
          <a:prstGeom prst="straightConnector1">
            <a:avLst/>
          </a:prstGeom>
          <a:ln w="936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40" name="16 CuadroTexto"/>
          <p:cNvSpPr/>
          <p:nvPr/>
        </p:nvSpPr>
        <p:spPr>
          <a:xfrm>
            <a:off x="4140360" y="4221000"/>
            <a:ext cx="47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Mientras mayor diámetro instrumentación apical, mayor eliminación de bacterias y tejido orgánico, dándonos un mejor pronostico en dientes tratados con infecciones endodon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1" name="12 Conector recto de flecha"/>
          <p:cNvCxnSpPr/>
          <p:nvPr/>
        </p:nvCxnSpPr>
        <p:spPr>
          <a:xfrm flipH="1">
            <a:off x="3679920" y="4812840"/>
            <a:ext cx="576360" cy="108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EDICACIÓN DEL CANAL RADICULA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3" name="6 Marcador de contenido" descr=""/>
          <p:cNvPicPr/>
          <p:nvPr/>
        </p:nvPicPr>
        <p:blipFill>
          <a:blip r:embed="rId2"/>
          <a:stretch/>
        </p:blipFill>
        <p:spPr>
          <a:xfrm>
            <a:off x="615960" y="1596960"/>
            <a:ext cx="7845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POST PREFLA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8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Paciente relata dolor e inflamación (edema facial) de 4 días de duración. Tomo analgésicos y antiinflamatorios: Ibuprofeno y Clonixinato de Lisina con poco efecto los primeros días. Luego ingirió Acido mefenamico, con mejores resultad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La evidencia dice que la presencia de dolor e inflamación posterior a la instrumentación quimio mecánica reduce el éxito del tratamiento. Sin embargo otros estudios no encontraron relación entre amb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HIPOTESIS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Reagudización causada por extrusión de material contaminado  durante la preparación del canal, lo cual generaría una reacción de cuerpo extraño o una infección extra radicular transitoria, resultando en la falla del tto. en una proporción de los cas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Reagudización como resultado de una IQM incompleta que produciría un cambio en la ecología microbiana del canal favoreciendo el crecimiento de MO mas virulentos, o impulsando la expresión de genes de virulencia, produciendo dolor postoperatoria y falla del tto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Gill Sans MT"/>
              </a:rPr>
              <a:t>Primera sesión HASTA preflare</a:t>
            </a: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716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BTURACIÓN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600200"/>
            <a:ext cx="5541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Técnica: Condensación Lateral en Frío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es: #30 en Apical, #40 má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hacia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os: - Maestro: Probar #30, #35 y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- Accesorios: #25 en apical con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 #30 y #35 en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 espaciador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emento:  </a:t>
            </a:r>
            <a:r>
              <a:rPr b="1" lang="es-CL" sz="1700" spc="-1" strike="noStrike">
                <a:solidFill>
                  <a:srgbClr val="fda023"/>
                </a:solidFill>
                <a:latin typeface="Gill Sans MT"/>
              </a:rPr>
              <a:t>Top Seal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, debido a la presencia de lesión apical y la rehabilitación del diente mediante anclaje intracanal se necesita un cemento con sus características: acción antimicrobiana intensa y prolongada,  buena capacidad adhesiva y poca solubilidad. Resistente, de poco corrimiento y radiopacidad satisfactoria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8" name="Picture 11" descr="a"/>
          <p:cNvPicPr/>
          <p:nvPr/>
        </p:nvPicPr>
        <p:blipFill>
          <a:blip r:embed="rId2"/>
          <a:stretch/>
        </p:blipFill>
        <p:spPr>
          <a:xfrm>
            <a:off x="5462640" y="1060560"/>
            <a:ext cx="2979720" cy="259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a"/>
          <p:cNvPicPr/>
          <p:nvPr/>
        </p:nvPicPr>
        <p:blipFill>
          <a:blip r:embed="rId3"/>
          <a:stretch/>
        </p:blipFill>
        <p:spPr>
          <a:xfrm>
            <a:off x="6175440" y="4157640"/>
            <a:ext cx="2852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94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nfatizar que terapia efectuada corresponde a una primera instancia de la rehabilitación y que debe continuar lo antes posible con el siguiente tratamiento para evitar posible infiltración y consecuente fracaso de la terapia endodónt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La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debe ser rehabilitada mediante prótesis fija unitaria para lo cual previamente será necesaria una cirugía de ancho biológico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52" name="Picture 2" descr="http://home.germany.net/100-496425/main_frame/protesis/info_protesis/fija1.jpg"/>
          <p:cNvPicPr/>
          <p:nvPr/>
        </p:nvPicPr>
        <p:blipFill>
          <a:blip r:embed="rId2"/>
          <a:stretch/>
        </p:blipFill>
        <p:spPr>
          <a:xfrm>
            <a:off x="5364000" y="1484280"/>
            <a:ext cx="3591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NAMNESI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sexo femenino 29 añ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sulta hace 1 año por dolor en diente 2.5, en ese momento le iniciaron la endodoncia (trepanación) y nunca volvió a asistir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no presenta sintomatología actualment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6" name="Picture 7" descr="http://4.bp.blogspot.com/_LJ9vgLTtZzQ/SXXSeEswYWI/AAAAAAAAAEQ/DeVbZ88Fh7E/s400/anamnesis.jpg"/>
          <p:cNvPicPr/>
          <p:nvPr/>
        </p:nvPicPr>
        <p:blipFill>
          <a:blip r:embed="rId2"/>
          <a:stretch/>
        </p:blipFill>
        <p:spPr>
          <a:xfrm>
            <a:off x="5748480" y="122400"/>
            <a:ext cx="3590640" cy="2395440"/>
          </a:xfrm>
          <a:prstGeom prst="rect">
            <a:avLst/>
          </a:prstGeom>
          <a:ln w="0">
            <a:noFill/>
          </a:ln>
        </p:spPr>
      </p:pic>
      <p:sp>
        <p:nvSpPr>
          <p:cNvPr id="687" name="Title 1"/>
          <p:cNvSpPr/>
          <p:nvPr/>
        </p:nvSpPr>
        <p:spPr>
          <a:xfrm>
            <a:off x="611280" y="2933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AMEN CLÍ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611280" y="4016520"/>
            <a:ext cx="6048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xtraoral:  Nada Espe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Intraoral:  Caries Penetrante del diente 2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Oclusión del Diente N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7476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XAMEN RADIOLÓG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90" name="Content Placeholder 2"/>
          <p:cNvGrpSpPr/>
          <p:nvPr/>
        </p:nvGrpSpPr>
        <p:grpSpPr>
          <a:xfrm>
            <a:off x="596880" y="1725480"/>
            <a:ext cx="3987720" cy="4883400"/>
            <a:chOff x="596880" y="1725480"/>
            <a:chExt cx="3987720" cy="4883400"/>
          </a:xfrm>
        </p:grpSpPr>
        <p:pic>
          <p:nvPicPr>
            <p:cNvPr id="69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96880" y="1725480"/>
              <a:ext cx="398772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614520" y="1744560"/>
              <a:ext cx="3957480" cy="48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eabsorción ósea marginal Horizontal Discre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aries Penetr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ámara Pulpar Nada Espe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onductos Radiculares: Vestibular y Palatino, Fino en 2/3 Cervical y Medi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aíz: Doble Curva y Límite Duplic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Línea Periodontal Apical:  Ausen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Área Periapical: Radiolucidez de Límites Netos y de tamaño vertical de 2mm y horizontal 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3" name="Picture 2" descr="C:\Users\Eduardo\UNIVERSIDAD\4º año\Endodoncia\Presentación caso clinico\Fotos rx\P1040300 recortada.jpg"/>
          <p:cNvPicPr/>
          <p:nvPr/>
        </p:nvPicPr>
        <p:blipFill>
          <a:blip r:embed="rId3"/>
          <a:stretch/>
        </p:blipFill>
        <p:spPr>
          <a:xfrm>
            <a:off x="5127480" y="1230480"/>
            <a:ext cx="3456000" cy="5549760"/>
          </a:xfrm>
          <a:prstGeom prst="rect">
            <a:avLst/>
          </a:prstGeom>
          <a:ln w="0">
            <a:noFill/>
          </a:ln>
        </p:spPr>
      </p:pic>
      <p:sp>
        <p:nvSpPr>
          <p:cNvPr id="694" name="4 Conector recto"/>
          <p:cNvSpPr/>
          <p:nvPr/>
        </p:nvSpPr>
        <p:spPr>
          <a:xfrm>
            <a:off x="6280200" y="2022480"/>
            <a:ext cx="1152360" cy="0"/>
          </a:xfrm>
          <a:prstGeom prst="line">
            <a:avLst/>
          </a:prstGeom>
          <a:ln w="57240">
            <a:solidFill>
              <a:srgbClr val="fda023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5 Conector recto"/>
          <p:cNvSpPr/>
          <p:nvPr/>
        </p:nvSpPr>
        <p:spPr>
          <a:xfrm>
            <a:off x="6999120" y="1590840"/>
            <a:ext cx="0" cy="1944360"/>
          </a:xfrm>
          <a:prstGeom prst="line">
            <a:avLst/>
          </a:prstGeom>
          <a:ln w="5724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6 Conector recto"/>
          <p:cNvSpPr/>
          <p:nvPr/>
        </p:nvSpPr>
        <p:spPr>
          <a:xfrm flipH="1">
            <a:off x="6891480" y="159084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7 Conector recto"/>
          <p:cNvSpPr/>
          <p:nvPr/>
        </p:nvSpPr>
        <p:spPr>
          <a:xfrm flipH="1">
            <a:off x="6891480" y="353520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8 Conector recto"/>
          <p:cNvSpPr/>
          <p:nvPr/>
        </p:nvSpPr>
        <p:spPr>
          <a:xfrm>
            <a:off x="6280200" y="1932120"/>
            <a:ext cx="0" cy="18072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9 Conector recto"/>
          <p:cNvSpPr/>
          <p:nvPr/>
        </p:nvSpPr>
        <p:spPr>
          <a:xfrm>
            <a:off x="7432560" y="1917720"/>
            <a:ext cx="0" cy="17928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10 CuadroTexto"/>
          <p:cNvSpPr/>
          <p:nvPr/>
        </p:nvSpPr>
        <p:spPr>
          <a:xfrm>
            <a:off x="7504200" y="1838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Arial"/>
              </a:rPr>
              <a:t>2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11 CuadroTexto"/>
          <p:cNvSpPr/>
          <p:nvPr/>
        </p:nvSpPr>
        <p:spPr>
          <a:xfrm>
            <a:off x="6967440" y="1230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4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12 Forma libre"/>
          <p:cNvSpPr/>
          <p:nvPr/>
        </p:nvSpPr>
        <p:spPr>
          <a:xfrm>
            <a:off x="6605640" y="2146320"/>
            <a:ext cx="187200" cy="2487600"/>
          </a:xfrm>
          <a:prstGeom prst="pie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13 Forma libre"/>
          <p:cNvSpPr/>
          <p:nvPr/>
        </p:nvSpPr>
        <p:spPr>
          <a:xfrm>
            <a:off x="6524640" y="2387520"/>
            <a:ext cx="162000" cy="2138400"/>
          </a:xfrm>
          <a:prstGeom prst="pie">
            <a:avLst/>
          </a:prstGeom>
          <a:noFill/>
          <a:ln w="9360">
            <a:solidFill>
              <a:srgbClr val="fda0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14 Forma libre"/>
          <p:cNvSpPr/>
          <p:nvPr/>
        </p:nvSpPr>
        <p:spPr>
          <a:xfrm>
            <a:off x="6256440" y="1593720"/>
            <a:ext cx="1303200" cy="2084400"/>
          </a:xfrm>
          <a:prstGeom prst="pie">
            <a:avLst/>
          </a:prstGeom>
          <a:noFill/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4360" y="2349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Hipótesis Diagnós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Diagnóstico Defini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,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xpuesto al medio or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7" name="Picture 5" descr="http://educandoamihijo.com/wp-content/uploads/diagnosticos-autismo.jpg"/>
          <p:cNvPicPr/>
          <p:nvPr/>
        </p:nvPicPr>
        <p:blipFill>
          <a:blip r:embed="rId2"/>
          <a:stretch/>
        </p:blipFill>
        <p:spPr>
          <a:xfrm>
            <a:off x="4834080" y="92160"/>
            <a:ext cx="3213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FUNDAMENTO 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Diente con Terapia Endodóntica Previamente Iniciad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La AAE recomienda emplear esta clasificación para un grupo de situaciones caracterizadas por la presencia de un diente que ha recibido previemente un tratamiento endodóntico en forma parcial. En este caso: “trepanación”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Periodontitis Apical Asintomátic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mo se describe en la mayoría de estos casos el diente se encuentra asintomático: no presenta dolor a la percusión  ni palpación y respuesta negativa a los tests pulpares. Al examen radiográfico se evidencia un área radiolúcida periapical que confirma la hipótesis.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Linda G. Levin, Alan S. Law, G.R. Holland, Paul V. Abbott, Robert S. Roda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ulpal Health and Disease States.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p. 1651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James L. Gutmann, J. Craig Baumgartner, Alan H. Gluskin, Gary R. Hartwell, Richard E. Walton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eriapical/Periradicular Health and Disease States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.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 p. 1670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IMPLICANCIAS MICROBIOLÓGICAS DEL DIAGNÓSTICO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ill Sans MT"/>
              </a:rPr>
              <a:t>Infección intraradicular secundaria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: presencia de MO introducidos en el SCR luego de una intervención terapéutica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rovienen del medio externo y la sal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Especies y géneros asociados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taphylococcus spp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Pseudomona Aeruginos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col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Bacilos enteric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faecal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Importancia de la instrumentación, irrig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iquieira JF, 200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E. FAECALIS (24-77%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1915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0000"/>
          </a:bodyPr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Coco Gram (+), faculta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esiste pH muy alcalino por lo que es altamente resistente a la acción antimicrobiana del hipoclorito, por ello, se debe tener especial cuidado e la concentración y el recambio del hipoclorito (adecuado Crown Down me asegura amplia superficie de acción y buen retorno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Forma biofilms:  mas frecuentes en infecciones crónica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Quórum Sensing, Intercambio génico, Resistenc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Invade túbulos: instrument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oporta la falta de nutrien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tuart et al. J Endod 2006;32: 93-98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4" name="Picture 5" descr="Fichier:Enterococcus faecalis SEM 01.png"/>
          <p:cNvPicPr/>
          <p:nvPr/>
        </p:nvPicPr>
        <p:blipFill>
          <a:blip r:embed="rId2"/>
          <a:stretch/>
        </p:blipFill>
        <p:spPr>
          <a:xfrm>
            <a:off x="5059440" y="-6480"/>
            <a:ext cx="3706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9080" y="1052280"/>
            <a:ext cx="62676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Lesiones grandes influyen negativamente en el pronóstico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aumenta la probabilidad de que a lesión persista luego del tratamient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diversidad bacterian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tiempo de la infección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 más penetración a los túbulos dentinarios y la periferia del SCR, donde la descontaminación quimio mecánica no lleg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lesiones quísticas o infecciones extra radiculares, para las cuales el tratamiento no quirúrgico de los canales radiculares no es resolutiv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una respuesta del hospedero más exagerada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menor respuesta al cambio ecológico producido por el tratamiento de los canales radiculare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La presencia de lesión apical se asocio a un 49% menor odds ratio de éxito que la ausencia de lesión. El odds de éxito disminuyo un 14% por cada milímetro de aumento en el diámetro de la lesión preoperatoria.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Gill Sans MT"/>
              </a:rPr>
              <a:t>Y. L. Ng, V. Mann &amp; K. Gulabivala, I. A prospective study of the factors affecting outcome of nonsurgical root canal treatment: part 1: periapical health. International Endodontic Journal, 44, 583-609, 2011 Endodontic Journal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2" descr="C:\Users\Eduardo\UNIVERSIDAD\4º año\Endodoncia\Presentación caso clinico\Fotos rx\P1040300 recortada.jpg"/>
          <p:cNvPicPr/>
          <p:nvPr/>
        </p:nvPicPr>
        <p:blipFill>
          <a:blip r:embed="rId2"/>
          <a:stretch/>
        </p:blipFill>
        <p:spPr>
          <a:xfrm>
            <a:off x="6327720" y="1060560"/>
            <a:ext cx="2644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ermeabilidad al termino del canal y extensión apical de la instrumentación del canal reflejan la extensión apical de la limpieza de canal: 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factores pronósticos para el éxito del tratamiento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Aunque una serie de estudios han investigado la relación entre las dimensiones del canal y las dinámicas de irrigación y obturación , el mecanismo preciso físico, químico o biológico que finalmente facilita la reparación apical es aún desconocido. Se necesitan más estudios para identificar el balance óptimo entre dimensión del canal preparado y protocolo de irrigación </a:t>
            </a:r>
            <a:r>
              <a:rPr b="1" i="1" lang="es-ES" sz="2000" spc="-1" strike="noStrike">
                <a:solidFill>
                  <a:srgbClr val="ffc000"/>
                </a:solidFill>
                <a:latin typeface="Gill Sans MT"/>
              </a:rPr>
              <a:t>en pro de conservar tejido dentinario para la sobrevida del diente, logrando a la vez un control efectivo del biofilm para facilitar la reparación api</a:t>
            </a:r>
            <a:r>
              <a:rPr b="1" lang="es-ES" sz="2000" spc="-1" strike="noStrike">
                <a:solidFill>
                  <a:srgbClr val="ffc000"/>
                </a:solidFill>
                <a:latin typeface="Gill Sans MT"/>
              </a:rPr>
              <a:t>cal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6:55Z</dcterms:created>
  <dc:creator>Carlitos</dc:creator>
  <dc:description/>
  <dc:language>en-US</dc:language>
  <cp:lastModifiedBy>Mauricio Garrido</cp:lastModifiedBy>
  <dcterms:modified xsi:type="dcterms:W3CDTF">2011-11-29T22:30:02Z</dcterms:modified>
  <cp:revision>58</cp:revision>
  <dc:subject/>
  <dc:title>PowerPoint Presentation</dc:title>
</cp:coreProperties>
</file>