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E49-9A95-480D-ABD4-23EBB4AF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A45-96AB-46FA-BFAB-B5EB8C4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60359-4F9A-4DC6-9B68-D705882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2CB8-6B77-4BB5-9351-12AEEE0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4A104-12EE-4A25-8045-E700600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56395-F2CC-4E95-A928-9476E4B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7961-7D56-485C-975C-ACEBC2E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FD0AE-B527-4F19-B68A-276BF82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2FDC2-9CD0-47EB-B63F-830A45FF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68CE7-7232-43E2-A36B-5ED55C1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4C74-7A46-4ED5-9272-F6DBDA3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D8988-5D4A-4EA8-B4B3-E33F790F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5AF-D48F-4DFC-9752-5C1546BD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2C439-6055-465E-B3C3-399DDF3C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09F7E-152D-47EC-984A-C4900B73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0304-6284-4848-B15F-C9C216E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A97B3-C6A9-4425-98CE-2CFF74D8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76448-C831-4F3C-ADF9-141CC89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F42C9-70C3-48BA-B4B4-CC96D73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3D1BA-3E35-4230-98AE-E4A7547C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ECA59-285C-403F-8C34-5AB321D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44526-F475-4972-A4FE-C743F24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98CE5-5947-49E6-9CF6-A970918F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351-9B2F-49EA-BBEA-E5DB213F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BFC7-493B-4572-8709-D98D084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A2126-4A7D-4956-A531-310C45C4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7297F-677B-4C42-ACC0-C0728A20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882C3-820E-4C59-959E-6CC7BBAE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FF888-071F-4F97-8012-DBA3000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3738-8159-4FC6-82F5-333F753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42AE3-39D0-4A90-8803-F8AF4EA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B8587-D826-44D8-ABC7-A22ED6DA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B191A-65B2-4A7C-B327-178E095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77F83-49DF-49F1-84AD-42C1B2DD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71E-7A02-4541-9962-2E5183F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52FC9-97DB-4B8D-9383-E2CC8AD5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6072-F777-48D8-8380-939EF4E3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8769-2824-421A-9635-F6313788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DEECD-B939-4084-97DB-0A15815F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3739F-73DE-4380-B33E-4942175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7E918-8F5C-4F03-B52B-8100912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CD80E-5AF9-498C-8F35-8DD78501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8EB6D-E980-4ED1-9E7D-965D142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7BB7-274D-4AE9-B49B-4CBA599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0A5E1-1B4A-42C5-9855-9CF0E12F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D7A1-5513-47F0-A204-67E39208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3B64E-CF24-44C2-A565-874DACC8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95A7-C34E-479C-87A1-F52DBA06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DF67-8B5B-45EB-8111-DB097DCD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423B-694C-49A7-AE4D-3785E5A9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D2419-F75E-49A3-956D-B00D2E2E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4FE7-3BFD-4803-BC9D-418CA56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6AE8-22DD-494B-8BC0-4D4B331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ED8-53CE-42BC-ABFA-455E87D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3337-D7DA-4163-9538-D9C19FE0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68D5-FBEC-4964-9C0A-ECD6523D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E34-2DBB-462A-9176-4F7B678D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3C6F-589D-4BD9-8828-18E5F36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7D25-D90D-45AC-BB12-10AD7A4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9F9-7E23-4617-B6A1-275BE743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864-39B7-4591-997B-C68D881E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E4CB-30C1-4983-B8E9-E6B218FD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6161-CEBC-47CA-9FDB-A8C36685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FDF7-7E22-4A97-BD91-105B17F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0E31-95E4-4427-9082-A041A9E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5D66-6A83-40E8-A8C2-2135CD9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8EA7-1966-491C-A5F5-1B1F4921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0AD-7E25-43F1-8F11-4A14FAC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602F-605C-4E84-810B-0EA7D5E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1436-CCBC-49BA-88B3-DA4F7F0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0D51-EB82-42EF-90D6-0E757FAC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4FFE-E43A-4BBE-A594-7367403C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A4AD-1DDA-4EBC-B231-ECA4632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3554-F4ED-440F-BCCA-692FBB59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5CFC-576D-4C79-B262-1FC1ABAA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4674-A152-48FC-9471-75F5EADD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EC4B2-4979-4AE6-BD2D-E59C78F3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7808-1ECB-46F4-8F01-3BAFFFAC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3A8-D01C-465C-85C6-106C761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C1E5-C931-425B-920E-AD46CF83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9030-DBD9-46BB-9BDE-58E7D8C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0089-D723-4BA9-8F3D-A430954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A317-A223-4DAF-9733-1B5B043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181D-19BC-4FB8-983E-2928FD1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E732-FBC3-4565-9F22-DE3D3AF3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20A9-D165-4D17-8D88-4FFBFBE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DD7C-8E49-4A27-92A2-662376B7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CE76-10C3-468D-A519-316A9F25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CD68-2180-47B1-8F80-675E1A02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868-3965-4195-81D2-572593C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D583-474E-4684-8E8E-8EC39811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06E7-B5C2-40E4-923B-216351A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31AA-DF18-4A0A-8983-E529BC6F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03E3D-7324-48B5-82E5-F2C681E8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1883-405F-4E4C-9354-4086BA8A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0193-A64D-4CC9-A083-0B407438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207A-F704-4B0A-9492-48F223BF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978D-4381-4A8E-A76F-81CB21E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4A4B-A8E2-48F5-84F0-E67F2E68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362F-A359-459F-8041-B97FF8E8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169-CEB4-4D1F-9B4E-45EAACF2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ACD6-DA18-4C64-9D18-B6E1F61F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4C2B6-7593-4D15-B0F1-335DD8A3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F717-94E8-459F-BF2E-FFB56C34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171A-8C46-49A8-BF62-951DCB23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7A41-4B33-4107-B42F-2820032D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F6A9-AEA7-4DBE-BBC5-DB0700BE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CB0EC-0B81-4B23-87E6-DEC0546C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318C-65C4-469B-B7E0-7527078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710DC-D8D0-4E04-B507-4F6C30A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1F5D6-1F7A-4FB9-A840-834694C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B5E-EDF0-48EB-AE52-A59F0F2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2BA7-ACDD-450D-BE71-156A79DB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2774-7FC8-43FE-8097-9E163E59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58559-B605-4E04-A207-D753260F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35AAC-2FE2-42F3-B497-9C85F1C8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04AEC-3AED-4618-8E1D-09E9879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1B98-6FCF-4060-AB7C-B0B860C6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AA75B-633A-47CB-ABEB-4673C7D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C428-5F3E-42B2-9036-1F3A28D2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D1DE-0128-4169-A438-17A1879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25D3-B083-455B-9992-DC203C4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0B9-B662-4270-84C6-138E57A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0B2F-7636-4E6D-B108-FDA53F6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587C-0B29-4577-AA16-C95FE857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8A10F-AD55-4481-A42C-FA6702CF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191D-5F06-4A7E-97EE-FDF64AB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1368-C8D5-42C6-893A-305349E5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582DE-1CBF-4F5E-92A8-8BF51FFF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C5704-4A3C-4943-B10B-DDFFDE4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C19B-1973-4346-9D28-4ECC8C6A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8A36-0BBD-4977-A8A8-9FD2716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F9F45-D0EE-4A8A-A941-6BFDFDAC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6B6-E434-4688-8FC1-9873121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BDC4-A8AD-4813-9E56-BA2C0FA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10FA8-0E0B-45CE-A682-6D487AF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29C41-540A-49E9-88A2-B6D513B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D439-0DDE-4390-AAAC-C7F009D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B137-7232-4A04-B494-FCB8262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72D55-6E0F-48A1-89C8-A03B5F42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C4A6-4768-4301-A1C2-8C1FEEA0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7A4FA-EF98-4829-B7A3-C8A63E2F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263BF-7A67-4A1B-BA5C-F3DF67C7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9F2EF-A771-4FAB-A4C8-A044F2C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C40-7037-4D16-81DA-0FF0E84C9E01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CE2-C3E4-4CEB-A8CF-0649E9CDD8F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358-E44E-425A-8E19-F054E438104A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21B-444D-47FC-B708-91BCB51C2785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E161-C054-46E4-BC82-FFDE31E7EE63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0F8-0931-4D51-BB8B-BE2F62354A59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ED47-EEA1-4CC3-858D-4739B553D2D1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EF5-3D5C-48D1-A03B-AC597B5635E9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8c3bc"/>
              </a:gs>
              <a:gs pos="100000">
                <a:srgbClr val="ada5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34F-E83D-4C31-BE86-5DA93F275CD5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7C37-812C-471A-B6B0-82375E9B111B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A9FC-A63D-42B7-AF56-3E4CCFE88B03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B09E-9ED9-4BC6-834C-EDD6633B441A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ed9a7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BBC-6158-4CB3-8CDF-E8BD7C26E559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C8EB-67D8-4E3D-9944-173531B1E4EE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5D9-37CB-4847-9FF1-71C49AB8381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E109-B34B-4183-9418-DD78F54374EB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D89C-DED7-4EF4-94E2-78FB0DB1C99F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5D13-406E-4239-B5D0-F2EA5D4A9967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E49-4814-4397-87CB-D69725BB5C0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DD1-939C-47EC-A6BE-F91C7CD886B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69A-E4ED-4CE7-8499-EBF0F489237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5DC-03CE-44D7-AC24-558F35C8FD31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810E-4394-4431-8256-A8EB83F3CBE4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35B-69A0-48BA-8E9E-2D7C79AE063B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ASO CLÍNICO ENDODONCI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Gill Sans MT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5280" y="260280"/>
            <a:ext cx="772920" cy="1601640"/>
            <a:chOff x="395280" y="260280"/>
            <a:chExt cx="772920" cy="1601640"/>
          </a:xfrm>
        </p:grpSpPr>
        <p:sp>
          <p:nvSpPr>
            <p:cNvPr id="581" name="Freeform 8"/>
            <p:cNvSpPr/>
            <p:nvPr/>
          </p:nvSpPr>
          <p:spPr>
            <a:xfrm>
              <a:off x="620280" y="446760"/>
              <a:ext cx="326160" cy="2228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716040" y="376560"/>
              <a:ext cx="129600" cy="370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713880" y="372600"/>
              <a:ext cx="133560" cy="3740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>
              <a:off x="610560" y="445320"/>
              <a:ext cx="332280" cy="2307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582120" y="557640"/>
              <a:ext cx="404640" cy="360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780840" y="260280"/>
              <a:ext cx="1440" cy="585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479160" y="460440"/>
              <a:ext cx="601200" cy="1886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591480" y="313560"/>
              <a:ext cx="410400" cy="5241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557280" y="315360"/>
              <a:ext cx="414000" cy="522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475200" y="465840"/>
              <a:ext cx="607320" cy="181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8"/>
            <p:cNvSpPr/>
            <p:nvPr/>
          </p:nvSpPr>
          <p:spPr>
            <a:xfrm flipV="1">
              <a:off x="395280" y="833760"/>
              <a:ext cx="385560" cy="493560"/>
            </a:xfrm>
            <a:prstGeom prst="rect">
              <a:avLst/>
            </a:prstGeom>
            <a:solidFill>
              <a:srgbClr val="00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 flipV="1">
              <a:off x="780840" y="833760"/>
              <a:ext cx="385560" cy="493560"/>
            </a:xfrm>
            <a:prstGeom prst="rect">
              <a:avLst/>
            </a:prstGeom>
            <a:solidFill>
              <a:srgbClr val="ff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0"/>
            <p:cNvSpPr/>
            <p:nvPr/>
          </p:nvSpPr>
          <p:spPr>
            <a:xfrm>
              <a:off x="395280" y="1328400"/>
              <a:ext cx="387360" cy="531720"/>
            </a:xfrm>
            <a:prstGeom prst="pie">
              <a:avLst/>
            </a:prstGeom>
            <a:solidFill>
              <a:srgbClr val="ff0000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"/>
            <p:cNvSpPr/>
            <p:nvPr/>
          </p:nvSpPr>
          <p:spPr>
            <a:xfrm>
              <a:off x="780840" y="1328400"/>
              <a:ext cx="387360" cy="533520"/>
            </a:xfrm>
            <a:prstGeom prst="pie">
              <a:avLst/>
            </a:prstGeom>
            <a:solidFill>
              <a:srgbClr val="0000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Group 22"/>
            <p:cNvGrpSpPr/>
            <p:nvPr/>
          </p:nvGrpSpPr>
          <p:grpSpPr>
            <a:xfrm>
              <a:off x="840240" y="902880"/>
              <a:ext cx="266400" cy="390600"/>
              <a:chOff x="840240" y="902880"/>
              <a:chExt cx="266400" cy="390600"/>
            </a:xfrm>
          </p:grpSpPr>
          <p:sp>
            <p:nvSpPr>
              <p:cNvPr id="596" name="Freeform 23"/>
              <p:cNvSpPr/>
              <p:nvPr/>
            </p:nvSpPr>
            <p:spPr>
              <a:xfrm>
                <a:off x="1000080" y="1156680"/>
                <a:ext cx="78120" cy="136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>
                <a:off x="840240" y="902880"/>
                <a:ext cx="266400" cy="3866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>
                <a:off x="894960" y="937440"/>
                <a:ext cx="102960" cy="167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26"/>
              <p:cNvSpPr/>
              <p:nvPr/>
            </p:nvSpPr>
            <p:spPr>
              <a:xfrm flipV="1">
                <a:off x="946440" y="957240"/>
                <a:ext cx="5760" cy="7560"/>
              </a:xfrm>
              <a:prstGeom prst="ellips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48600" y="1087920"/>
                <a:ext cx="81360" cy="64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Oval 28"/>
            <p:cNvSpPr/>
            <p:nvPr/>
          </p:nvSpPr>
          <p:spPr>
            <a:xfrm flipV="1">
              <a:off x="563040" y="1519920"/>
              <a:ext cx="148680" cy="148680"/>
            </a:xfrm>
            <a:prstGeom prst="ellipse">
              <a:avLst/>
            </a:prstGeom>
            <a:solidFill>
              <a:srgbClr val="0080ff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>
              <a:off x="574920" y="1520640"/>
              <a:ext cx="89280" cy="14688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>
              <a:off x="675720" y="1553400"/>
              <a:ext cx="37800" cy="7812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1"/>
            <p:cNvSpPr/>
            <p:nvPr/>
          </p:nvSpPr>
          <p:spPr>
            <a:xfrm>
              <a:off x="475200" y="1589400"/>
              <a:ext cx="74160" cy="83880"/>
            </a:xfrm>
            <a:prstGeom prst="pie">
              <a:avLst/>
            </a:prstGeom>
            <a:solidFill>
              <a:srgbClr val="dfa659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32"/>
            <p:cNvSpPr/>
            <p:nvPr/>
          </p:nvSpPr>
          <p:spPr>
            <a:xfrm flipV="1">
              <a:off x="498240" y="1590480"/>
              <a:ext cx="22680" cy="22680"/>
            </a:xfrm>
            <a:prstGeom prst="ellipse">
              <a:avLst/>
            </a:prstGeom>
            <a:noFill/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488520" y="1435320"/>
              <a:ext cx="63000" cy="1616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34"/>
            <p:cNvSpPr/>
            <p:nvPr/>
          </p:nvSpPr>
          <p:spPr>
            <a:xfrm>
              <a:off x="490680" y="1438560"/>
              <a:ext cx="68400" cy="135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35"/>
            <p:cNvSpPr/>
            <p:nvPr/>
          </p:nvSpPr>
          <p:spPr>
            <a:xfrm>
              <a:off x="492480" y="1435320"/>
              <a:ext cx="75960" cy="116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36"/>
            <p:cNvSpPr/>
            <p:nvPr/>
          </p:nvSpPr>
          <p:spPr>
            <a:xfrm>
              <a:off x="498240" y="1438560"/>
              <a:ext cx="87840" cy="932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37"/>
            <p:cNvSpPr/>
            <p:nvPr/>
          </p:nvSpPr>
          <p:spPr>
            <a:xfrm>
              <a:off x="502200" y="1438560"/>
              <a:ext cx="105120" cy="82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505800" y="1423440"/>
              <a:ext cx="122040" cy="89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39"/>
            <p:cNvSpPr/>
            <p:nvPr/>
          </p:nvSpPr>
          <p:spPr>
            <a:xfrm>
              <a:off x="456120" y="1385280"/>
              <a:ext cx="66960" cy="6264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40"/>
            <p:cNvSpPr/>
            <p:nvPr/>
          </p:nvSpPr>
          <p:spPr>
            <a:xfrm>
              <a:off x="465840" y="1669680"/>
              <a:ext cx="244440" cy="95040"/>
            </a:xfrm>
            <a:prstGeom prst="pie">
              <a:avLst/>
            </a:prstGeom>
            <a:solidFill>
              <a:srgbClr val="ffff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1"/>
            <p:cNvSpPr/>
            <p:nvPr/>
          </p:nvSpPr>
          <p:spPr>
            <a:xfrm>
              <a:off x="941040" y="1419480"/>
              <a:ext cx="72720" cy="97200"/>
            </a:xfrm>
            <a:prstGeom prst="pie">
              <a:avLst/>
            </a:pr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42"/>
            <p:cNvSpPr/>
            <p:nvPr/>
          </p:nvSpPr>
          <p:spPr>
            <a:xfrm>
              <a:off x="822960" y="1595160"/>
              <a:ext cx="301680" cy="1620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838080" y="1652400"/>
              <a:ext cx="257400" cy="51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1034640" y="1622160"/>
              <a:ext cx="57240" cy="817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"/>
            <p:cNvSpPr/>
            <p:nvPr/>
          </p:nvSpPr>
          <p:spPr>
            <a:xfrm>
              <a:off x="1044000" y="1656000"/>
              <a:ext cx="60840" cy="990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46"/>
            <p:cNvSpPr/>
            <p:nvPr/>
          </p:nvSpPr>
          <p:spPr>
            <a:xfrm>
              <a:off x="870480" y="1688760"/>
              <a:ext cx="756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47"/>
            <p:cNvSpPr/>
            <p:nvPr/>
          </p:nvSpPr>
          <p:spPr>
            <a:xfrm>
              <a:off x="879840" y="1650600"/>
              <a:ext cx="540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48"/>
            <p:cNvSpPr/>
            <p:nvPr/>
          </p:nvSpPr>
          <p:spPr>
            <a:xfrm>
              <a:off x="910800" y="1654560"/>
              <a:ext cx="3600" cy="262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9"/>
            <p:cNvSpPr/>
            <p:nvPr/>
          </p:nvSpPr>
          <p:spPr>
            <a:xfrm>
              <a:off x="962280" y="1661760"/>
              <a:ext cx="3600" cy="2880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50"/>
            <p:cNvSpPr/>
            <p:nvPr/>
          </p:nvSpPr>
          <p:spPr>
            <a:xfrm>
              <a:off x="992520" y="1671480"/>
              <a:ext cx="3600" cy="248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51"/>
            <p:cNvSpPr/>
            <p:nvPr/>
          </p:nvSpPr>
          <p:spPr>
            <a:xfrm>
              <a:off x="898920" y="169416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2"/>
            <p:cNvSpPr/>
            <p:nvPr/>
          </p:nvSpPr>
          <p:spPr>
            <a:xfrm>
              <a:off x="950400" y="170604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3"/>
            <p:cNvSpPr/>
            <p:nvPr/>
          </p:nvSpPr>
          <p:spPr>
            <a:xfrm>
              <a:off x="981360" y="1715400"/>
              <a:ext cx="3600" cy="244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4"/>
            <p:cNvSpPr/>
            <p:nvPr/>
          </p:nvSpPr>
          <p:spPr>
            <a:xfrm>
              <a:off x="1082520" y="1629360"/>
              <a:ext cx="3240" cy="324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5"/>
            <p:cNvSpPr/>
            <p:nvPr/>
          </p:nvSpPr>
          <p:spPr>
            <a:xfrm>
              <a:off x="1101600" y="1659960"/>
              <a:ext cx="1440" cy="417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56"/>
            <p:cNvSpPr/>
            <p:nvPr/>
          </p:nvSpPr>
          <p:spPr>
            <a:xfrm>
              <a:off x="868680" y="1492200"/>
              <a:ext cx="198000" cy="142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7"/>
            <p:cNvSpPr/>
            <p:nvPr/>
          </p:nvSpPr>
          <p:spPr>
            <a:xfrm>
              <a:off x="882000" y="1511280"/>
              <a:ext cx="1440" cy="1238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58"/>
            <p:cNvSpPr/>
            <p:nvPr/>
          </p:nvSpPr>
          <p:spPr>
            <a:xfrm>
              <a:off x="1046160" y="1509480"/>
              <a:ext cx="1440" cy="123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59"/>
            <p:cNvSpPr/>
            <p:nvPr/>
          </p:nvSpPr>
          <p:spPr>
            <a:xfrm>
              <a:off x="88200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60"/>
            <p:cNvSpPr/>
            <p:nvPr/>
          </p:nvSpPr>
          <p:spPr>
            <a:xfrm>
              <a:off x="96408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61"/>
            <p:cNvSpPr/>
            <p:nvPr/>
          </p:nvSpPr>
          <p:spPr>
            <a:xfrm>
              <a:off x="964080" y="1501920"/>
              <a:ext cx="2160" cy="1256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Group 62"/>
            <p:cNvGrpSpPr/>
            <p:nvPr/>
          </p:nvGrpSpPr>
          <p:grpSpPr>
            <a:xfrm>
              <a:off x="898920" y="1507320"/>
              <a:ext cx="54720" cy="109800"/>
              <a:chOff x="898920" y="1507320"/>
              <a:chExt cx="54720" cy="109800"/>
            </a:xfrm>
          </p:grpSpPr>
          <p:sp>
            <p:nvSpPr>
              <p:cNvPr id="636" name="Freeform 63"/>
              <p:cNvSpPr/>
              <p:nvPr/>
            </p:nvSpPr>
            <p:spPr>
              <a:xfrm>
                <a:off x="89892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>
                <a:off x="89892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>
                <a:off x="89892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>
                <a:off x="898920" y="1539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>
                <a:off x="89892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>
                <a:off x="89892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>
                <a:off x="89892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>
                <a:off x="898920" y="15814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>
                <a:off x="89892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>
                <a:off x="898920" y="1602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3"/>
            <p:cNvGrpSpPr/>
            <p:nvPr/>
          </p:nvGrpSpPr>
          <p:grpSpPr>
            <a:xfrm>
              <a:off x="983160" y="1507320"/>
              <a:ext cx="54720" cy="108360"/>
              <a:chOff x="983160" y="1507320"/>
              <a:chExt cx="54720" cy="108360"/>
            </a:xfrm>
          </p:grpSpPr>
          <p:sp>
            <p:nvSpPr>
              <p:cNvPr id="647" name="Freeform 74"/>
              <p:cNvSpPr/>
              <p:nvPr/>
            </p:nvSpPr>
            <p:spPr>
              <a:xfrm>
                <a:off x="98316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>
                <a:off x="98316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>
                <a:off x="98316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>
                <a:off x="983160" y="15379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>
                <a:off x="98316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>
                <a:off x="98316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>
                <a:off x="98316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>
                <a:off x="983160" y="158112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>
                <a:off x="98316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>
                <a:off x="983160" y="160236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4"/>
            <p:cNvGrpSpPr/>
            <p:nvPr/>
          </p:nvGrpSpPr>
          <p:grpSpPr>
            <a:xfrm>
              <a:off x="461880" y="889200"/>
              <a:ext cx="272520" cy="369360"/>
              <a:chOff x="461880" y="889200"/>
              <a:chExt cx="272520" cy="369360"/>
            </a:xfrm>
          </p:grpSpPr>
          <p:sp>
            <p:nvSpPr>
              <p:cNvPr id="658" name="Rectangle 85"/>
              <p:cNvSpPr/>
              <p:nvPr/>
            </p:nvSpPr>
            <p:spPr>
              <a:xfrm flipV="1">
                <a:off x="503640" y="934920"/>
                <a:ext cx="192600" cy="115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>
                <a:off x="583920" y="889200"/>
                <a:ext cx="30240" cy="2725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>
                <a:off x="461880" y="1051200"/>
                <a:ext cx="80280" cy="41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>
                <a:off x="654480" y="1051200"/>
                <a:ext cx="79920" cy="439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9"/>
              <p:cNvSpPr/>
              <p:nvPr/>
            </p:nvSpPr>
            <p:spPr>
              <a:xfrm flipV="1">
                <a:off x="555120" y="1157760"/>
                <a:ext cx="87480" cy="2088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0"/>
              <p:cNvSpPr/>
              <p:nvPr/>
            </p:nvSpPr>
            <p:spPr>
              <a:xfrm flipV="1">
                <a:off x="585720" y="1178280"/>
                <a:ext cx="28440" cy="457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>
                <a:off x="568440" y="1224720"/>
                <a:ext cx="60840" cy="338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Freeform 92"/>
            <p:cNvSpPr/>
            <p:nvPr/>
          </p:nvSpPr>
          <p:spPr>
            <a:xfrm>
              <a:off x="461880" y="937440"/>
              <a:ext cx="82080" cy="116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93"/>
            <p:cNvSpPr/>
            <p:nvPr/>
          </p:nvSpPr>
          <p:spPr>
            <a:xfrm>
              <a:off x="654840" y="939240"/>
              <a:ext cx="78120" cy="114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94"/>
            <p:cNvGrpSpPr/>
            <p:nvPr/>
          </p:nvGrpSpPr>
          <p:grpSpPr>
            <a:xfrm>
              <a:off x="658800" y="1202400"/>
              <a:ext cx="243360" cy="252360"/>
              <a:chOff x="658800" y="1202400"/>
              <a:chExt cx="243360" cy="252360"/>
            </a:xfrm>
          </p:grpSpPr>
          <p:sp>
            <p:nvSpPr>
              <p:cNvPr id="668" name="Oval 95"/>
              <p:cNvSpPr/>
              <p:nvPr/>
            </p:nvSpPr>
            <p:spPr>
              <a:xfrm flipV="1">
                <a:off x="671760" y="1218960"/>
                <a:ext cx="219600" cy="22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9" name="Group 96"/>
              <p:cNvGrpSpPr/>
              <p:nvPr/>
            </p:nvGrpSpPr>
            <p:grpSpPr>
              <a:xfrm>
                <a:off x="658800" y="1202400"/>
                <a:ext cx="243360" cy="252360"/>
                <a:chOff x="658800" y="1202400"/>
                <a:chExt cx="243360" cy="252360"/>
              </a:xfrm>
            </p:grpSpPr>
            <p:sp>
              <p:nvSpPr>
                <p:cNvPr id="670" name="Freeform 97"/>
                <p:cNvSpPr/>
                <p:nvPr/>
              </p:nvSpPr>
              <p:spPr>
                <a:xfrm>
                  <a:off x="658800" y="1202400"/>
                  <a:ext cx="243360" cy="2523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Oval 98"/>
                <p:cNvSpPr/>
                <p:nvPr/>
              </p:nvSpPr>
              <p:spPr>
                <a:xfrm flipV="1">
                  <a:off x="784440" y="1211040"/>
                  <a:ext cx="7200" cy="540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99"/>
                <p:cNvSpPr/>
                <p:nvPr/>
              </p:nvSpPr>
              <p:spPr>
                <a:xfrm>
                  <a:off x="692640" y="1234440"/>
                  <a:ext cx="178560" cy="1479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00"/>
                <p:cNvSpPr/>
                <p:nvPr/>
              </p:nvSpPr>
              <p:spPr>
                <a:xfrm>
                  <a:off x="726840" y="1306440"/>
                  <a:ext cx="112680" cy="2268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01"/>
                <p:cNvSpPr/>
                <p:nvPr/>
              </p:nvSpPr>
              <p:spPr>
                <a:xfrm>
                  <a:off x="726840" y="1327680"/>
                  <a:ext cx="112680" cy="3204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02"/>
                <p:cNvSpPr/>
                <p:nvPr/>
              </p:nvSpPr>
              <p:spPr>
                <a:xfrm>
                  <a:off x="759240" y="1310400"/>
                  <a:ext cx="13320" cy="471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03"/>
                <p:cNvSpPr/>
                <p:nvPr/>
              </p:nvSpPr>
              <p:spPr>
                <a:xfrm>
                  <a:off x="768960" y="1353960"/>
                  <a:ext cx="32400" cy="57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04"/>
                <p:cNvSpPr/>
                <p:nvPr/>
              </p:nvSpPr>
              <p:spPr>
                <a:xfrm>
                  <a:off x="797760" y="1310400"/>
                  <a:ext cx="11160" cy="453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Oval 105"/>
                <p:cNvSpPr/>
                <p:nvPr/>
              </p:nvSpPr>
              <p:spPr>
                <a:xfrm flipV="1">
                  <a:off x="778320" y="1326960"/>
                  <a:ext cx="5760" cy="324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Freeform 106"/>
            <p:cNvSpPr/>
            <p:nvPr/>
          </p:nvSpPr>
          <p:spPr>
            <a:xfrm>
              <a:off x="662040" y="428040"/>
              <a:ext cx="240480" cy="23256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CuadroTexto 105"/>
          <p:cNvSpPr/>
          <p:nvPr/>
        </p:nvSpPr>
        <p:spPr>
          <a:xfrm>
            <a:off x="1175040" y="83808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Facultad de Odont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106 Grupo"/>
          <p:cNvGrpSpPr/>
          <p:nvPr/>
        </p:nvGrpSpPr>
        <p:grpSpPr>
          <a:xfrm>
            <a:off x="468360" y="3068640"/>
            <a:ext cx="3311640" cy="2211480"/>
            <a:chOff x="468360" y="3068640"/>
            <a:chExt cx="3311640" cy="2211480"/>
          </a:xfrm>
        </p:grpSpPr>
        <p:sp>
          <p:nvSpPr>
            <p:cNvPr id="682" name="105 Elipse"/>
            <p:cNvSpPr/>
            <p:nvPr/>
          </p:nvSpPr>
          <p:spPr>
            <a:xfrm>
              <a:off x="2556000" y="4581360"/>
              <a:ext cx="503640" cy="36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3" name="Picture 2" descr="http://www.clinicadentalmahfoud.com/wp-content/uploads/2010/12/Endodoncia-21.jpg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3311640" cy="22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RATAMIENT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28760" y="9284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Necropulpectomía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de Instrumentación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Corono-Apical Universidad de Chile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metría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D: 16mm (se restaron 3mm a la LAD de la R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nicial debido al seccionamiento coronario realizad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vio a la cavidad de acceso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I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vestibular (lima 20) : 16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palatino (lima 25): 15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ferencias: pared V y P respectivament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D:  X = 1mm en ambo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T: Equivalentes a las LRI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3 Imagen" descr="SAM_0439.JPG"/>
          <p:cNvPicPr/>
          <p:nvPr/>
        </p:nvPicPr>
        <p:blipFill>
          <a:blip r:embed="rId2"/>
          <a:srcRect l="38283" t="27087" r="38283" b="7291"/>
          <a:stretch/>
        </p:blipFill>
        <p:spPr>
          <a:xfrm>
            <a:off x="6000840" y="1428840"/>
            <a:ext cx="2143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MEN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9280" y="155088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rrigación: Hipoclorito de Sodio 5,25%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flare: Lima #10 hasta #2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rown Down: Gates 1-2-1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Maestra: Instrumentar con Lima #3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Pasaje:  #8 para limpiar conducto cementari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vado con EDTA por 30 segundos para remover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l barro dentinario (mejor penetracion CaOH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Medicar una semana con Hidróxido de Calci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tirar medicación (con irrigación abundante 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 limas 1 a 2 números menores a lima maestra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 Instrumentar hasta Lima #35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Step Back: llegar hasta Lima #50 (Diámetro Gates #1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capitulación constante con Lima Maestr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5" name="Picture 7" descr="http://1.bp.blogspot.com/_UUEdEiseN2M/TH3N4P11hYI/AAAAAAAAACw/_miyrH5_aHQ/s200/endodoncia.jpg"/>
          <p:cNvPicPr/>
          <p:nvPr/>
        </p:nvPicPr>
        <p:blipFill>
          <a:blip r:embed="rId2"/>
          <a:stretch/>
        </p:blipFill>
        <p:spPr>
          <a:xfrm>
            <a:off x="6035760" y="1494000"/>
            <a:ext cx="2779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9528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6000"/>
          </a:bodyPr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Hipoclorito de sodio al 5,25%: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Tiene un rango de actividad contra bacterias Gram + y Gram –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el irrigante  endodóntico con mayor efecto anti fúng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único irrigante endodóntico capas de destruir efectivamente el biofilm microbiano dentro del SC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Agente proteolítico no especif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xcelente disolvente de tejidos orgánicos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Rápida acción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Lubricante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Combinar con Clorhexidina al 2%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Debido a la posibilidad de M.O. resistentes, tales como E. Faecali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Se debe irrigar por lo menos 3 jeringas de suero para lavar el hipoclorito antes de irrigar con clorhexidina.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Zahed Mohammadi.; Sodium Hypochorite in endodontics: an update review; international dental journal(2008) 58, 329-34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ill Sans MT"/>
              </a:rPr>
              <a:t>IRRIGACIÓN DE SISTEMA DE                     CONDUCTOS RADICULARES (SRC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8" name="Picture 2" descr="http://www.dentalartigas.exactpages.com/FOTOS/farmadental/HIPOCLORITO%20DE%20SODIO.jpg"/>
          <p:cNvPicPr/>
          <p:nvPr/>
        </p:nvPicPr>
        <p:blipFill>
          <a:blip r:embed="rId2"/>
          <a:stretch/>
        </p:blipFill>
        <p:spPr>
          <a:xfrm>
            <a:off x="6791400" y="328680"/>
            <a:ext cx="2127240" cy="3146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http://t2.gstatic.com/images?q=tbn:ANd9GcTH6PeHwdyzMhentRQTlZgPtl5qUxdK8UsyOF1kMKk5yFMOI8Cf"/>
          <p:cNvPicPr/>
          <p:nvPr/>
        </p:nvPicPr>
        <p:blipFill>
          <a:blip r:embed="rId3"/>
          <a:stretch/>
        </p:blipFill>
        <p:spPr>
          <a:xfrm>
            <a:off x="6443640" y="3024360"/>
            <a:ext cx="2316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¿POR QUÉ LIMA MAESTRA #35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da023"/>
                </a:solidFill>
                <a:latin typeface="Gill Sans MT"/>
              </a:rPr>
              <a:t>Anatomí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006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Gill Sans MT"/>
              </a:rPr>
              <a:t>Patología de la piez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2209320"/>
            <a:ext cx="365760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8006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presenta lesión apic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         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Necropulpectom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cxnSp>
        <p:nvCxnSpPr>
          <p:cNvPr id="735" name="9 Conector recto de flecha"/>
          <p:cNvCxnSpPr/>
          <p:nvPr/>
        </p:nvCxnSpPr>
        <p:spPr>
          <a:xfrm>
            <a:off x="6443280" y="2997000"/>
            <a:ext cx="1080" cy="432360"/>
          </a:xfrm>
          <a:prstGeom prst="straightConnector1">
            <a:avLst/>
          </a:prstGeom>
          <a:ln w="1584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36" name="10 CuadroTexto"/>
          <p:cNvSpPr/>
          <p:nvPr/>
        </p:nvSpPr>
        <p:spPr>
          <a:xfrm>
            <a:off x="104292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adiográficamente, el canal el tercio apical de ambos canales es de calibre f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7" name="12 Conector recto de flecha"/>
          <p:cNvCxnSpPr/>
          <p:nvPr/>
        </p:nvCxnSpPr>
        <p:spPr>
          <a:xfrm>
            <a:off x="2646000" y="3645000"/>
            <a:ext cx="1080" cy="79272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  <p:sp>
        <p:nvSpPr>
          <p:cNvPr id="738" name="13 CuadroTexto"/>
          <p:cNvSpPr/>
          <p:nvPr/>
        </p:nvSpPr>
        <p:spPr>
          <a:xfrm>
            <a:off x="826920" y="46134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Lima Maestra # 30 / #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9" name="15 Conector recto de flecha"/>
          <p:cNvCxnSpPr/>
          <p:nvPr/>
        </p:nvCxnSpPr>
        <p:spPr>
          <a:xfrm>
            <a:off x="6443280" y="3860280"/>
            <a:ext cx="1080" cy="289440"/>
          </a:xfrm>
          <a:prstGeom prst="straightConnector1">
            <a:avLst/>
          </a:prstGeom>
          <a:ln w="936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40" name="16 CuadroTexto"/>
          <p:cNvSpPr/>
          <p:nvPr/>
        </p:nvSpPr>
        <p:spPr>
          <a:xfrm>
            <a:off x="4140360" y="4221000"/>
            <a:ext cx="47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Mientras mayor diámetro instrumentación apical, mayor eliminación de bacterias y tejido orgánico, dándonos un mejor pronostico en dientes tratados con infecciones endodon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1" name="12 Conector recto de flecha"/>
          <p:cNvCxnSpPr/>
          <p:nvPr/>
        </p:nvCxnSpPr>
        <p:spPr>
          <a:xfrm flipH="1">
            <a:off x="3679920" y="4812840"/>
            <a:ext cx="576360" cy="108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EDICACIÓN DEL CANAL RADICULA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3" name="6 Marcador de contenido" descr=""/>
          <p:cNvPicPr/>
          <p:nvPr/>
        </p:nvPicPr>
        <p:blipFill>
          <a:blip r:embed="rId2"/>
          <a:stretch/>
        </p:blipFill>
        <p:spPr>
          <a:xfrm>
            <a:off x="615960" y="1596960"/>
            <a:ext cx="7845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POST PREFLA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8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Paciente relata dolor e inflamación (edema facial) de 4 días de duración. Tomo analgésicos y antiinflamatorios: Ibuprofeno y Clonixinato de Lisina con poco efecto los primeros días. Luego ingirió Acido mefenamico, con mejores resultad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La evidencia dice que la presencia de dolor e inflamación posterior a la instrumentación quimio mecánica reduce el éxito del tratamiento. Sin embargo otros estudios no encontraron relación entre amb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HIPOTESIS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Reagudización causada por extrusión de material contaminado  durante la preparación del canal, lo cual generaría una reacción de cuerpo extraño o una infección extra radicular transitoria, resultando en la falla del tto. en una proporción de los cas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Reagudización como resultado de una IQM incompleta que produciría un cambio en la ecología microbiana del canal favoreciendo el crecimiento de MO mas virulentos, o impulsando la expresión de genes de virulencia, produciendo dolor postoperatoria y falla del tto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Gill Sans MT"/>
              </a:rPr>
              <a:t>Primera sesión HASTA preflare</a:t>
            </a: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716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BTURACIÓN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600200"/>
            <a:ext cx="5541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Técnica: Condensación Lateral en Frío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es: #30 en Apical, #40 má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hacia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os: - Maestro: Probar #30, #35 y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- Accesorios: #25 en apical con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 #30 y #35 en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 espaciador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emento:  </a:t>
            </a:r>
            <a:r>
              <a:rPr b="1" lang="es-CL" sz="1700" spc="-1" strike="noStrike">
                <a:solidFill>
                  <a:srgbClr val="fda023"/>
                </a:solidFill>
                <a:latin typeface="Gill Sans MT"/>
              </a:rPr>
              <a:t>Top Seal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, debido a la presencia de lesión apical y la rehabilitación del diente mediante anclaje intracanal se necesita un cemento con sus características: acción antimicrobiana intensa y prolongada,  buena capacidad adhesiva y poca solubilidad. Resistente, de poco corrimiento y radiopacidad satisfactoria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8" name="Picture 11" descr="a"/>
          <p:cNvPicPr/>
          <p:nvPr/>
        </p:nvPicPr>
        <p:blipFill>
          <a:blip r:embed="rId2"/>
          <a:stretch/>
        </p:blipFill>
        <p:spPr>
          <a:xfrm>
            <a:off x="5462640" y="1060560"/>
            <a:ext cx="2979720" cy="259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a"/>
          <p:cNvPicPr/>
          <p:nvPr/>
        </p:nvPicPr>
        <p:blipFill>
          <a:blip r:embed="rId3"/>
          <a:stretch/>
        </p:blipFill>
        <p:spPr>
          <a:xfrm>
            <a:off x="6175440" y="4157640"/>
            <a:ext cx="2852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94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nfatizar que terapia efectuada corresponde a una primera instancia de la rehabilitación y que debe continuar lo antes posible con el siguiente tratamiento para evitar posible infiltración y consecuente fracaso de la terapia endodónt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La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debe ser rehabilitada mediante prótesis fija unitaria para lo cual previamente será necesaria una cirugía de ancho biológico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52" name="Picture 2" descr="http://home.germany.net/100-496425/main_frame/protesis/info_protesis/fija1.jpg"/>
          <p:cNvPicPr/>
          <p:nvPr/>
        </p:nvPicPr>
        <p:blipFill>
          <a:blip r:embed="rId2"/>
          <a:stretch/>
        </p:blipFill>
        <p:spPr>
          <a:xfrm>
            <a:off x="5364000" y="1484280"/>
            <a:ext cx="3591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NAMNESI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sexo femenino 29 añ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sulta hace 1 año por dolor en diente 2.5, en ese momento le iniciaron la endodoncia (trepanación) y nunca volvió a asistir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no presenta sintomatología actualment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6" name="Picture 7" descr="http://4.bp.blogspot.com/_LJ9vgLTtZzQ/SXXSeEswYWI/AAAAAAAAAEQ/DeVbZ88Fh7E/s400/anamnesis.jpg"/>
          <p:cNvPicPr/>
          <p:nvPr/>
        </p:nvPicPr>
        <p:blipFill>
          <a:blip r:embed="rId2"/>
          <a:stretch/>
        </p:blipFill>
        <p:spPr>
          <a:xfrm>
            <a:off x="5748480" y="122400"/>
            <a:ext cx="3590640" cy="2395440"/>
          </a:xfrm>
          <a:prstGeom prst="rect">
            <a:avLst/>
          </a:prstGeom>
          <a:ln w="0">
            <a:noFill/>
          </a:ln>
        </p:spPr>
      </p:pic>
      <p:sp>
        <p:nvSpPr>
          <p:cNvPr id="687" name="Title 1"/>
          <p:cNvSpPr/>
          <p:nvPr/>
        </p:nvSpPr>
        <p:spPr>
          <a:xfrm>
            <a:off x="611280" y="2933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AMEN CLÍ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611280" y="4016520"/>
            <a:ext cx="6048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xtraoral:  Nada Espe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Intraoral:  Caries Penetrante del diente 2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Oclusión del Diente N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7476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XAMEN RADIOLÓG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90" name="Content Placeholder 2"/>
          <p:cNvGrpSpPr/>
          <p:nvPr/>
        </p:nvGrpSpPr>
        <p:grpSpPr>
          <a:xfrm>
            <a:off x="596880" y="1725480"/>
            <a:ext cx="3987720" cy="4883400"/>
            <a:chOff x="596880" y="1725480"/>
            <a:chExt cx="3987720" cy="4883400"/>
          </a:xfrm>
        </p:grpSpPr>
        <p:pic>
          <p:nvPicPr>
            <p:cNvPr id="69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96880" y="1725480"/>
              <a:ext cx="398772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614520" y="1744560"/>
              <a:ext cx="3957480" cy="48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eabsorción ósea marginal Horizontal Discre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aries Penetr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ámara Pulpar Nada Espe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onductos Radiculares: Vestibular y Palatino, Fino en 2/3 Cervical y Medi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aíz: Doble Curva y Límite Duplic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Línea Periodontal Apical:  Ausen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Área Periapical: Radiolucidez de Límites Netos y de tamaño vertical de 2mm y horizontal 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3" name="Picture 2" descr="C:\Users\Eduardo\UNIVERSIDAD\4º año\Endodoncia\Presentación caso clinico\Fotos rx\P1040300 recortada.jpg"/>
          <p:cNvPicPr/>
          <p:nvPr/>
        </p:nvPicPr>
        <p:blipFill>
          <a:blip r:embed="rId3"/>
          <a:stretch/>
        </p:blipFill>
        <p:spPr>
          <a:xfrm>
            <a:off x="5127480" y="1230480"/>
            <a:ext cx="3456000" cy="5549760"/>
          </a:xfrm>
          <a:prstGeom prst="rect">
            <a:avLst/>
          </a:prstGeom>
          <a:ln w="0">
            <a:noFill/>
          </a:ln>
        </p:spPr>
      </p:pic>
      <p:sp>
        <p:nvSpPr>
          <p:cNvPr id="694" name="4 Conector recto"/>
          <p:cNvSpPr/>
          <p:nvPr/>
        </p:nvSpPr>
        <p:spPr>
          <a:xfrm>
            <a:off x="6280200" y="2022480"/>
            <a:ext cx="1152360" cy="0"/>
          </a:xfrm>
          <a:prstGeom prst="line">
            <a:avLst/>
          </a:prstGeom>
          <a:ln w="57240">
            <a:solidFill>
              <a:srgbClr val="fda023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5 Conector recto"/>
          <p:cNvSpPr/>
          <p:nvPr/>
        </p:nvSpPr>
        <p:spPr>
          <a:xfrm>
            <a:off x="6999120" y="1590840"/>
            <a:ext cx="0" cy="1944360"/>
          </a:xfrm>
          <a:prstGeom prst="line">
            <a:avLst/>
          </a:prstGeom>
          <a:ln w="5724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6 Conector recto"/>
          <p:cNvSpPr/>
          <p:nvPr/>
        </p:nvSpPr>
        <p:spPr>
          <a:xfrm flipH="1">
            <a:off x="6891480" y="159084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7 Conector recto"/>
          <p:cNvSpPr/>
          <p:nvPr/>
        </p:nvSpPr>
        <p:spPr>
          <a:xfrm flipH="1">
            <a:off x="6891480" y="353520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8 Conector recto"/>
          <p:cNvSpPr/>
          <p:nvPr/>
        </p:nvSpPr>
        <p:spPr>
          <a:xfrm>
            <a:off x="6280200" y="1932120"/>
            <a:ext cx="0" cy="18072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9 Conector recto"/>
          <p:cNvSpPr/>
          <p:nvPr/>
        </p:nvSpPr>
        <p:spPr>
          <a:xfrm>
            <a:off x="7432560" y="1917720"/>
            <a:ext cx="0" cy="17928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10 CuadroTexto"/>
          <p:cNvSpPr/>
          <p:nvPr/>
        </p:nvSpPr>
        <p:spPr>
          <a:xfrm>
            <a:off x="7504200" y="1838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Arial"/>
              </a:rPr>
              <a:t>2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11 CuadroTexto"/>
          <p:cNvSpPr/>
          <p:nvPr/>
        </p:nvSpPr>
        <p:spPr>
          <a:xfrm>
            <a:off x="6967440" y="1230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4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12 Forma libre"/>
          <p:cNvSpPr/>
          <p:nvPr/>
        </p:nvSpPr>
        <p:spPr>
          <a:xfrm>
            <a:off x="6605640" y="2146320"/>
            <a:ext cx="187200" cy="2487600"/>
          </a:xfrm>
          <a:prstGeom prst="pie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13 Forma libre"/>
          <p:cNvSpPr/>
          <p:nvPr/>
        </p:nvSpPr>
        <p:spPr>
          <a:xfrm>
            <a:off x="6524640" y="2387520"/>
            <a:ext cx="162000" cy="2138400"/>
          </a:xfrm>
          <a:prstGeom prst="pie">
            <a:avLst/>
          </a:prstGeom>
          <a:noFill/>
          <a:ln w="9360">
            <a:solidFill>
              <a:srgbClr val="fda0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14 Forma libre"/>
          <p:cNvSpPr/>
          <p:nvPr/>
        </p:nvSpPr>
        <p:spPr>
          <a:xfrm>
            <a:off x="6256440" y="1593720"/>
            <a:ext cx="1303200" cy="2084400"/>
          </a:xfrm>
          <a:prstGeom prst="pie">
            <a:avLst/>
          </a:prstGeom>
          <a:noFill/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4360" y="2349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Hipótesis Diagnós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Diagnóstico Defini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,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xpuesto al medio or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7" name="Picture 5" descr="http://educandoamihijo.com/wp-content/uploads/diagnosticos-autismo.jpg"/>
          <p:cNvPicPr/>
          <p:nvPr/>
        </p:nvPicPr>
        <p:blipFill>
          <a:blip r:embed="rId2"/>
          <a:stretch/>
        </p:blipFill>
        <p:spPr>
          <a:xfrm>
            <a:off x="4834080" y="92160"/>
            <a:ext cx="3213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FUNDAMENTO 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Diente con Terapia Endodóntica Previamente Iniciad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La AAE recomienda emplear esta clasificación para un grupo de situaciones caracterizadas por la presencia de un diente que ha recibido previemente un tratamiento endodóntico en forma parcial. En este caso: “trepanación”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Periodontitis Apical Asintomátic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mo se describe en la mayoría de estos casos el diente se encuentra asintomático: no presenta dolor a la percusión  ni palpación y respuesta negativa a los tests pulpares. Al examen radiográfico se evidencia un área radiolúcida periapical que confirma la hipótesis.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Linda G. Levin, Alan S. Law, G.R. Holland, Paul V. Abbott, Robert S. Roda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ulpal Health and Disease States.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p. 1651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James L. Gutmann, J. Craig Baumgartner, Alan H. Gluskin, Gary R. Hartwell, Richard E. Walton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eriapical/Periradicular Health and Disease States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.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 p. 1670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IMPLICANCIAS MICROBIOLÓGICAS DEL DIAGNÓSTICO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ill Sans MT"/>
              </a:rPr>
              <a:t>Infección intraradicular secundaria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: presencia de MO introducidos en el SCR luego de una intervención terapéutica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rovienen del medio externo y la sal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Especies y géneros asociados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taphylococcus spp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Pseudomona Aeruginos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col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Bacilos enteric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faecal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Importancia de la instrumentación, irrig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iquieira JF, 200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E. FAECALIS (24-77%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1915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0000"/>
          </a:bodyPr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Coco Gram (+), faculta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esiste pH muy alcalino por lo que es altamente resistente a la acción antimicrobiana del hipoclorito, por ello, se debe tener especial cuidado e la concentración y el recambio del hipoclorito (adecuado Crown Down me asegura amplia superficie de acción y buen retorno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Forma biofilms:  mas frecuentes en infecciones crónica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Quórum Sensing, Intercambio génico, Resistenc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Invade túbulos: instrument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oporta la falta de nutrien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tuart et al. J Endod 2006;32: 93-98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4" name="Picture 5" descr="Fichier:Enterococcus faecalis SEM 01.png"/>
          <p:cNvPicPr/>
          <p:nvPr/>
        </p:nvPicPr>
        <p:blipFill>
          <a:blip r:embed="rId2"/>
          <a:stretch/>
        </p:blipFill>
        <p:spPr>
          <a:xfrm>
            <a:off x="5059440" y="-6480"/>
            <a:ext cx="3706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9080" y="1052280"/>
            <a:ext cx="62676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Lesiones grandes influyen negativamente en el pronóstico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aumenta la probabilidad de que a lesión persista luego del tratamient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diversidad bacterian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tiempo de la infección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 más penetración a los túbulos dentinarios y la periferia del SCR, donde la descontaminación quimio mecánica no lleg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lesiones quísticas o infecciones extra radiculares, para las cuales el tratamiento no quirúrgico de los canales radiculares no es resolutiv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una respuesta del hospedero más exagerada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menor respuesta al cambio ecológico producido por el tratamiento de los canales radiculare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La presencia de lesión apical se asocio a un 49% menor odds ratio de éxito que la ausencia de lesión. El odds de éxito disminuyo un 14% por cada milímetro de aumento en el diámetro de la lesión preoperatoria.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Gill Sans MT"/>
              </a:rPr>
              <a:t>Y. L. Ng, V. Mann &amp; K. Gulabivala, I. A prospective study of the factors affecting outcome of nonsurgical root canal treatment: part 1: periapical health. International Endodontic Journal, 44, 583-609, 2011 Endodontic Journal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2" descr="C:\Users\Eduardo\UNIVERSIDAD\4º año\Endodoncia\Presentación caso clinico\Fotos rx\P1040300 recortada.jpg"/>
          <p:cNvPicPr/>
          <p:nvPr/>
        </p:nvPicPr>
        <p:blipFill>
          <a:blip r:embed="rId2"/>
          <a:stretch/>
        </p:blipFill>
        <p:spPr>
          <a:xfrm>
            <a:off x="6327720" y="1060560"/>
            <a:ext cx="2644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ermeabilidad al termino del canal y extensión apical de la instrumentación del canal reflejan la extensión apical de la limpieza de canal: 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factores pronósticos para el éxito del tratamiento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Aunque una serie de estudios han investigado la relación entre las dimensiones del canal y las dinámicas de irrigación y obturación , el mecanismo preciso físico, químico o biológico que finalmente facilita la reparación apical es aún desconocido. Se necesitan más estudios para identificar el balance óptimo entre dimensión del canal preparado y protocolo de irrigación </a:t>
            </a:r>
            <a:r>
              <a:rPr b="1" i="1" lang="es-ES" sz="2000" spc="-1" strike="noStrike">
                <a:solidFill>
                  <a:srgbClr val="ffc000"/>
                </a:solidFill>
                <a:latin typeface="Gill Sans MT"/>
              </a:rPr>
              <a:t>en pro de conservar tejido dentinario para la sobrevida del diente, logrando a la vez un control efectivo del biofilm para facilitar la reparación api</a:t>
            </a:r>
            <a:r>
              <a:rPr b="1" lang="es-ES" sz="2000" spc="-1" strike="noStrike">
                <a:solidFill>
                  <a:srgbClr val="ffc000"/>
                </a:solidFill>
                <a:latin typeface="Gill Sans MT"/>
              </a:rPr>
              <a:t>cal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6:55Z</dcterms:created>
  <dc:creator>Carlitos</dc:creator>
  <dc:description/>
  <dc:language>en-US</dc:language>
  <cp:lastModifiedBy>Mauricio Garrido</cp:lastModifiedBy>
  <dcterms:modified xsi:type="dcterms:W3CDTF">2011-11-29T22:30:02Z</dcterms:modified>
  <cp:revision>58</cp:revision>
  <dc:subject/>
  <dc:title>PowerPoint Presentation</dc:title>
</cp:coreProperties>
</file>