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54D-4143-4A2C-BB9C-46A7C0B6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512-8ECB-434C-AA83-E79EE940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77B-C918-4858-8D37-104C864E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809-9ED8-440F-A01F-D21F11C8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F9E8-328C-41AE-9CC9-7B2F3525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4846-8476-4FFB-8FE8-CFF62417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73D6-F920-4757-B456-C077AF94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664C-AFC8-457B-9E74-B09984CD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D12E-7522-4CC7-8F43-999F73D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1B3B-D60C-45F4-B656-2F89F04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2C66-4831-4495-BDB8-B681E2F1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E23-ACDE-470A-A592-46B2C428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474A-F4B7-46EA-842D-575C0F38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2B60-4994-49DD-8D44-48ABE0C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0CDD-953E-46E6-A4B8-74075CC7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4D81-899E-4A06-AD41-7DB73C5B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530D-1F37-45A5-B32F-44DE2141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8F5-C7B6-49DD-8021-0DE99A18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83B-130F-461B-884A-2A681F5A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75B-2949-404C-9E15-649AC563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6C4-E7C1-4E32-A740-FF5C0CC6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EA2-774C-4C5F-890E-466D605F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C55-1CFC-4594-8779-0B21927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FB8-23EE-44D2-8FD4-96971A79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FA2A-B299-426A-B612-8FFF0243C31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53F0-F96B-460B-B7F9-BDF6870B233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efinición de Problema y Objetivos de investigación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5640" y="3344400"/>
            <a:ext cx="62564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In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ias: La descripción del estudio la realiza quien lo efectú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ndarias: Es realizada por un tercero (no agrega nada nuevo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4437000"/>
            <a:ext cx="3528720" cy="107964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465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A CR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l 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tin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h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do deductiv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l surgimiento d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349360"/>
            <a:ext cx="2592360" cy="15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744000" y="4040640"/>
            <a:ext cx="934920" cy="432000"/>
          </a:xfrm>
          <a:custGeom>
            <a:avLst/>
            <a:gdLst>
              <a:gd name="textAreaLeft" fmla="*/ 145800 w 934920"/>
              <a:gd name="textAreaRight" fmla="*/ 818280 w 93492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bf0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27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ocimiento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724280"/>
            <a:ext cx="2016000" cy="1150920"/>
          </a:xfrm>
          <a:prstGeom prst="cloudCallout">
            <a:avLst>
              <a:gd name="adj1" fmla="val -30629"/>
              <a:gd name="adj2" fmla="val 97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póte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tentativa de la relación entre dos o má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ción del posible resulta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aciones tentativas del fenómeno investigado formuladas a manera de proposi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ibles de ser verificadas, NO necesarias de ser verific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alidad (científica) de una hipótesis está dada por su estructura lógica y su fundamento teór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racterísticas de una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deben ser redactada en términos “Afirmativo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precisas en términos de cual es la relación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 ser posible de ser contrast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son necesa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ipos de Hipótesi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quival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io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ipótesis de Investigación y Estadísticas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ción: Enuncian las relaciones que se espera observar entre las vari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dísticas; Se expresan de manera que no se indiquen expectativas respecto a las relaciones entre las variables          Hipótesis Nula (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pruebas estadísticas siempre operan en base a Ho y a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ternativ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221000"/>
            <a:ext cx="792360" cy="71640"/>
          </a:xfrm>
          <a:prstGeom prst="rightArrow">
            <a:avLst>
              <a:gd name="adj1" fmla="val 50000"/>
              <a:gd name="adj2" fmla="val 27650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as guías d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en ser considerados a lo largo de todo el estud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 es lo que se va a “hac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lo tanto expresan una acción y términos gramaticales corresponden a un “verbo en infinitiv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expresarse con clar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ser posibles de ser alcan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 en relación a la contrastación de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ben cumplirse a través de los métodos propue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la acción mediante la cual se puede contrastar l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íficos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 los pasos que se deben seguir para dar cumplimiento al objetivo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clasificaciones los dividen en principal y secundar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 investigación cientí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205000"/>
            <a:ext cx="259272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3068640"/>
            <a:ext cx="2232000" cy="1150920"/>
          </a:xfrm>
          <a:prstGeom prst="ellipse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4292640"/>
            <a:ext cx="2519280" cy="865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342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458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213000"/>
            <a:ext cx="863640" cy="1152720"/>
          </a:xfrm>
          <a:custGeom>
            <a:avLst/>
            <a:gdLst>
              <a:gd name="textAreaLeft" fmla="*/ 115560 w 863640"/>
              <a:gd name="textAreaRight" fmla="*/ 748080 w 86364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6b8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ique el objetivo correcto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strar la mayor eficacia del antiséptico “Z” que el “W” en la profilaxis de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car información bibliográfica respecto a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ir a la prevención de las infecciones respirato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 de los dos antisépticos es más eficaz en la prevención de infección respirator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ar la eficacia del antiséptico “Z” en relación al antiséptico “W”, en la disminución de casos de infecciones respirato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incidencia de infecciones respiratorias al usar el antiséptico “Z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r reacciones adversas originadas por el uso de “Z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 resume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l problema 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ención de Información acerca del problema 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rco Teór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uesta tentativa al problema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Hipót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ones a desarrollar para contrastar la hipótesis   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puede completar una totalidad (Gestalt). Ej: quiero ir al baño y estoy en una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cción o idea, no se completa, Algo Falta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Que es un problema de investigación científ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uando no se completa una totalidad concept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entes de Proble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 de la investigación científica. De hecho, la conclusión de la investigación es su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encia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oría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716280"/>
            <a:ext cx="287280" cy="108108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393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xión; asoc.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terroga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l es la caus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ómo influye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existe la mayor prevalencia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otado y preci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al es la importancia de la dieta en la salu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diciones para un problema de investigación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regunta de investigación 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ible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ursos, mé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levante            Nuevo Cono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ác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herente: Contextuado en una cuerpo de conoc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35772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rco Teór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 la revisión del cuerpo de conocimientos referidos al problema de investigación, existente en el día de ho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úsqueda de información para dar respuesta a la pregunta de investig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tivamente se desarrolla a través de la revisión bibliográf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nueva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entaciones con respecto al conocimiento act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concept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po de Información a Busc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llaz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orías y mode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ción metod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ción de térmi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581360"/>
            <a:ext cx="5473440" cy="1440000"/>
          </a:xfrm>
          <a:prstGeom prst="rect">
            <a:avLst/>
          </a:prstGeom>
          <a:solidFill>
            <a:srgbClr val="f7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B: PROFUNDA Y AMP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1:19:20Z</dcterms:created>
  <dc:creator>Facultad de Odontologia</dc:creator>
  <dc:description/>
  <dc:language>en-US</dc:language>
  <cp:lastModifiedBy>Facultad de Odontologia</cp:lastModifiedBy>
  <dcterms:modified xsi:type="dcterms:W3CDTF">2010-08-12T15:20:16Z</dcterms:modified>
  <cp:revision>28</cp:revision>
  <dc:subject/>
  <dc:title>Definición de Problema y Objetivos de investigación </dc:title>
</cp:coreProperties>
</file>