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E13-6B9C-4AF7-8762-E3981DDD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60F-F235-4460-9852-EC5E91D9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0DF-DACA-47FD-B2AA-8A1F8A37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051-0F7C-4FA5-8B90-B5AAE2D5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9DFD-C25B-4101-9D7C-650E20F1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8BFC-E9D5-4C9D-884D-E72C19EB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4EEF-4DF2-43B4-AEA1-4151C56B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CF89-7EED-4D4A-94D7-F804F0FE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9F77-B78D-43F2-9D85-01F3C1FA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9ABB-9EFC-4FF5-BA24-0B3F09A2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264C-725E-4B07-BDB1-92221E3B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BB1-344D-420E-869A-FB7B4583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CCD2-09AE-449B-AE2F-55BD42BC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8243-C23E-4C63-9160-01B592BA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F60D-75F3-447E-8F66-3CE0F744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326E-4F28-481A-9FEF-857F67F6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E3BA-71E6-480B-8CE5-885CFFB0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59A-DB59-47F4-B78A-270B099C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EC1-B5B4-4FC3-989E-A3555235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C1E-BFDF-4EA8-A2B6-D491B5FB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C27-833B-4D77-8C9A-7420E63A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B95-B551-4675-98DA-9F38185B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5D5-7421-4B83-BE7F-D3E3BD08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4B8-6DCC-4523-A3A6-B9148CF7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8135-BE7A-41DC-8838-D84F17BD531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242B-B297-4FF2-BA6F-010F485A007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Definición de Problema y Objetivos de investigación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5640" y="3344400"/>
            <a:ext cx="62564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Gonzalo Rojas Alca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Inform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arias: La descripción del estudio la realiza quien lo efectú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ndarias: Es realizada por un tercero (no agrega nada nuevo!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4437000"/>
            <a:ext cx="3528720" cy="107964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4653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A CR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acción del 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s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tin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her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do deductiv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l surgimiento d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3744000" y="4040640"/>
            <a:ext cx="934920" cy="432000"/>
          </a:xfrm>
          <a:custGeom>
            <a:avLst/>
            <a:gdLst>
              <a:gd name="textAreaLeft" fmla="*/ 145800 w 934920"/>
              <a:gd name="textAreaRight" fmla="*/ 818280 w 9349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bf0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29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2781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ocimiento dispo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724280"/>
            <a:ext cx="2016000" cy="1150920"/>
          </a:xfrm>
          <a:prstGeom prst="cloudCallout">
            <a:avLst>
              <a:gd name="adj1" fmla="val -30629"/>
              <a:gd name="adj2" fmla="val 975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póte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tentativa de la relación entre dos o má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del posible resulta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aciones tentativas del fenómeno investigado formuladas a manera de proposi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ibles de ser verificadas, NO necesarias de ser verific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calidad (científica) de una hipótesis está dada por su estructura lógica y su fundamento teór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racterísticas de una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deben ser redactada en términos “Afirmativo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precisas en términos de cual es la relación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 ser posible de ser contrast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empre son necesa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ipos de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ival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ipótesis de Investigación y Estadísticas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ción: Enuncian las relaciones que se espera observar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dísticas; Se expresan de manera que no se indiquen expectativas respecto a las relaciones entre las variables          Hipótesis Nula (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pruebas estadísticas siempre operan en base a Ho y a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lternativ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221000"/>
            <a:ext cx="792360" cy="71640"/>
          </a:xfrm>
          <a:prstGeom prst="rightArrow">
            <a:avLst>
              <a:gd name="adj1" fmla="val 50000"/>
              <a:gd name="adj2" fmla="val 27650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as guías d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considerados a lo largo de todo 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 es lo que se va a “hacer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expresan una acción y términos gramaticales corresponden a un “verbo en infinitivo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expresarse con clar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ser posibles de ser alcanz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án en relación a la contrastación de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cumplirse a través de los métodos propue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la acción mediante la cual se puede contrastar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s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os pasos que se deben seguir para dar cumplimiento al objetivo gener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clasificaciones los dividen en principal y secundar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 investigación cientí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2205000"/>
            <a:ext cx="259272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3068640"/>
            <a:ext cx="2232000" cy="1150920"/>
          </a:xfrm>
          <a:prstGeom prst="ellipse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4292640"/>
            <a:ext cx="2519280" cy="865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2492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42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458136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213000"/>
            <a:ext cx="863640" cy="1152720"/>
          </a:xfrm>
          <a:custGeom>
            <a:avLst/>
            <a:gdLst>
              <a:gd name="textAreaLeft" fmla="*/ 115560 w 863640"/>
              <a:gd name="textAreaRight" fmla="*/ 748080 w 863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6b8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ique el objetivo correcto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strar la mayor eficacia del antiséptico “Z” que el “W” en la profilaxis de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car información bibliográfica respecto a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ir a la prevención de las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al de los dos antisépticos es más eficaz en la prevención de infección respirator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ar la eficacia del antiséptico “Z” en relación al antiséptico “W”, en la disminución de casos de infecciones respirator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incidencia de infecciones respiratorias al usar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r reacciones adversas originadas por el uso de “Z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n resumen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l problema 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ención de Información acerca del problema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Marco Teór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uesta tentativa al problema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Hipót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iones a desarrollar para contrastar la hipótesis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Objetiv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 de Investig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puede completar una totalidad (Gestalt). Ej: quiero ir al baño y estoy en una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acción o idea, no se completa, Algo Falta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 de investigación científ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completa una totalidad conceptu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Problem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 de la investigación científica. De hecho, la conclusión de la investigación es su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iencia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oría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716280"/>
            <a:ext cx="287280" cy="1081080"/>
          </a:xfrm>
          <a:custGeom>
            <a:avLst/>
            <a:gdLst>
              <a:gd name="textAreaLeft" fmla="*/ 0 w 287280"/>
              <a:gd name="textAreaRight" fmla="*/ 103680 w 287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3933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xión; asoc.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ul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erroga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l es la caus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ómo influye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nde existe la mayor prevalenci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otado y preci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al es la importancia de la dieta en la salu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diciones para un problema de investigación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pregunta de investigación 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actible: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s, méto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evante            Nuevo Cono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ó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ác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od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herente: Contextuado en una cuerpo de conocimi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335772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 la revisión del cuerpo de conocimientos referidos al problema de investigación, existente en el día de ho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úsqueda de información para dar respuesta a la pregunta de investig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rativamente se desarrolla a través de la revisión bibliográf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sión Bibliográ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nueva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entaciones con respecto al conocimiento act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o concept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po de Información a Busc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llaz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orías y mode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 térmi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581360"/>
            <a:ext cx="5473440" cy="144000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B: PROFUNDA Y AMP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1:19:20Z</dcterms:created>
  <dc:creator>Facultad de Odontologia</dc:creator>
  <dc:description/>
  <dc:language>en-US</dc:language>
  <cp:lastModifiedBy>Facultad de Odontologia</cp:lastModifiedBy>
  <dcterms:modified xsi:type="dcterms:W3CDTF">2010-08-12T15:20:16Z</dcterms:modified>
  <cp:revision>28</cp:revision>
  <dc:subject/>
  <dc:title>Definición de Problema y Objetivos de investigación </dc:title>
</cp:coreProperties>
</file>