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C250-A013-4F2D-9821-8D388FB7D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23CC-4A8D-40E6-A99D-0CCB3746D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B435-840D-4149-8A6D-5D17BA31A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C2EC-A63E-459B-A68F-3A4E5116A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436C5-3AE1-4AB1-9585-1CB3744E5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915EC-903C-4585-8A37-56747D1AD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08E18-B22A-4B15-B54B-C1E78AB3A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D2444-6490-45F4-8D7E-2813EDB1A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268E1-EEED-415C-8EA7-5323EADF2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C8C75-7668-4E5E-944F-BBF87BADC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84F7F-853A-4698-956E-416ACDE9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F571-F3E2-4A48-8418-A4CFAAE7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7130E-BE0A-4D3A-AB10-A0A433A1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20FF0-5D32-4374-9576-57BA3890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2353F-FA7B-4D53-93EC-F794A1643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7FC61-FAAF-4241-BE88-EA55F06D6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8A713-EC84-4088-B893-284882A1F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FBF8-2C27-41F8-9D5D-143C1AC49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64BE-1BCC-4FE3-B1F1-129025571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8027-B056-4A40-A79D-ED2573AA4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ABE0-77BF-42C8-812A-5BDF0330E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998F-8504-4599-9C8E-245D3557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C5F7-B8A5-414F-9B86-6068DEE3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8824-9351-4BD2-9432-5252D12D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983C7-5F80-4DA0-8906-5F5A991B80DF}" type="slidenum"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50E48-FB06-45D0-BA15-13FEBE2FB035}" type="slidenum"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330066"/>
                </a:solidFill>
                <a:latin typeface="Arial"/>
              </a:rPr>
              <a:t>Bases epistemológicas de la investigación científica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of. Dr Gonzalo Rojas Alcaya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280" y="549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500" spc="-1" strike="noStrike">
                <a:solidFill>
                  <a:srgbClr val="330066"/>
                </a:solidFill>
                <a:latin typeface="Arial"/>
              </a:rPr>
              <a:t>La Confirmación (criterio de  Nicod)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Todo “p” es “q”, (Px    Qx), “todos los cuervos son negros”, “el tabaco produce cáncer”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Instancia confirmadora; Pa*Qa, encuentro un cuervo negro, demuestro un caso de cáncer pulmonar en un paciente fumado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Instancia desconfirmadora; Pa*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~Qa, encuentro un cuervo blanco, encuentro un caso de fumador sin cancer.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51280" y="2060640"/>
            <a:ext cx="287280" cy="144360"/>
          </a:xfrm>
          <a:custGeom>
            <a:avLst/>
            <a:gdLst>
              <a:gd name="textAreaLeft" fmla="*/ 0 w 287280"/>
              <a:gd name="textAreaRight" fmla="*/ 287640 w 28728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Las paradoj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ógicamente hablando, Pa*Qa es equivalente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~Qa *~Pa, por lo cual el descubrimiento de un canario amarillo es una instancia confirmadora de que todos los cuervos son negros,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o que el descubrimiento de una persona sin cáncer y que no fuma es una instancia confirmadora de que el tabaco produce cánc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Instancias confirmador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uales serían instancias confirmadoras de las hipótesi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l tabaco produce cánc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os S.mutans producen ca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La experiencia puede confirmar las proposiciones científicas en el sentido de mostrar que son </a:t>
            </a:r>
            <a:r>
              <a:rPr b="0" lang="es-CL" sz="3000" spc="-1" strike="noStrike" u="sng">
                <a:solidFill>
                  <a:srgbClr val="000000"/>
                </a:solidFill>
                <a:uFillTx/>
                <a:latin typeface="Arial"/>
              </a:rPr>
              <a:t>probables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Falsacionismo (Popper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Busqueda de criterios para distinguir Ciencia de Pseudo-ciencia (</a:t>
            </a:r>
            <a:r>
              <a:rPr b="0" i="1" lang="es-CL" sz="2600" spc="-1" strike="noStrike">
                <a:solidFill>
                  <a:srgbClr val="000000"/>
                </a:solidFill>
                <a:latin typeface="Arial"/>
              </a:rPr>
              <a:t>Demarcación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Propone una lógica deductiva (contraria al empirism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Una proposición es científica sólo si puede ser </a:t>
            </a:r>
            <a:r>
              <a:rPr b="0" i="1" lang="es-CL" sz="2600" spc="-1" strike="noStrike">
                <a:solidFill>
                  <a:srgbClr val="000000"/>
                </a:solidFill>
                <a:latin typeface="Arial"/>
              </a:rPr>
              <a:t>falseada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por la experienci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Y basta una sola instancia falsadora para rechazar una hipótesi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Falsacionism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ntonces una hipótesis para ser científica debe generar por deducción una instancia que la desconfirm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Que instancia podría demostrar que la hipótesis “El S.Mutans produce caries” es falsa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ntonces, ¿Cuándo confirmamos la hipótesis?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Constructivism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No existen hechos puros que nos permitan inducir una teoría, por el contrario es el conocimiento y las creencias las que determinan que hechos son observab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a observación científica está “teóricamente cargada” (Hanson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100" spc="-1" strike="noStrike">
                <a:solidFill>
                  <a:srgbClr val="330066"/>
                </a:solidFill>
                <a:latin typeface="Arial"/>
              </a:rPr>
              <a:t>Cual es el problema en investigación en ciencias médicas?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unca podemos estar seguro si la relación de hechos es real o es una distors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este caso los hechos son “diagnósticos” y “tratamiento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j; un tratamiento es efectivo para el 68% de los enfermos de “X” enfermedad y uno alternativo (más económico) es efectivo pa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) el 52% de los enfer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) el 64% de los enfer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3) el 39% de los enfer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Teoría y Percep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Una percepción es significativa cuando el objeto es identificado y por lo tanto la percepción está conceptualmente cargad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i no veo objeto alguno identificable, no veo nad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Una observación para que se constituya en conocimiento debe estar relacionada a un cuerpo de informa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Por lo tanto el que tiene información podrá “ver” que ha acontecido un fenómeno extrañ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619280" y="1125360"/>
            <a:ext cx="6033960" cy="4526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500" spc="-1" strike="noStrike">
                <a:solidFill>
                  <a:srgbClr val="330066"/>
                </a:solidFill>
                <a:latin typeface="Arial"/>
              </a:rPr>
              <a:t>La naturaleza del descubrimiento científico.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a información que disponga determina lo que observ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l cambio del marco teórico es la verdadera actividad científic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Atento a las irregularidad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500" spc="-1" strike="noStrike">
                <a:solidFill>
                  <a:srgbClr val="330066"/>
                </a:solidFill>
                <a:latin typeface="Arial"/>
              </a:rPr>
              <a:t>Por qué tener que estudiar esto?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s-CL" sz="3000" spc="-1" strike="noStrike" u="sng">
                <a:solidFill>
                  <a:srgbClr val="000000"/>
                </a:solidFill>
                <a:uFillTx/>
                <a:latin typeface="Arial"/>
              </a:rPr>
              <a:t>ciencia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es una forma de </a:t>
            </a:r>
            <a:r>
              <a:rPr b="0" lang="es-CL" sz="3000" spc="-1" strike="noStrike" u="sng">
                <a:solidFill>
                  <a:srgbClr val="000000"/>
                </a:solidFill>
                <a:uFillTx/>
                <a:latin typeface="Arial"/>
              </a:rPr>
              <a:t>conocer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la </a:t>
            </a:r>
            <a:r>
              <a:rPr b="0" lang="es-CL" sz="3000" spc="-1" strike="noStrike" u="sng">
                <a:solidFill>
                  <a:srgbClr val="000000"/>
                </a:solidFill>
                <a:uFillTx/>
                <a:latin typeface="Arial"/>
              </a:rPr>
              <a:t>realida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sto nos permite </a:t>
            </a:r>
            <a:r>
              <a:rPr b="0" lang="es-CL" sz="3000" spc="-1" strike="noStrike" u="sng">
                <a:solidFill>
                  <a:srgbClr val="000000"/>
                </a:solidFill>
                <a:uFillTx/>
                <a:latin typeface="Arial"/>
              </a:rPr>
              <a:t>reflexionar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sobre nuestro modo de conocer la realidad y por lo tanto darle a esta un </a:t>
            </a:r>
            <a:r>
              <a:rPr b="0" lang="es-CL" sz="3000" spc="-1" strike="noStrike" u="sng">
                <a:solidFill>
                  <a:srgbClr val="000000"/>
                </a:solidFill>
                <a:uFillTx/>
                <a:latin typeface="Arial"/>
              </a:rPr>
              <a:t>carácter relativo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arle un carácter absoluto es perder la posibilidad de la </a:t>
            </a:r>
            <a:r>
              <a:rPr b="0" lang="es-CL" sz="3000" spc="-1" strike="noStrike" u="sng">
                <a:solidFill>
                  <a:srgbClr val="000000"/>
                </a:solidFill>
                <a:uFillTx/>
                <a:latin typeface="Arial"/>
              </a:rPr>
              <a:t>actividad creativa 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y de la</a:t>
            </a:r>
            <a:r>
              <a:rPr b="0" lang="es-CL" sz="3000" spc="-1" strike="noStrike" u="sng">
                <a:solidFill>
                  <a:srgbClr val="000000"/>
                </a:solidFill>
                <a:uFillTx/>
                <a:latin typeface="Arial"/>
              </a:rPr>
              <a:t> autonomía del pensamiento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340000" y="765000"/>
            <a:ext cx="444672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619280" y="1138320"/>
            <a:ext cx="4143240" cy="32144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627280" y="4941720"/>
            <a:ext cx="33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F I 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La realida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Ontología: Rama de la filosofía que estudia las características más generales de la realidad (existencia real, el cambio, el tiempo, la vida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pistemología: Estudio de la cognición y el conocimiento. Cómo se cono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onocimiento común y científic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ómo se organiza: Las proposic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500" spc="-1" strike="noStrike">
                <a:solidFill>
                  <a:srgbClr val="330066"/>
                </a:solidFill>
                <a:latin typeface="Arial"/>
              </a:rPr>
              <a:t>La tendencia humana a regularizar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a ciencia pretende establecer regularidades entre los hechos, para así explicar, predecir y modificar fenómenos. Generar ley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eyes son especulaciones respecto al mundo real. ¿Dónde está la ley de graveda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Algunas ciencias más exactas que otra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eyes y teorí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000" y="90756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500" spc="-1" strike="noStrike">
                <a:solidFill>
                  <a:srgbClr val="330066"/>
                </a:solidFill>
                <a:latin typeface="Arial"/>
              </a:rPr>
              <a:t>Dos preguntas fundamentales para el desarrollo del conocimiento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3068640"/>
            <a:ext cx="8229600" cy="21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¿Qué proposiciones son significativa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¿Qué proposiciones son verdaderas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Escuelas Epistemológic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mpirism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ositivism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mpirismo lógic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Falsacionism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onstructivism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Empirismo Clásico (Hume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Todo conocimiento se funda en la experiencia, en las sensaciones o impresion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Impresiones e ide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Ideas y hech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ignificatividad y veracidad de una proposi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s significativa si los términos corresponden a una ide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uestiones de hecho; se verifica si la idea ocurre en la realida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Ej: El fuego quem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500" spc="-1" strike="noStrike">
                <a:solidFill>
                  <a:srgbClr val="330066"/>
                </a:solidFill>
                <a:latin typeface="Arial"/>
              </a:rPr>
              <a:t>Positivismo Lógico </a:t>
            </a:r>
            <a:br>
              <a:rPr sz="3500"/>
            </a:br>
            <a:r>
              <a:rPr b="1" lang="es-CL" sz="3500" spc="-1" strike="noStrike">
                <a:solidFill>
                  <a:srgbClr val="330066"/>
                </a:solidFill>
                <a:latin typeface="Arial"/>
              </a:rPr>
              <a:t>(círculo de Viena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Teoría verificacionista del signific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Una proposición tiene significado si y solo si </a:t>
            </a:r>
            <a:r>
              <a:rPr b="0" lang="es-CL" sz="2600" spc="-1" strike="noStrike" u="sng">
                <a:solidFill>
                  <a:srgbClr val="000000"/>
                </a:solidFill>
                <a:uFillTx/>
                <a:latin typeface="Arial"/>
              </a:rPr>
              <a:t>puede ser verificada empíricamen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Una proposición es verdadera cuando corresponde a un hech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l valor de verdad es determinado de una vez y para siempre (ley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Empirismo Lógico (Carnap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Una proposición tiene significado si es susceptible de ser contrastada por referencia a la observa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a confirmación de una proposición científica es gradualmente crecien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Tema central es la relación de confirmación que se da entre una ley científica y los enunciados de observación que la confirman o desconfirma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6T02:42:52Z</dcterms:created>
  <dc:creator>Gonzalo Rojas</dc:creator>
  <dc:description/>
  <dc:language>en-US</dc:language>
  <cp:lastModifiedBy>Facultad de Odontologia</cp:lastModifiedBy>
  <dcterms:modified xsi:type="dcterms:W3CDTF">2010-08-04T16:25:53Z</dcterms:modified>
  <cp:revision>33</cp:revision>
  <dc:subject/>
  <dc:title>Bases epistemológicas de la investigación científica</dc:title>
</cp:coreProperties>
</file>