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64E-ADB2-40C2-BCB0-51F16DA1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F60-1016-40C1-BFAC-8A697C26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671-F8B1-4B7A-9AB6-87A337EA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328-095F-4507-B0EB-DE544A95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98FF-0356-4127-9F82-81806AC9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1653-1549-47FB-9763-5D1CB004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D84B-2F6C-448E-A9A1-E8AD3E36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50C7-07D5-43AC-9F9D-90C54B06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3366-6832-4ACD-8D97-AF2D816F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81A0-80D6-4884-9A19-7C8E343B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3F36-1F05-4669-9EA5-A19969ED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BDC-6537-4D86-8045-A6B33347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075C-0876-443F-A5D3-9E743CB5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3842-EA8B-4AB8-B150-79C49560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F827-0D61-4629-A5B9-CD0C5437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C860-C1F7-4753-AB0A-1A5C03F5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B0CF-960D-4B29-BC74-7C54841F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A3D5-56B9-4AE6-87F2-FB987F97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D913-3284-43FF-B35A-746B047B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471F-64CB-4DF3-AA1E-C82C82B2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D532-B495-4F66-A858-4A4414B0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F0E4-F693-4C6A-8FE1-35B0C419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ECB4-5760-4E1A-B311-2A243012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B84B-6440-4804-B6E4-9A22FA03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2AFC-3A0E-4264-9847-04971D06988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A362-91D3-44BC-AFAB-0618431927B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Definición de Problema y Objetivos de investigación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5640" y="3344400"/>
            <a:ext cx="62564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Gonzalo Rojas Alcay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entes de Inform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arias: La descripción del estudio la realiza quien lo efectú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undarias: Es realizada por un tercero (no agrega nada nuevo!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4437000"/>
            <a:ext cx="3528720" cy="1079640"/>
          </a:xfrm>
          <a:prstGeom prst="rect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71640" y="4653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A CR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acción del Marco Teór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s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tin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pecí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her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ado deductiva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l surgimiento de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2349360"/>
            <a:ext cx="2592360" cy="15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2349360"/>
            <a:ext cx="2592360" cy="15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3744000" y="4040640"/>
            <a:ext cx="934920" cy="432000"/>
          </a:xfrm>
          <a:custGeom>
            <a:avLst/>
            <a:gdLst>
              <a:gd name="textAreaLeft" fmla="*/ 145800 w 934920"/>
              <a:gd name="textAreaRight" fmla="*/ 818280 w 9349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bf0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29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2781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ocimiento dispon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4724280"/>
            <a:ext cx="2016000" cy="1150920"/>
          </a:xfrm>
          <a:prstGeom prst="cloudCallout">
            <a:avLst>
              <a:gd name="adj1" fmla="val -30629"/>
              <a:gd name="adj2" fmla="val 975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póte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ción tentativa de la relación entre dos o má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ción del posible resulta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icaciones tentativas del fenómeno investigado formuladas a manera de proposic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tibles de ser verificadas, NO necesarias de ser verific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calidad (científica) de una hipótesis está dada por su estructura lógica y su fundamento teóri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racterísticas de una Hipótesi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lo tanto deben ser redactada en términos “Afirmativos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n ser precisas en términos de cual es la relación entre la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 ser posible de ser contrast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siempre son necesa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ipos de Hipótesi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quival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io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erio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ipótesis de Investigación y Estadísticas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ción: Enuncian las relaciones que se espera observar entre la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dísticas; Se expresan de manera que no se indiquen expectativas respecto a las relaciones entre las variables          Hipótesis Nula (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 pruebas estadísticas siempre operan en base a Ho y a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lternativ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4221000"/>
            <a:ext cx="792360" cy="71640"/>
          </a:xfrm>
          <a:prstGeom prst="rightArrow">
            <a:avLst>
              <a:gd name="adj1" fmla="val 50000"/>
              <a:gd name="adj2" fmla="val 27650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las guías del estud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n ser considerados a lo largo de todo el estud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 es lo que se va a “hacer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lo tanto expresan una acción y términos gramaticales corresponden a un “verbo en infinitivo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expresarse con clar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ser posibles de ser alcanz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án en relación a la contrastación de l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cumplirse a través de los métodos propue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 la acción mediante la cual se puede contrastar l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pecíficos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los pasos que se deben seguir para dar cumplimiento al objetivo genera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ras clasificaciones los dividen en principal y secundari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 investigación científ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2205000"/>
            <a:ext cx="2592720" cy="792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3068640"/>
            <a:ext cx="2232000" cy="1150920"/>
          </a:xfrm>
          <a:prstGeom prst="ellipse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4292640"/>
            <a:ext cx="2519280" cy="865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2492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342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í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458136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213000"/>
            <a:ext cx="863640" cy="1152720"/>
          </a:xfrm>
          <a:custGeom>
            <a:avLst/>
            <a:gdLst>
              <a:gd name="textAreaLeft" fmla="*/ 115560 w 863640"/>
              <a:gd name="textAreaRight" fmla="*/ 748080 w 863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6b8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ique el objetivo correcto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strar la mayor eficacia del antiséptico “Z” que el “W” en la profilaxis de infecciones respirato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car información bibliográfica respecto a el antiséptico “Z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ibuir a la prevención de las infecciones respirato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al de los dos antisépticos es más eficaz en la prevención de infección respirator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ar la eficacia del antiséptico “Z” en relación al antiséptico “W”, en la disminución de casos de infecciones respiratori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incidencia de infecciones respiratorias al usar el antiséptico “Z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r reacciones adversas originadas por el uso de “Z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n resumen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del problema  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ención de Información acerca del problema 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Marco Teór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uesta tentativa al problema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Hipóte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iones a desarrollar para contrastar la hipótesis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Objetiv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 de Investig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Que es un problem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uando no se puede completar una totalidad (Gestalt). Ej: quiero ir al baño y estoy en una prue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acción o idea, no se completa, Algo Falta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Que es un problema de investigación científic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uando no se completa una totalidad conceptu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entes de Problem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 de la investigación científica. De hecho, la conclusión de la investigación es su respues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d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iencia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oría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3716280"/>
            <a:ext cx="287280" cy="1081080"/>
          </a:xfrm>
          <a:custGeom>
            <a:avLst/>
            <a:gdLst>
              <a:gd name="textAreaLeft" fmla="*/ 0 w 287280"/>
              <a:gd name="textAreaRight" fmla="*/ 103680 w 287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40360" y="39337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xión; asoc.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ul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terroga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l es la causa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ómo influye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onde existe la mayor prevalencia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cotado y preci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al es la importancia de la dieta en la salu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diciones para un problema de investigación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pregunta de investigación e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actible: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ursos, méto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levante            Nuevo Cono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ó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ác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tod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É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herente: Contextuado en una cuerpo de conocimi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3357720"/>
            <a:ext cx="719280" cy="144360"/>
          </a:xfrm>
          <a:prstGeom prst="rightArrow">
            <a:avLst>
              <a:gd name="adj1" fmla="val 50000"/>
              <a:gd name="adj2" fmla="val 12456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co Teór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 la revisión del cuerpo de conocimientos referidos al problema de investigación, existente en el día de ho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úsqueda de información para dar respuesta a la pregunta de investig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erativamente se desarrolla a través de la revisión bibliográf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visión Bibliográf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ente de nueva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ientaciones con respecto al conocimiento actu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ción metodológ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o concept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po de Información a Busc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llazg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orías y mode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ción metodológ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de términ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4581360"/>
            <a:ext cx="5473440" cy="1440000"/>
          </a:xfrm>
          <a:prstGeom prst="rect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01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B: PROFUNDA Y AMP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1:19:20Z</dcterms:created>
  <dc:creator>Facultad de Odontologia</dc:creator>
  <dc:description/>
  <dc:language>en-US</dc:language>
  <cp:lastModifiedBy>Facultad de Odontologia</cp:lastModifiedBy>
  <dcterms:modified xsi:type="dcterms:W3CDTF">2010-08-12T15:20:16Z</dcterms:modified>
  <cp:revision>28</cp:revision>
  <dc:subject/>
  <dc:title>Definición de Problema y Objetivos de investigación </dc:title>
</cp:coreProperties>
</file>