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B0CD-A0D6-4C31-8358-044F771F8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4300-6C4A-4463-BBC9-2CB325924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EDA1-1688-4047-A00C-39B93DFE7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4CF1-A352-4A6C-823D-C4E415F01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2A6B4-06E8-4A09-A0A9-75B5B24CD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62280-983D-4961-9486-8780C2F77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D3678-D5D4-4819-9A41-127727444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21E0F-2840-4A05-AB3D-40733217E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1C027-B992-4FE8-8D5B-0FDF2E1F1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27996-BC80-40DA-9962-9FF265A67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6EB37-DD22-444C-9DAA-1FDCC2D2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FB48-B443-4ECC-AAFC-7737F2BAC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132BC-B5D2-496E-989F-B6723CCC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65E06-4CA7-4B43-BAF3-B4371FE7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9078C-71DD-44C4-BB3C-89BAAC3B8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1F5D7-51AD-463D-982F-507841B13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38D10-ADFE-4EBD-996D-2F1B3564C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DE57-186A-4AF4-A586-B81A21A75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B9D9-B590-433C-A8E0-4725209CB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DCC3-EBE7-4496-A313-A75FEF85A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BDAC-2722-4DAE-9D74-159E1A6E8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F5E9-5420-4CF4-96DD-0C4A5C3C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0714-08D7-46A8-8421-BDD0830A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64A3-971F-4008-98A1-066589E3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5E1BF-6FBB-49EA-AE5F-6572EE3EE3A1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38E91-0499-4301-8A64-FCD4A878589E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Definición de Problema y Objetivos de investigación 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5640" y="3344400"/>
            <a:ext cx="625644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. Gonzalo Rojas Alcaya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uentes de Informa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marias: La descripción del estudio la realiza quien lo efectú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undarias: Es realizada por un tercero (no agrega nada nuevo!!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56000" y="4437000"/>
            <a:ext cx="3528720" cy="1079640"/>
          </a:xfrm>
          <a:prstGeom prst="rect">
            <a:avLst/>
          </a:prstGeom>
          <a:solidFill>
            <a:srgbClr val="f7f7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771640" y="465300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CTURA CRÍ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dacción del Marco Teóric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lusiv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rtinen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specíf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heren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ganizado deductivamen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El surgimiento de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35280" y="2349360"/>
            <a:ext cx="2592360" cy="1582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24360" y="2349360"/>
            <a:ext cx="2592360" cy="1582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5400000">
            <a:off x="3744000" y="4040640"/>
            <a:ext cx="934920" cy="432000"/>
          </a:xfrm>
          <a:custGeom>
            <a:avLst/>
            <a:gdLst>
              <a:gd name="textAreaLeft" fmla="*/ 145800 w 934920"/>
              <a:gd name="textAreaRight" fmla="*/ 818280 w 93492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ebf0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340000" y="2924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0" y="2781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ocimiento dispon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348000" y="4724280"/>
            <a:ext cx="2016000" cy="1150920"/>
          </a:xfrm>
          <a:prstGeom prst="cloudCallout">
            <a:avLst>
              <a:gd name="adj1" fmla="val -30629"/>
              <a:gd name="adj2" fmla="val 975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ipótesi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dicción tentativa de la relación entre dos o más variab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dicción del posible resultad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licaciones tentativas del fenómeno investigado formuladas a manera de proposicion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ctibles de ser verificadas, NO necesarias de ser verificad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 calidad (científica) de una hipótesis está dada por su estructura lógica y su fundamento teóric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aracterísticas de una Hipótesi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r lo tanto deben ser redactada en términos “Afirmativos”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ben ser precisas en términos de cual es la relación entre las variab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be ser posible de ser contrastad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siempre son necesari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Tipos de Hipótesi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quival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eriori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feriori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Hipótesis de Investigación y Estadísticas.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estigación: Enuncian las relaciones que se espera observar entre las variab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tadísticas; Se expresan de manera que no se indiquen expectativas respecto a las relaciones entre las variables          Hipótesis Nula (H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s pruebas estadísticas siempre operan en base a Ho y a 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alternativa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635280" y="4221000"/>
            <a:ext cx="792360" cy="71640"/>
          </a:xfrm>
          <a:prstGeom prst="rightArrow">
            <a:avLst>
              <a:gd name="adj1" fmla="val 50000"/>
              <a:gd name="adj2" fmla="val 27650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bjetiv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n las guías del estudi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ben ser considerados a lo largo de todo el estudi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e es lo que se va a “hacer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r lo tanto expresan una acción y términos gramaticales corresponden a un “verbo en infinitivo”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bjetiv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2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eben expresarse con clarida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eben ser posibles de ser alcanzad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stán en relación a la contrastación de la hipótesi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eben cumplirse a través de los métodos propues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bjetiv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ral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 la acción mediante la cual se puede contrastar la hipótesi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specíficos;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n los pasos que se deben seguir para dar cumplimiento al objetivo general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ras clasificaciones los dividen en principal y secundari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a investigación científic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47640" y="2205000"/>
            <a:ext cx="2592720" cy="7923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219640" y="3068640"/>
            <a:ext cx="2232000" cy="1150920"/>
          </a:xfrm>
          <a:prstGeom prst="ellipse">
            <a:avLst/>
          </a:prstGeom>
          <a:solidFill>
            <a:srgbClr val="f7f7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19280" y="4292640"/>
            <a:ext cx="2519280" cy="8650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35280" y="2492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ó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651640" y="3429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í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908000" y="4581360"/>
            <a:ext cx="15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ó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356000" y="3213000"/>
            <a:ext cx="863640" cy="1152720"/>
          </a:xfrm>
          <a:custGeom>
            <a:avLst/>
            <a:gdLst>
              <a:gd name="textAreaLeft" fmla="*/ 115560 w 863640"/>
              <a:gd name="textAreaRight" fmla="*/ 748080 w 863640"/>
              <a:gd name="textAreaTop" fmla="*/ 201600 h 1152720"/>
              <a:gd name="textAreaBottom" fmla="*/ 83592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46b8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dentifique el objetivo correcto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mostrar la mayor eficacia del antiséptico “Z” que el “W” en la profilaxis de infecciones respiratori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scar información bibliográfica respecto a el antiséptico “Z”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ribuir a la prevención de las infecciones respiratori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al de los dos antisépticos es más eficaz en la prevención de infección respiratori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jempl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arar la eficacia del antiséptico “Z” en relación al antiséptico “W”, en la disminución de casos de infecciones respiratori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ar la incidencia de infecciones respiratorias al usar el antiséptico “Z”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aluar reacciones adversas originadas por el uso de “Z”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En resumen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ición del problema        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Introduc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btención de Información acerca del problema       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Marco Teóric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puesta tentativa al problema     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Hipótesi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iones a desarrollar para contrastar la hipótesis      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Objetiv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blema de Investiga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Que es un problema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uando no se puede completar una totalidad (Gestalt). Ej: quiero ir al baño y estoy en una prueb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a acción o idea, no se completa, Algo Falta!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Que es un problema de investigación científica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uando no se completa una totalidad conceptu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uentes de Problem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se de la investigación científica. De hecho, la conclusión de la investigación es su respuest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cede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eriencia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oría    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3716280"/>
            <a:ext cx="287280" cy="1081080"/>
          </a:xfrm>
          <a:custGeom>
            <a:avLst/>
            <a:gdLst>
              <a:gd name="textAreaLeft" fmla="*/ 0 w 287280"/>
              <a:gd name="textAreaRight" fmla="*/ 103680 w 28728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40360" y="3933720"/>
            <a:ext cx="23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lexión; asoc. de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ormula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Interrogant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ual es la causa…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ómo influye…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onde existe la mayor prevalencia…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cotado y precis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Cual es la importancia de la dieta en la salud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ondiciones para un problema de investigación.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La pregunta de investigación es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Factible: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cursos, méto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Relevante            Nuevo Conocimien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eó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ác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etodoló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Ét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oherente: Contextuado en una cuerpo de conocimient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340000" y="3357720"/>
            <a:ext cx="719280" cy="144360"/>
          </a:xfrm>
          <a:prstGeom prst="rightArrow">
            <a:avLst>
              <a:gd name="adj1" fmla="val 50000"/>
              <a:gd name="adj2" fmla="val 124564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rco Teóric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s la revisión del cuerpo de conocimientos referidos al problema de investigación, existente en el día de ho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úsqueda de información para dar respuesta a la pregunta de investigació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perativamente se desarrolla a través de la revisión bibliográfic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visión Bibliográfic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ente de nuevas ide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ientaciones con respecto al conocimiento actu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formación metodológ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exto conceptu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ipo de Información a Busca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llazg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orías y mode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formación metodológ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ición de términ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35280" y="4581360"/>
            <a:ext cx="5473440" cy="1440000"/>
          </a:xfrm>
          <a:prstGeom prst="rect">
            <a:avLst/>
          </a:prstGeom>
          <a:solidFill>
            <a:srgbClr val="f7f7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24000" y="501336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B: PROFUNDA Y AMP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1:19:20Z</dcterms:created>
  <dc:creator>Facultad de Odontologia</dc:creator>
  <dc:description/>
  <dc:language>en-US</dc:language>
  <cp:lastModifiedBy>Facultad de Odontologia</cp:lastModifiedBy>
  <dcterms:modified xsi:type="dcterms:W3CDTF">2010-08-12T15:20:16Z</dcterms:modified>
  <cp:revision>28</cp:revision>
  <dc:subject/>
  <dc:title>Definición de Problema y Objetivos de investigación </dc:title>
</cp:coreProperties>
</file>