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533-E1E5-4889-AE7E-8C4E52CA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3F9-84F4-4C51-94C2-C549BA45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0E4-7EC8-4740-AB5B-CCFEC3A0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1F3-5288-4034-BC33-7F8CFB70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2367-7575-471B-A5F2-65929373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284C-8278-4742-8583-C1C815D5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A06C-777A-4208-9E4C-43CAC3AC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1935-FE55-48E5-ADCE-56065C5A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0246-3AA2-4078-8AEC-04BCB2E4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3113-525F-4287-AEA3-E8F003FB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D13A-51F1-4E47-AA11-74816F12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875-3E9B-4B7B-92E6-AE29FEFF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A26A-C6F7-4B24-992A-E6EFD421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B24A-4D7F-4113-9934-968D3069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02C3-7605-4225-ADC1-0A0030B1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25F5-2164-4474-ACC1-A77E4022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26FA-71EF-4E13-A2D5-9E607E69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94B-2E93-4ED4-B6A9-9FC052E0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7F0-E56D-438E-881C-6C6E42D9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9AF-4619-4B6E-98C6-CBBA3BD4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1FC-EAC6-47EF-979E-82B8EAB7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B953-4010-4C5D-AFF4-643A01B6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72A-9E9B-4D7E-A5E9-1A67A5DE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E66A-4276-4AE0-915D-B99DB66B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0B45-9CC9-4389-8CEC-B24AEB4EE7C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5891-7239-4ADF-820B-D7741219306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Definición de Problema y Objetivos de investigación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5640" y="3344400"/>
            <a:ext cx="62564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Gonzalo Rojas Alcay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entes de Inform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arias: La descripción del estudio la realiza quien lo efectú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ndarias: Es realizada por un tercero (no agrega nada nuevo!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4437000"/>
            <a:ext cx="3528720" cy="1079640"/>
          </a:xfrm>
          <a:prstGeom prst="rect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1640" y="4653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A CR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acción del Marco Teór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s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tin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í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her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do deductiva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l surgimiento de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2349360"/>
            <a:ext cx="2592360" cy="15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2349360"/>
            <a:ext cx="2592360" cy="15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3744000" y="4040640"/>
            <a:ext cx="934920" cy="432000"/>
          </a:xfrm>
          <a:custGeom>
            <a:avLst/>
            <a:gdLst>
              <a:gd name="textAreaLeft" fmla="*/ 145800 w 934920"/>
              <a:gd name="textAreaRight" fmla="*/ 818280 w 9349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bf0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29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2781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ocimiento dispon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4724280"/>
            <a:ext cx="2016000" cy="1150920"/>
          </a:xfrm>
          <a:prstGeom prst="cloudCallout">
            <a:avLst>
              <a:gd name="adj1" fmla="val -30629"/>
              <a:gd name="adj2" fmla="val 975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póte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ción tentativa de la relación entre dos o má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ción del posible resulta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icaciones tentativas del fenómeno investigado formuladas a manera de proposic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ibles de ser verificadas, NO necesarias de ser verific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calidad (científica) de una hipótesis está dada por su estructura lógica y su fundamento teóri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racterísticas de una Hipótes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lo tanto deben ser redactada en términos “Afirmativos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n ser precisas en términos de cual es la relación entre la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 ser posible de ser contrast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iempre son necesa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ipos de Hipótes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quival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io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erio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ipótesis de Investigación y Estadísticas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ción: Enuncian las relaciones que se espera observar entre la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dísticas; Se expresan de manera que no se indiquen expectativas respecto a las relaciones entre las variables          Hipótesis Nula (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pruebas estadísticas siempre operan en base a Ho y a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lternativ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4221000"/>
            <a:ext cx="792360" cy="71640"/>
          </a:xfrm>
          <a:prstGeom prst="rightArrow">
            <a:avLst>
              <a:gd name="adj1" fmla="val 50000"/>
              <a:gd name="adj2" fmla="val 27650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las guías del estud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n ser considerados a lo largo de todo el estud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 es lo que se va a “hacer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lo tanto expresan una acción y términos gramaticales corresponden a un “verbo en infinitivo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expresarse con clar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ser posibles de ser alcanz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án en relación a la contrastación de l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cumplirse a través de los métodos propue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 la acción mediante la cual se puede contrastar l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íficos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los pasos que se deben seguir para dar cumplimiento al objetivo genera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ras clasificaciones los dividen en principal y secundari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 investigación científ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2205000"/>
            <a:ext cx="2592720" cy="79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3068640"/>
            <a:ext cx="2232000" cy="1150920"/>
          </a:xfrm>
          <a:prstGeom prst="ellipse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4292640"/>
            <a:ext cx="2519280" cy="865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2492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342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í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458136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213000"/>
            <a:ext cx="863640" cy="1152720"/>
          </a:xfrm>
          <a:custGeom>
            <a:avLst/>
            <a:gdLst>
              <a:gd name="textAreaLeft" fmla="*/ 115560 w 863640"/>
              <a:gd name="textAreaRight" fmla="*/ 748080 w 863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6b8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ique el objetivo correcto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strar la mayor eficacia del antiséptico “Z” que el “W” en la profilaxis de infecciones respirato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car información bibliográfica respecto a el antiséptico “Z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ir a la prevención de las infecciones respirato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al de los dos antisépticos es más eficaz en la prevención de infección respirator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ar la eficacia del antiséptico “Z” en relación al antiséptico “W”, en la disminución de casos de infecciones respiratori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incidencia de infecciones respiratorias al usar el antiséptico “Z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r reacciones adversas originadas por el uso de “Z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n resumen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l problema  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ención de Información acerca del problema 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Marco Teór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uesta tentativa al problema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Hipóte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iones a desarrollar para contrastar la hipótesis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Objetiv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 de Investig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Que es un problem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ando no se puede completar una totalidad (Gestalt). Ej: quiero ir al baño y estoy en una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acción o idea, no se completa, Algo Falta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Que es un problema de investigación científic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ando no se completa una totalidad conceptu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entes de Problem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 de la investigación científica. De hecho, la conclusión de la investigación es su respues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iencia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oría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3716280"/>
            <a:ext cx="287280" cy="1081080"/>
          </a:xfrm>
          <a:custGeom>
            <a:avLst/>
            <a:gdLst>
              <a:gd name="textAreaLeft" fmla="*/ 0 w 287280"/>
              <a:gd name="textAreaRight" fmla="*/ 103680 w 287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40360" y="39337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xión; asoc.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ul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terroga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l es la causa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ómo influye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onde existe la mayor prevalencia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otado y preci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al es la importancia de la dieta en la salu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diciones para un problema de investigación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pregunta de investigación 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actible: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s, méto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evante            Nuevo Cono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ó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ác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od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É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herente: Contextuado en una cuerpo de conocimi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3357720"/>
            <a:ext cx="719280" cy="144360"/>
          </a:xfrm>
          <a:prstGeom prst="rightArrow">
            <a:avLst>
              <a:gd name="adj1" fmla="val 50000"/>
              <a:gd name="adj2" fmla="val 12456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co Teór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 la revisión del cuerpo de conocimientos referidos al problema de investigación, existente en el día de ho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úsqueda de información para dar respuesta a la pregunta de investig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erativamente se desarrolla a través de la revisión bibliográf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isión Bibliográf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ente de nueva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ientaciones con respecto al conocimiento actu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ción metodoló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o concept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po de Información a Busc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llaz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orías y mode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ción metodoló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 términ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4581360"/>
            <a:ext cx="5473440" cy="1440000"/>
          </a:xfrm>
          <a:prstGeom prst="rect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B: PROFUNDA Y AMP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1:19:20Z</dcterms:created>
  <dc:creator>Facultad de Odontologia</dc:creator>
  <dc:description/>
  <dc:language>en-US</dc:language>
  <cp:lastModifiedBy>Facultad de Odontologia</cp:lastModifiedBy>
  <dcterms:modified xsi:type="dcterms:W3CDTF">2010-08-12T15:20:16Z</dcterms:modified>
  <cp:revision>28</cp:revision>
  <dc:subject/>
  <dc:title>Definición de Problema y Objetivos de investigación </dc:title>
</cp:coreProperties>
</file>