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5C0F7-59D7-45C5-A9AB-A8F280C21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B5C7E-2D52-4934-B18E-C9B0BB97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63067-BDD2-4ECE-B936-263454958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25673-E726-49D9-9895-08F244B98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5B0BA-604D-460E-8F7C-DE261634E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AA6AA-62B3-4D9B-956D-5DE80260C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14F54-ADD9-4117-A4A9-4AAA83CC5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3E2B-E276-4162-B323-B775C96B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9AF37-F4CC-4889-B9DA-855CA4A16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C776E-FF6D-4138-907B-32544CF57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3291-DC8D-4C53-A0F6-304E7530B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8B276-BA5B-4205-A8D3-FB685CE0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1ED2-E529-4CA7-A371-CBD6F9CD2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33B75-2FD9-4698-8F7D-0A0A5776A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D3CD8-A732-4171-998F-F010BC507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91986-3524-4635-AF02-E085861D6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D9B26-FC62-4AE1-BA95-D04CED4FE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0EB32-F622-488B-ADB2-25473D4A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F4F3D-30F2-4945-A355-40AC11BF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50D1-DEAC-4D67-A93F-6689F075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C63B-7377-43CE-A88E-29022C3DE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E94DA-96E7-4DCB-AC74-3C425BFDB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B1B8-6AEB-4BE6-BAE1-DDC7463AB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32E3-FDAC-4FE0-8D12-022A47314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519B-068B-4611-9D83-A0EDEB3D3EF0}"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2A2B-F19D-405A-A36F-F5BA3F5856BC}"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cbi.nlm.nih.gov/sites/entrez?Db=pubmed&amp;Cmd=Search&amp;Term=%22Christensen%20LB%22%5BAuthor%5D&amp;itool=EntrezSystem2.PEntrez.Pubmed.Pubmed_ResultsPanel.Pubmed_RVAbstractPlus" TargetMode="External"/><Relationship Id="rId2" Type="http://schemas.openxmlformats.org/officeDocument/2006/relationships/hyperlink" Target="http://www.ncbi.nlm.nih.gov/sites/entrez?Db=pubmed&amp;Cmd=Search&amp;Term=%22Christensen%20LB%22%5BAuthor%5D&amp;itool=EntrezSystem2.PEntrez.Pubmed.Pubmed_ResultsPanel.Pubmed_RVAbstractPlu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ósito y Estructura de la Investigación Científic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Gonzalo Rojas Alcaya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rrelacionales</a:t>
            </a:r>
            <a:endParaRPr b="0" lang="en-US" sz="3800" spc="-1" strike="noStrike">
              <a:solidFill>
                <a:srgbClr val="000000"/>
              </a:solidFill>
              <a:latin typeface="Arial"/>
            </a:endParaRPr>
          </a:p>
        </p:txBody>
      </p:sp>
      <p:sp>
        <p:nvSpPr>
          <p:cNvPr id="12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r el grado de asociación que existe entre dos o más variabl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den las variables a estudiar en la misma unidad de observación (de donde se toman los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ir el comportamiento de una variable en base al valor que adquiere otra variable relacionad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ciones positivas y negativ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ociación observada debe tener respaldo teór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icativo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can dar respuesta a las causas de los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den a aislar las variables y control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dependiente, dependiente, control, subyacent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gencia: Rigurosidad metod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a Odontol Scand. 2001 Jun;59(3):116-20. </a:t>
            </a:r>
            <a:r>
              <a:rPr b="1" lang="es-MX" sz="1600" spc="-1" strike="noStrike">
                <a:solidFill>
                  <a:srgbClr val="000000"/>
                </a:solidFill>
                <a:latin typeface="Arial"/>
              </a:rPr>
              <a:t>Links</a:t>
            </a:r>
            <a:endParaRPr b="0" lang="en-US" sz="16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ntal caries and dental health behavior of patients with primary Sjögren syndrome.</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6767ff"/>
                </a:solidFill>
                <a:uFillTx/>
                <a:latin typeface="Arial"/>
                <a:hlinkClick r:id="rId1"/>
              </a:rPr>
              <a:t>Christensen</a:t>
            </a:r>
            <a:r>
              <a:rPr b="0" lang="es-MX" sz="1400" spc="-1" strike="noStrike" u="sng">
                <a:solidFill>
                  <a:srgbClr val="6767ff"/>
                </a:solidFill>
                <a:uFillTx/>
                <a:latin typeface="Arial"/>
                <a:hlinkClick r:id="rId2"/>
              </a:rPr>
              <a:t> LB</a:t>
            </a:r>
            <a:r>
              <a:rPr b="0" lang="es-MX" sz="1400" spc="-1" strike="noStrike">
                <a:solidFill>
                  <a:srgbClr val="000000"/>
                </a:solidFill>
                <a:latin typeface="Arial"/>
              </a:rPr>
              <a:t>, </a:t>
            </a:r>
            <a:r>
              <a:rPr b="1" lang="es-MX" sz="1400" spc="-1" strike="noStrike">
                <a:solidFill>
                  <a:srgbClr val="000000"/>
                </a:solidFill>
                <a:latin typeface="Arial"/>
              </a:rPr>
              <a:t>Petersen PE</a:t>
            </a:r>
            <a:r>
              <a:rPr b="0" lang="es-MX" sz="1400" spc="-1" strike="noStrike">
                <a:solidFill>
                  <a:srgbClr val="000000"/>
                </a:solidFill>
                <a:latin typeface="Arial"/>
              </a:rPr>
              <a:t>, </a:t>
            </a:r>
            <a:r>
              <a:rPr b="1" lang="es-MX" sz="1400" spc="-1" strike="noStrike">
                <a:solidFill>
                  <a:srgbClr val="000000"/>
                </a:solidFill>
                <a:latin typeface="Arial"/>
              </a:rPr>
              <a:t>Thorn JJ</a:t>
            </a:r>
            <a:r>
              <a:rPr b="0" lang="es-MX" sz="1400" spc="-1" strike="noStrike">
                <a:solidFill>
                  <a:srgbClr val="000000"/>
                </a:solidFill>
                <a:latin typeface="Arial"/>
              </a:rPr>
              <a:t>, </a:t>
            </a:r>
            <a:r>
              <a:rPr b="1" lang="es-MX" sz="1400" spc="-1" strike="noStrike">
                <a:solidFill>
                  <a:srgbClr val="000000"/>
                </a:solidFill>
                <a:latin typeface="Arial"/>
              </a:rPr>
              <a:t>Schiødt M</a:t>
            </a:r>
            <a:r>
              <a:rPr b="0" lang="es-MX"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iversity of Copenhagen, Faculty of Health Sciences, Department for Community Dentistry, Denmark. lbc@odont.ku.dk</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his comprehensive study was carried out to describe and analyze the oral health status, perceived oral health problems, patients' costs, and oral health behavior in a group of patients with primary Sjögren syndrome (PSS). In particular, the objective of this report was to assess whether Sjögren syndrome patients had more dental caries experience than a control group. Data were collected by means of interviews and clinical oral examinations. The study comprised 53 patients with PSS and a control group of 53 persons matched by age. Among the younger patients the number of decayed, missing, or filled teeth (DMFT) was 22.3, compared with 18.8 among controls (P&lt; 0.05). In parallel, the DMFT in the old-age PSS patients was 26.2, against a DMFT of 22.1 for controls (P&lt; 0.001). On average, the young patients had seven teeth missing, whereas two missing teeth were found among controls (P &lt; 0.01). PSS patients had more frequent dental visits--every 3-4 months (40%)--than controls (19%). In parallel, 78% of the PSS patients brushed their teeth more than twice daily, compared with 28% of the control group. The PSS patient group reported having had more teeth extracted, more trouble with their teeth during lifetime, and higher expenses for dental treatment than controls. In spite of the more regular oral health care practices than the general population, PSS patients had experienced more dental caries and more radical dental treatment. It is suggested that the National Health Insurance should give emphasis to preventive care to patients with P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Tipos de Investigación Científica</a:t>
            </a: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licac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pas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r; asignación de un número.</a:t>
            </a:r>
            <a:endParaRPr b="0" lang="en-US" sz="2800" spc="-1" strike="noStrike">
              <a:solidFill>
                <a:srgbClr val="000000"/>
              </a:solidFill>
              <a:latin typeface="Arial"/>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truc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ens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ac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úsqueda de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 El Bruxismo</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etas de desgas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G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or--- EVA</a:t>
            </a:r>
            <a:endParaRPr b="0" lang="en-US" sz="2800" spc="-1" strike="noStrike">
              <a:solidFill>
                <a:srgbClr val="000000"/>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idad de vid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vencia sintomá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gnificado vital de la enferme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Dimensiones de una Investigación científica</a:t>
            </a:r>
            <a:endParaRPr b="0" lang="en-US" sz="3400" spc="-1" strike="noStrike">
              <a:solidFill>
                <a:srgbClr val="000000"/>
              </a:solidFill>
              <a:latin typeface="Arial"/>
            </a:endParaRPr>
          </a:p>
        </p:txBody>
      </p:sp>
      <p:sp>
        <p:nvSpPr>
          <p:cNvPr id="13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básicos</a:t>
            </a:r>
            <a:r>
              <a:rPr b="0" lang="es-CL" sz="2800" spc="-1" strike="noStrike">
                <a:solidFill>
                  <a:srgbClr val="000000"/>
                </a:solidFill>
                <a:latin typeface="Arial"/>
              </a:rPr>
              <a:t> </a:t>
            </a:r>
            <a:r>
              <a:rPr b="0" lang="es-CL" sz="2400" spc="-1" strike="noStrike">
                <a:solidFill>
                  <a:srgbClr val="000000"/>
                </a:solidFill>
                <a:latin typeface="Arial"/>
              </a:rPr>
              <a:t>(tema, preguntas de investigación, objetivos, relevanci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teóricos</a:t>
            </a:r>
            <a:r>
              <a:rPr b="0" lang="es-CL" sz="2800" spc="-1" strike="noStrike">
                <a:solidFill>
                  <a:srgbClr val="000000"/>
                </a:solidFill>
                <a:latin typeface="Arial"/>
              </a:rPr>
              <a:t> </a:t>
            </a:r>
            <a:r>
              <a:rPr b="0" lang="es-CL" sz="2400" spc="-1" strike="noStrike">
                <a:solidFill>
                  <a:srgbClr val="000000"/>
                </a:solidFill>
                <a:latin typeface="Arial"/>
              </a:rPr>
              <a:t>(Marco teórico e hipótesi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metodológicos</a:t>
            </a:r>
            <a:r>
              <a:rPr b="0" lang="es-CL" sz="2800" spc="-1" strike="noStrike">
                <a:solidFill>
                  <a:srgbClr val="000000"/>
                </a:solidFill>
                <a:latin typeface="Arial"/>
              </a:rPr>
              <a:t> </a:t>
            </a:r>
            <a:r>
              <a:rPr b="0" lang="es-CL" sz="2400" spc="-1" strike="noStrike">
                <a:solidFill>
                  <a:srgbClr val="000000"/>
                </a:solidFill>
                <a:latin typeface="Arial"/>
              </a:rPr>
              <a:t>(Población, muestra, proceso de muestreo, instrumentos, procedimientos de recolección de datos, análisis de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éticos y/o bioéticos</a:t>
            </a:r>
            <a:r>
              <a:rPr b="0" lang="es-CL" sz="2400" spc="-1" strike="noStrike">
                <a:solidFill>
                  <a:srgbClr val="000000"/>
                </a:solidFill>
                <a:latin typeface="Arial"/>
              </a:rPr>
              <a:t> (cumplimiento de principios y declaraciones de regulación étic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prácticos</a:t>
            </a:r>
            <a:r>
              <a:rPr b="0" lang="es-CL" sz="2800" spc="-1" strike="noStrike">
                <a:solidFill>
                  <a:srgbClr val="000000"/>
                </a:solidFill>
                <a:latin typeface="Arial"/>
              </a:rPr>
              <a:t> </a:t>
            </a:r>
            <a:r>
              <a:rPr b="0" lang="es-CL" sz="2400" spc="-1" strike="noStrike">
                <a:solidFill>
                  <a:srgbClr val="000000"/>
                </a:solidFill>
                <a:latin typeface="Arial"/>
              </a:rPr>
              <a:t>(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sos en el Proceso de Investigación</a:t>
            </a:r>
            <a:endParaRPr b="0" lang="en-US" sz="34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1: Conceptua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2: Planificación y diseñ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3: Empír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4: Analí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5: Divulg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nceptual</a:t>
            </a:r>
            <a:endParaRPr b="0" lang="en-US" sz="3800" spc="-1" strike="noStrike">
              <a:solidFill>
                <a:srgbClr val="000000"/>
              </a:solidFill>
              <a:latin typeface="Arial"/>
            </a:endParaRPr>
          </a:p>
        </p:txBody>
      </p:sp>
      <p:sp>
        <p:nvSpPr>
          <p:cNvPr id="136" name="PlaceHolder 2"/>
          <p:cNvSpPr>
            <a:spLocks noGrp="1"/>
          </p:cNvSpPr>
          <p:nvPr>
            <p:ph/>
          </p:nvPr>
        </p:nvSpPr>
        <p:spPr>
          <a:xfrm>
            <a:off x="468360" y="1844640"/>
            <a:ext cx="8229600" cy="29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l problem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 la literatu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l marco teóric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 la hipóte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lanificación y Diseño</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 un diseño de investig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ción de la pobl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l instrumento de recolección de da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eño del plan de muestre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l plan y estudios pilo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mpíric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Quien, como, cuando</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paración de datos para el análi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ósitos de la Ciencia</a:t>
            </a:r>
            <a:endParaRPr b="0" lang="en-US" sz="3800" spc="-1" strike="noStrike">
              <a:solidFill>
                <a:srgbClr val="000000"/>
              </a:solidFill>
              <a:latin typeface="Arial"/>
            </a:endParaRPr>
          </a:p>
        </p:txBody>
      </p:sp>
      <p:sp>
        <p:nvSpPr>
          <p:cNvPr id="98" name="PlaceHolder 2"/>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c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alític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cualitati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estadístico</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vulgación</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ic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ismo</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ncia de que todos los fenómenos tienen causas antecedentes, no son productos del az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y efecto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múlti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redundantes</a:t>
            </a:r>
            <a:endParaRPr b="0" lang="en-US" sz="3200" spc="-1" strike="noStrike">
              <a:solidFill>
                <a:srgbClr val="000000"/>
              </a:solidFill>
              <a:latin typeface="Arial"/>
            </a:endParaRPr>
          </a:p>
        </p:txBody>
      </p:sp>
      <p:sp>
        <p:nvSpPr>
          <p:cNvPr id="101" name=""/>
          <p:cNvSpPr/>
          <p:nvPr/>
        </p:nvSpPr>
        <p:spPr>
          <a:xfrm>
            <a:off x="4572000" y="5157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               Y</a:t>
            </a:r>
            <a:endParaRPr b="0" lang="en-US" sz="1800" spc="-1" strike="noStrike">
              <a:solidFill>
                <a:srgbClr val="000000"/>
              </a:solidFill>
              <a:latin typeface="Arial"/>
            </a:endParaRPr>
          </a:p>
        </p:txBody>
      </p:sp>
      <p:sp>
        <p:nvSpPr>
          <p:cNvPr id="102" name=""/>
          <p:cNvSpPr/>
          <p:nvPr/>
        </p:nvSpPr>
        <p:spPr>
          <a:xfrm>
            <a:off x="5003640" y="5373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1964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t>
            </a:r>
            <a:endParaRPr b="0" lang="en-US" sz="1800" spc="-1" strike="noStrike">
              <a:solidFill>
                <a:srgbClr val="000000"/>
              </a:solidFill>
              <a:latin typeface="Arial"/>
            </a:endParaRPr>
          </a:p>
        </p:txBody>
      </p:sp>
      <p:sp>
        <p:nvSpPr>
          <p:cNvPr id="104" name=""/>
          <p:cNvSpPr/>
          <p:nvPr/>
        </p:nvSpPr>
        <p:spPr>
          <a:xfrm flipV="1">
            <a:off x="5435640" y="558936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4858920" y="5589360"/>
            <a:ext cx="35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508360" y="5589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68400" y="907920"/>
            <a:ext cx="8175600" cy="2868840"/>
          </a:xfrm>
          <a:prstGeom prst="rect">
            <a:avLst/>
          </a:prstGeom>
          <a:ln w="0">
            <a:noFill/>
          </a:ln>
        </p:spPr>
      </p:pic>
      <p:pic>
        <p:nvPicPr>
          <p:cNvPr id="108" name="" descr=""/>
          <p:cNvPicPr/>
          <p:nvPr/>
        </p:nvPicPr>
        <p:blipFill>
          <a:blip r:embed="rId2"/>
          <a:stretch/>
        </p:blipFill>
        <p:spPr>
          <a:xfrm>
            <a:off x="4572000" y="2708280"/>
            <a:ext cx="2990880" cy="39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lismo</a:t>
            </a:r>
            <a:endParaRPr b="0" lang="en-US" sz="3800" spc="-1" strike="noStrike">
              <a:solidFill>
                <a:srgbClr val="000000"/>
              </a:solidFill>
              <a:latin typeface="Arial"/>
            </a:endParaRPr>
          </a:p>
        </p:txBody>
      </p:sp>
      <p:sp>
        <p:nvSpPr>
          <p:cNvPr id="110" name="PlaceHolder 2"/>
          <p:cNvSpPr>
            <a:spLocks noGrp="1"/>
          </p:cNvSpPr>
          <p:nvPr>
            <p:ph/>
          </p:nvPr>
        </p:nvSpPr>
        <p:spPr>
          <a:xfrm>
            <a:off x="468360" y="1988640"/>
            <a:ext cx="8229600" cy="24051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dad objetiva independiente del observado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do real, no una producción de la men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eza tiene un orden, por lo tanto la posibilidad de l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Reduccionismo</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la ciencia explica un orden de fenómenos, usualmente recurre a los fenómenos del nivel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enómenos están organizados en niveles, de suerte que cada nivel surge desde otro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iempre as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 John Cornwell (La imaginación de la naturale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iveles de Investigació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orato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rrelacionales o de Asoci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icativos o Experiment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nkhe, 19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oratorios</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l tema ha sido poco estudia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problemas de investig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n relaciones potenciales entre variab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dad metodológ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gencia: Revisión bibliográfica acucios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sgo: ”perder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criptivo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r las propiedades importantes de las variab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guntas específica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ribir es medir, medir con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va a medir y como lograr la mayor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ortante criterios de inclusión y exclu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gencia: Precis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05:06Z</dcterms:created>
  <dc:creator>internado2</dc:creator>
  <dc:description/>
  <dc:language>en-US</dc:language>
  <cp:lastModifiedBy>Facultad de Odontologia</cp:lastModifiedBy>
  <dcterms:modified xsi:type="dcterms:W3CDTF">2010-08-04T16:27:35Z</dcterms:modified>
  <cp:revision>22</cp:revision>
  <dc:subject/>
  <dc:title>Modelos de Investigación Científica</dc:title>
</cp:coreProperties>
</file>